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9A1F-150F-4552-B295-54A4ED91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2EE-3F89-4853-975E-19223C4E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73A-4EA7-4930-8E1B-6DEF3E30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C75-5CDA-4E98-BD96-612BD0DE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D851-2280-4839-9D52-2DCB245D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606-4B1D-41F9-BA5F-E97788D7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C59-27CC-44DF-955C-998EAC619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931-EEE8-42EF-9E3B-14BBBACB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1D1-710E-442C-B11A-DA1DDDD5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02E-3BD1-4264-AA87-201E9E88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734-0151-4AFF-929E-985E3620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023-87DA-405B-8BD1-8D368C47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D23-193E-4245-8F5E-34A189F5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378-F280-4498-97D8-ED59F782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839-5F2C-43DC-ADA6-4BC9A842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2A7-3798-49FE-81BA-2CE8222D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717-8BCB-4BB1-9695-AF40A765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253-CF31-47E3-9CBC-67EDCB68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CCF9-A440-462F-AC9D-4AC60D65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1E9A-0147-4AE7-B754-80106E16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A1C-48E9-4703-BD9B-90C1FDB5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0187-A61C-44CC-B85A-61BDBE18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AD1-4BE7-4579-8CBA-578DFC39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BOX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67080" y="1371600"/>
            <a:ext cx="420984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43280" y="1285920"/>
            <a:ext cx="525780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PATT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RAY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01880" y="1327320"/>
            <a:ext cx="53402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14520" y="1371600"/>
            <a:ext cx="431496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NDER  HOLY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857240" y="1295280"/>
            <a:ext cx="542952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ARC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720800" y="1295280"/>
            <a:ext cx="5702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FRAZ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94040" y="1371600"/>
            <a:ext cx="5155920" cy="34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NY  PACQU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419200" y="1389240"/>
            <a:ext cx="4305600" cy="34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467080" y="1371600"/>
            <a:ext cx="420984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MAY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43280" y="1285920"/>
            <a:ext cx="525780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1880" y="1327320"/>
            <a:ext cx="53402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14520" y="1371600"/>
            <a:ext cx="43149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57240" y="1295280"/>
            <a:ext cx="542952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20800" y="1295280"/>
            <a:ext cx="57024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94040" y="1371600"/>
            <a:ext cx="51559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419200" y="1389240"/>
            <a:ext cx="43056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6-15T16:19:43Z</dcterms:modified>
  <cp:revision>291</cp:revision>
  <dc:subject/>
  <dc:title>Slide 1</dc:title>
</cp:coreProperties>
</file>