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C0DC-D53D-48A2-822A-E29AAC81D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87D5-B300-4C04-9B7B-555B42C6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DE10-C181-42DF-B9F7-3CB3D4D8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160B-F618-409F-8058-061A056A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935E-41A1-4D41-AAED-601E17C0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A2B-A981-4A2A-8B6C-B66E1C688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8E54-E19B-4749-9A85-048006315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5F6D-34A5-485E-A2CC-D6986AE3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8913-2810-41F8-82F1-B4A81C68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493B-70BE-4226-92CC-7F228E7E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2945-01EC-4EA2-9A49-70E21A9C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2933-9EE2-47D9-8E12-34B0B693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7A36-2B01-46F2-8904-A90AC3C7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4E9-6285-47B3-8840-69A82E6C2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458C-9526-4E05-9827-AAC6C0064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20BD8-F633-4C7E-A7A4-C45B569F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E8A-6268-433F-ABC9-D92E0F12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70F-8E46-4B0B-8725-0D48A0DB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2FB65-DA29-46BF-BFD9-7DDAEAD5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A738-14C4-4DC3-9D5A-F1E319D58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6641-DC03-4FE6-BE77-7F6469CE2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7A64-536E-4F4E-ABA2-D474BEC1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ECA4-F279-4825-8912-C6412784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BOX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67080" y="1371600"/>
            <a:ext cx="420984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943280" y="1285920"/>
            <a:ext cx="525780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PATT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RAY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901880" y="1327320"/>
            <a:ext cx="534024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14520" y="1371600"/>
            <a:ext cx="431496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NDER  HOLY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857240" y="1295280"/>
            <a:ext cx="542952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ARC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720800" y="1295280"/>
            <a:ext cx="5702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FRAZ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94040" y="1371600"/>
            <a:ext cx="5155920" cy="34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NY  PACQUI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419200" y="1389240"/>
            <a:ext cx="4305600" cy="34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467080" y="1371600"/>
            <a:ext cx="420984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MAYWE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43280" y="1285920"/>
            <a:ext cx="525780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901880" y="1327320"/>
            <a:ext cx="53402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14520" y="1371600"/>
            <a:ext cx="4314960" cy="35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57240" y="1295280"/>
            <a:ext cx="542952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720800" y="1295280"/>
            <a:ext cx="57024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94040" y="1371600"/>
            <a:ext cx="5155920" cy="34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419200" y="1389240"/>
            <a:ext cx="4305600" cy="341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6-15T16:19:43Z</dcterms:modified>
  <cp:revision>291</cp:revision>
  <dc:subject/>
  <dc:title>Slide 1</dc:title>
</cp:coreProperties>
</file>