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A26-4985-4B8D-B456-A7BAA410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7ABC-DD8F-4FC0-A79B-13FC10DC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E2A-59AD-43A1-A6B0-AB53FA18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C09-DAF1-4524-BF2F-3D284A477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527-93B3-47CB-9B12-B0FF2604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4568-9546-44D9-BDE4-F4E7F081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B8D-D01C-4A53-8354-A56723343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E3ED-1D53-46FC-BF2F-8368D5FC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1263-4B3B-439F-8430-A8736E71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9D8-3BC3-4B12-895D-CBF176A0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867-FFA4-44A0-9894-4D46A93F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E91-C936-4655-B1CF-9AE8B2DF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2C0-7647-42B8-BD93-87C9A99F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75C-B670-40C5-B2BC-CE7E03FB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14A-2711-4EF8-AE88-D89B3DEF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DB1-ABEF-4778-A607-40BC81AF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908-0990-4BD2-B867-A7D52085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E041-4C1B-481C-B797-B6AB91FE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398-E0E3-4F87-83C4-C81E3E02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A67B-48F1-4CF4-B446-9862827E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99C-34CF-4CF0-B62B-41E40339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D861-1134-4B06-973D-732E6C4E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78F2-A899-47E9-960D-D6427CB3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95480" y="1485720"/>
            <a:ext cx="695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LY RICH PEO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47760" y="761760"/>
            <a:ext cx="664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FOR MOST OF 1995-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IN THE 1960'S AND 19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U.S. STEEL, THE FIRST $1 BILLION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OLA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3480" y="762120"/>
            <a:ext cx="7277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ZAR OF RUSSIA 1894-1917 HAD A FORTUNE CLOSE TO $300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1960" y="762120"/>
            <a:ext cx="802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MOST MONEY SELLING CARS, CORRECTING FOR INF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IVORCE SETTLEMENT WITH MACKENZIE SCOTT IN 2019 BUMPED HIM FROM BEING RICHEST MA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LIUS  VANDERB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UILT HIS FORTUNE BY OWNING THE NEW YORK CENTRAL RAILROAD, AND FOUNDED A UNIVERSITY IN NASH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ROMAN EMPEROR WAS LIST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THE FIRST TRILLIONAIRE, BECAUSE HE "PERSONALLY OWNED ALL OF EGYP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5480" y="762120"/>
            <a:ext cx="749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WAS THE RICHEST AMERICAN IN 17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19320" y="762120"/>
            <a:ext cx="6705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FOR MOST OF 1995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68580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IN THE 1960'S AND 19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U.S. STEEL, THE FIRST $1 BILLION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ZAR OF RUSSIA 1894-1917 HAD A FORTUNE CLOSE TO $300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MOST MONEY SELLING CARS, CORRECTING FOR INF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4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IVORCE SETTLEMENT WITH MACKENZIE SCOTT IN 2019 BUMPED HIM FROM BEING RICHEST MA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UILT HIS FORTUNE BY OWNING THE NEW YORK CENTRAL RAILROAD, AND FOUNDED A UNIVERSITY IN NASH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ROMAN EMPEROR WAS LIST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THE FIRST TRILLIONAIRE, BECAUSE HE "PERSONALLY OWNED ALL OF EGYP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WAS THE RICHEST AMERICAN IN 17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06-26T11:25:43Z</dcterms:modified>
  <cp:revision>365</cp:revision>
  <dc:subject/>
  <dc:title>Slide 1</dc:title>
</cp:coreProperties>
</file>