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37F7-26B3-44AC-9827-037F3401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DE5F-D749-4D36-8C54-31ACCD6E5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591C-AC95-4DEA-AE14-2128822A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5D7-4EA7-4B55-AC41-B5236B3D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A116-7088-4EC6-AE1F-5E1F4E27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D975-2275-401F-9A63-4B9756DAC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4FBA-1266-4BFA-AA35-E4EF34D06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BF09-2503-447A-85E8-7EC1AF32D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0517-B266-495A-9229-BDD7FC2BB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4B2-11FC-4D3F-AE73-F590EE70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3BB1-DC35-4C27-B648-3EEAD72D5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B5AD-0B14-401A-9575-1B5DB91E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5165-C85E-4FA5-9434-EAFEC46A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EA13-305B-42A7-8E04-7FA2C8ED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61CB-EEA8-4B05-8483-12DE0B0EA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167B-95F9-4AC0-AE93-86A11BAE7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E9FC-914D-4D02-8E66-87A9DE812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1AE7-AEBB-4B2E-B9A0-5128F4CB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621-1ABD-4158-89A8-6392D71A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896A-9D49-4305-A2F6-82A5A5E00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BE2D-D1B5-4412-8C62-B3719D504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035-A27F-4625-83A4-0C23DAFA9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BB1B-F767-400B-8DE6-AC15CEC07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95480" y="1485720"/>
            <a:ext cx="695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LLY RICH PEO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47760" y="761760"/>
            <a:ext cx="664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FOR MOST OF 1995-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IN THE 1960'S AND 19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U.S. STEEL, THE FIRST $1 BILLION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OLAS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3480" y="762120"/>
            <a:ext cx="7277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ZAR OF RUSSIA 1894-1917 HAD A FORTUNE CLOSE TO $300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1960" y="762120"/>
            <a:ext cx="802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MOST MONEY SELLING CARS, CORRECTING FOR INF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IVORCE SETTLEMENT WITH MACKENZIE SCOTT IN 2019 BUMPED HIM FROM BEING RICHEST MA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LIUS  VANDERBI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UILT HIS FORTUNE BY OWNING THE NEW YORK CENTRAL RAILROAD, AND FOUNDED A UNIVERSITY IN NASHVI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ROMAN EMPEROR WAS LIST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THE FIRST TRILLIONAIRE, BECAUSE HE "PERSONALLY OWNED ALL OF EGYP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5480" y="762120"/>
            <a:ext cx="749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7086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WAS THE RICHEST AMERICAN IN 17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19320" y="762120"/>
            <a:ext cx="6705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FOR MOST OF 1995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685800"/>
            <a:ext cx="76197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IN THE 1960'S AND 19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U.S. STEEL, THE FIRST $1 BILLION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ZAR OF RUSSIA 1894-1917 HAD A FORTUNE CLOSE TO $300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DE THE MOST MONEY SELLING CARS, CORRECTING FOR INF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472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IVORCE SETTLEMENT WITH MACKENZIE SCOTT IN 2019 BUMPED HIM FROM BEING RICHEST MA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UILT HIS FORTUNE BY OWNING THE NEW YORK CENTRAL RAILROAD, AND FOUNDED A UNIVERSITY IN NASHVI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ROMAN EMPEROR WAS LIST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THE FIRST TRILLIONAIRE, BECAUSE HE "PERSONALLY OWNED ALL OF EGYP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WAS THE RICHEST AMERICAN IN 17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06-26T11:25:43Z</dcterms:modified>
  <cp:revision>365</cp:revision>
  <dc:subject/>
  <dc:title>Slide 1</dc:title>
</cp:coreProperties>
</file>