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EED-FFBB-4F44-98E4-CC40B203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FE76-9110-4968-9460-BA2E052C7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9B70-019A-4A2A-ACDE-030ED34E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1011-3CE8-4EB3-AC3D-A4F942105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01F9-042B-469C-A39C-837F87E8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4952-8049-4885-BB07-C1BE4EC63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BD7-DB0C-48EA-A8E3-652C568E0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529F-9384-4316-A91E-3E8955B9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CC71-189F-4D6B-83DF-101C0C3A8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E5FE-95ED-499B-B2E5-087B85D8B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3966-A743-48EB-9640-6858C209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71CB-6665-4266-A5FB-004771C57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B24-3D92-4107-A2DC-05ECDBD4C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7A0B-6A4C-4A5E-8D1C-5A435528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4DE-0EF5-44A5-85F4-B8D64858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74C0-B668-40E1-A5AF-0408E84C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AB2-0D3E-42C8-94D9-4C4EB4BF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ACB0-5F2E-43B2-99AD-13748A7A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B92D-F176-4759-B77D-B80AE98C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B1C-26AE-4DD0-B101-E0875F56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F509-3290-43E6-B62B-A35C8A2F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5EC8-E076-476A-BA6D-735544BA3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55A9-AC57-42CE-920A-79BDE940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PAIRS OF PEOPLE ON THE COVER OF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OLLING STONE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GAZINE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1970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3320" y="1295280"/>
            <a:ext cx="29973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65320" y="1295280"/>
            <a:ext cx="321336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0880" y="4965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RICHARDS  &amp;  MICK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232080" y="1295280"/>
            <a:ext cx="267984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AYKROYD  &amp;  JOHN  BELUSHI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086280" y="1295280"/>
            <a:ext cx="297180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YL  HALL  &amp;  JOHN  O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75120" y="1295280"/>
            <a:ext cx="299376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57400" y="4514760"/>
            <a:ext cx="5029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REDFORD  &amp; DUSTIN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459240" y="1276200"/>
            <a:ext cx="22255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KO  ONO  &amp;  JOHN  LENN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62240" y="1273320"/>
            <a:ext cx="2819520" cy="37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KE  &amp;  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98960" y="1309680"/>
            <a:ext cx="274608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  &amp;  JIMMY 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33800" y="1322280"/>
            <a:ext cx="2874960" cy="37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AEZ  &amp;  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100320" y="1295280"/>
            <a:ext cx="2943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&amp;  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287880" y="1295280"/>
            <a:ext cx="2568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00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  TOMLIN  &amp;  RICHARD  PR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87800" y="1324080"/>
            <a:ext cx="2768400" cy="36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00440" y="1295280"/>
            <a:ext cx="35431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63960" y="1297080"/>
            <a:ext cx="301608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62440" y="1284120"/>
            <a:ext cx="3219120" cy="42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71800" y="1282680"/>
            <a:ext cx="32004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16360" y="1293840"/>
            <a:ext cx="331128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44720" y="1284120"/>
            <a:ext cx="3454560" cy="428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2T12:53:35Z</dcterms:modified>
  <cp:revision>288</cp:revision>
  <dc:subject/>
  <dc:title>Slide 1</dc:title>
</cp:coreProperties>
</file>