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5503-26E0-4DD9-B996-DD4B3196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130B-A99F-40C5-A7D3-10E41B17D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8F7D-24AD-4D4B-9F12-583674CFD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595B-EDF7-4E37-8A9F-01CAE60C0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6381-4BF6-4797-A4E4-83F7F4D99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2108-E3A6-440B-BDB9-442D9D0D6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F30C-8CE5-4016-B5A8-F01A88D8D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A2DA-F607-469D-A317-73BFD5F91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4F03-3D0A-4C28-A036-DACD9254B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82A3-B435-495A-B831-2B43D3826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A1EB-2AC3-4E6B-AAB1-EEEE1FC7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773F-331F-4ECD-852F-EE0AB3017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DACA-F127-4684-997E-7A357494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A27D-EBC8-4CFC-BFFF-FEEB519E8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A811-1363-4380-9D15-E1B24DFE1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768A-55E5-43E6-8DCF-0ECFF53A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A688-899E-481C-9167-10440198A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8CDE-00FA-44A4-90F9-A81AAB59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3EC8-076E-4671-9586-2FB8E80D6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3EF0-C0E0-4389-953B-32FA74A9B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6F67-51D1-45F9-949E-32425FC6F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A977-EF11-4A49-90D0-C63F36C7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8CE0-2795-4121-9C05-1FA336EAC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PAIRS OF PEOPLE ON THE COVER OF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ROLLING STONE    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GAZINE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THE 1970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3320" y="1295280"/>
            <a:ext cx="299736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42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80880" y="496584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RICHARDS  &amp;  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232080" y="1295280"/>
            <a:ext cx="267984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AYKROYD  &amp;  JOHN  BELUSHI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YL  HALL  &amp;  JOHN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75120" y="1295280"/>
            <a:ext cx="299376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057400" y="4514760"/>
            <a:ext cx="5029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REDFORD  &amp; DUSTIN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459240" y="1276200"/>
            <a:ext cx="222552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KO  ONO  &amp;  JOHN  LENNO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62240" y="1273320"/>
            <a:ext cx="2819520" cy="375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KE  &amp;  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98960" y="1309680"/>
            <a:ext cx="274608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  &amp;  JIMMY 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33800" y="1322280"/>
            <a:ext cx="2874960" cy="37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BAEZ  &amp;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100320" y="1295280"/>
            <a:ext cx="2943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&amp;  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287880" y="1295280"/>
            <a:ext cx="2568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00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  TOMLIN  &amp;  RICHARD  PR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87800" y="1324080"/>
            <a:ext cx="2768400" cy="36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00440" y="1295280"/>
            <a:ext cx="354312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63960" y="1297080"/>
            <a:ext cx="301608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62440" y="1284120"/>
            <a:ext cx="3219120" cy="428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71800" y="1282680"/>
            <a:ext cx="320040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16360" y="1293840"/>
            <a:ext cx="3311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44720" y="1284120"/>
            <a:ext cx="3454560" cy="428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2T12:53:35Z</dcterms:modified>
  <cp:revision>288</cp:revision>
  <dc:subject/>
  <dc:title>Slide 1</dc:title>
</cp:coreProperties>
</file>