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DB58-00F6-417F-B341-D3A56F53F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20B2-3C84-405E-9662-E6908F887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484F-B466-4BBB-8B12-0F3B8A50D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4EDF-D71F-4F64-ACAC-83C6DBA65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5AA3-EAC6-41A9-8C13-648F80875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7FB7-4228-4CA2-AA66-E0A79A23E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3DE7-A979-43A4-A812-CC29E611C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281F-2913-4512-8EA6-20DFBDF13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F11E-FC38-4A15-A61B-2E54CA483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D6B9-1B1B-45B8-AE0E-8B8A0997C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86D5-722A-4EBF-922F-9DBFBCE47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9D2A-74AC-4E84-BA13-F44CD0A99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6926-0DC9-4465-A297-0AC38E63D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49DE-6B7A-42EA-8655-88B219B0C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80A7-5CC5-4738-97DA-5C8BF91CB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DFEB-C614-4937-ABD6-FDD664B79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DEE1-FDBF-4FC7-BC5A-77ECA1466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22D4-649E-4982-8B52-BD748D5C2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BB98-7F42-4FB6-83EB-6BDEB4144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D193-C34A-49A4-BC1B-C005986C8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0D96-A10A-4131-9C8A-B68452F91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6737-6E19-4017-9691-C706E35F6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CE5C-D306-4FF0-BB0A-0470FFB3C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FIRST NA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LSH SINGER SANG IN VEGAS FROM 1967 TO 2011, AND HAS SOLD OVER 100 MILLION RECO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GNUM P.I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H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ORREST GUM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BR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2704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UPER BOWL MOST VALUABLE PLAYER IN 2002, 2004, 2015, AND 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CRU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MISSION IMPOSSIBLE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PE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FREE FALLIN" AND "I WON'T BACK D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CLA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PATRIOT GAMES" AND "THE HUNT FOR RED OCTOB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BROK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NBC NIGHTLY NEWS ANCHOR FROM 1982 TO 2004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BRAD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ONGEST SERVING AND ONLY AFRICAN-AMERICAN MAYOR OF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ORREST GUM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LAND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95280" y="755640"/>
            <a:ext cx="655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ACHED THE DALLAS COWBOYS TO 20 CONSECUTIVE WINNING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LSH SINGER SANG IN VEGAS FROM 1967 TO 2011, AND HAS SOLD OVER 100 MILLION REC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SELL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00280" y="762120"/>
            <a:ext cx="7543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GNUM P.I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UPER BOWL MOST VALUABLE PLAYER IN 2002, 2004, 2015, AND 201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MISSION IMPOSSIBLE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FREE FALLIN" AND "I WON'T BACK D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23960"/>
            <a:ext cx="7315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PATRIOT GAMES" AND "THE HUNT FOR RED OCTOB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NBC NIGHTLY NEWS ANCHOR FROM 1982 TO 2004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ONGEST SERVING AND ONLY AFRICAN-AMERICAN MAYOR OF LOS ANGE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ACHED THE DALLAS COWBOYS TO 20 CONSECUTIVE WINNING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6T22:17:26Z</dcterms:created>
  <dc:creator>Jennifer Budzinski</dc:creator>
  <dc:description/>
  <dc:language>en-US</dc:language>
  <cp:lastModifiedBy>Erich Friedman</cp:lastModifiedBy>
  <dcterms:modified xsi:type="dcterms:W3CDTF">2020-09-04T13:08:45Z</dcterms:modified>
  <cp:revision>320</cp:revision>
  <dc:subject/>
  <dc:title>Slide 1</dc:title>
</cp:coreProperties>
</file>