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D03C7-2EA1-4CF3-8F6B-A64856277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DFA9-F933-4065-AD9E-B80B5551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4DF2-56E9-43C2-8A1D-EAC7E7AF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B58-9496-49C3-8599-0BBDED9F3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A639-6A2F-4AF5-8648-B9430896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5A1D-F7CA-4F7D-B988-BF4437099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DA6F-9C26-4DB8-AD9C-276320093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F4CB-653C-417C-9C5D-46FF742B2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04D9-8F3A-4105-8F52-2D0CFD06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7384-D7EA-4938-B759-5441ED12D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BE6B-B9BB-4FCF-BDF2-C1E0DD8DF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150D-C848-4F19-B7E5-172A1AD85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1DFC-76DA-4481-8A90-3EB48F07B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6A26-38DD-4935-8F27-18BD7A43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B9A1-DE96-488E-ABC6-E0BD8649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B84D-748F-4A76-B0E2-DDABA654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DD90-6455-4750-9912-752BC5802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DB6B-0A34-4611-ADBD-9A8403FC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27A5-8D2A-4739-902B-25394E60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20BF-C2EB-44DF-A011-59E130B90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D7A3-9A18-444C-AAFB-3478AABEC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9B48-9851-4F90-A80B-30BF27EFF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E60-5409-40A9-ADA1-87873C20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SINGER SANG IN VEGAS FROM 1967 TO 2011, AND HAS SOLD OVER 10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GNUM P.I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REST G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2704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ER BOWL MOST VALUABLE PLAYER IN 2002, 2004, 2015, AND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MISSION IMPOSSIBLE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" AND "I WON'T BACK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ATRIOT GAMES" AND "THE HUNT FOR RED OCTO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OK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NBC NIGHTLY NEWS ANCHOR FROM 1982 TO 200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AND ONLY AFRICAN-AMERICAN MAYOR OF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REST G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LAN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5564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ACHED THE DALLAS COWBOYS TO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LSH SINGER SANG IN VEGAS FROM 1967 TO 2011, AND HAS SOLD OVER 10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L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GNUM P.I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ER BOWL MOST VALUABLE PLAYER IN 2002, 2004, 2015, AND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MISSION IMPOSSIBLE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REE FALLIN" AND "I WON'T BACK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ATRIOT GAMES" AND "THE HUNT FOR RED OCTO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NBC NIGHTLY NEWS ANCHOR FROM 1982 TO 200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SERVING AND ONLY AFRICAN-AMERICAN MAYOR OF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ACHED THE DALLAS COWBOYS TO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6T22:17:26Z</dcterms:created>
  <dc:creator>Jennifer Budzinski</dc:creator>
  <dc:description/>
  <dc:language>en-US</dc:language>
  <cp:lastModifiedBy>Erich Friedman</cp:lastModifiedBy>
  <dcterms:modified xsi:type="dcterms:W3CDTF">2020-09-04T13:08:45Z</dcterms:modified>
  <cp:revision>320</cp:revision>
  <dc:subject/>
  <dc:title>Slide 1</dc:title>
</cp:coreProperties>
</file>