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567F-8277-4931-9C1D-1738E8E26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025-E42B-49FE-A07D-23F99B480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793B-9A03-448F-ADD3-4DFD6638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086-890F-4FFC-870E-2761F378FB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F745-E08C-4199-817B-97716AEF0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A0FD-C9C1-4E68-A317-46DC685DC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AC1C-7699-4771-B8A8-66CD9476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F5B9-C19A-468E-8AC1-93E1EE8E7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11C4-F3D7-494C-83DE-FD97B882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BEC0-C941-432F-B3F0-0811EB3E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D573-4F73-499C-A2EE-115B01F9B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5451-13CB-4FB4-811A-2C81843DE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6CA8-E38B-4EF3-B7F4-04FABCA0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5DD-607A-4BCE-BB95-FF1FA09F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7F0A-2B57-4E2E-8A9D-618D7397C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C3EF-4007-465A-B6C2-862AF2074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245E-0890-4172-BBF5-A3C2C531B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E5C8-CDD9-4818-BAE3-F29D7FCC8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9FA7-D5B3-433F-9F70-8B458A7FD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77BE-EAA3-4476-94AC-470D4B6C3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4B6E-7FE9-4BC2-8783-5361E6F17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0638-FC48-4C9A-BDC6-6B88B62C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28EBB-A6BD-4699-A511-D444F1CEB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6761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FROM THEIR MUGSHO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6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146400" y="1295280"/>
            <a:ext cx="2851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THEW  MCCONAUGH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COLE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EY  ROUR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66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16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UGH  G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AY  LO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EFER  SUTHER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3029040" y="1324080"/>
            <a:ext cx="3085920" cy="36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HARR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3095640" y="1295280"/>
            <a:ext cx="29527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PAC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L  GIB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954160" y="1295280"/>
            <a:ext cx="3235680" cy="368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REUB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3146400" y="1295280"/>
            <a:ext cx="2851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137040" y="1295280"/>
            <a:ext cx="2869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855880" y="1295280"/>
            <a:ext cx="3432240" cy="36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52720" y="1295280"/>
            <a:ext cx="32385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29040" y="1324080"/>
            <a:ext cx="3085920" cy="36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4-29T18:18:04Z</dcterms:modified>
  <cp:revision>288</cp:revision>
  <dc:subject/>
  <dc:title>Slide 1</dc:title>
</cp:coreProperties>
</file>