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44DE-6125-4BF9-8120-74580AE61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B55F-D0F7-4B1F-8B11-6187B06E5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2083-7469-4B7F-BBF8-FCE6908CF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BD39-DC25-4F8E-A1C1-9B6A16D35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71F6-7ADE-4186-B078-AB73E9C67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55EB-8288-4974-9761-066F91BB3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8A00-53FB-4246-A12F-5C2073B7D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510A-FF0D-492B-B789-5BDCACE9F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1A54-C67D-4C39-90F6-874B8E108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9FF9-0187-4A26-A31F-986831EE9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9287-4E3C-4302-9B6B-C232F90A3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D064-08EF-4E16-8C34-A9D9BB416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A036-B90C-404F-9EDD-897D38FDE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F42D-D2C0-4518-9CC9-5A834D13C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83D4-6549-45AA-98E8-02CD82778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5F30-0329-4B4B-B4D6-395420B69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7BA4-4CA8-432D-B5A1-AF1DA7071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8C80-A1C7-45AC-A88F-621A7F87D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106A-F5D3-47CF-8E88-E8F757FD8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0CD1-BE5F-4D52-B321-05391EF97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8DE2-530B-4E45-835E-FB44142DC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B551-E000-4538-A4FC-4054DDDC9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1F24-583C-4895-9E2E-2B2AFD805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676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ACTORS FROM THEIR MUGSHO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954160" y="1295280"/>
            <a:ext cx="3235680" cy="36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3146400" y="1295280"/>
            <a:ext cx="28512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THEW  MCCONAUG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3095640" y="1295280"/>
            <a:ext cx="29527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RY  COLE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137040" y="1295280"/>
            <a:ext cx="28699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KEY  ROUR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855880" y="1295280"/>
            <a:ext cx="3432240" cy="366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5016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GH  G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2717640" y="1295280"/>
            <a:ext cx="3708720" cy="36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DSAY  LOH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952720" y="1295280"/>
            <a:ext cx="3238560" cy="361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EFER  SUTH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3029040" y="1324080"/>
            <a:ext cx="3085920" cy="369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Y  HARRE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0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3095640" y="1295280"/>
            <a:ext cx="29527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  PAC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3016080" y="1295280"/>
            <a:ext cx="31118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  GIB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954160" y="1295280"/>
            <a:ext cx="3235680" cy="36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REUB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3146400" y="1295280"/>
            <a:ext cx="28512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137040" y="1295280"/>
            <a:ext cx="28699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855880" y="1295280"/>
            <a:ext cx="3432240" cy="366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717640" y="1295280"/>
            <a:ext cx="3708720" cy="36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952720" y="1295280"/>
            <a:ext cx="3238560" cy="36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029040" y="1324080"/>
            <a:ext cx="3085920" cy="36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016080" y="1295280"/>
            <a:ext cx="31118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4-29T18:18:04Z</dcterms:modified>
  <cp:revision>288</cp:revision>
  <dc:subject/>
  <dc:title>Slide 1</dc:title>
</cp:coreProperties>
</file>