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21A9-3367-455D-9F81-D7C863FDB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F45A-80CC-44B9-9086-FFA1D8815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1D32-CF54-4822-82A8-4B25D5BF6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49F7-5472-4DF6-BAB6-BE062BCB6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4E6E-60AB-4C58-8EEB-8CF5037CC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49DB-DDD6-4B1D-8597-FA0EDE63C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E6BF-6963-4C5E-86E3-EA4859E3D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D9AE-540E-4206-B5D9-0A979C17C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8BBB-F6BA-4788-8F0A-33BC16AD4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BF19-A6E2-41A7-9652-D85729CE5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9648-6775-4A26-A549-8523EA774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05CE-27A1-4064-BCB8-A64A2D7FB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15FD-AA6F-4F8F-8EBA-B85946796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5F1E-DA62-4F28-88BC-D9E3E4156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9818-C34B-47E2-B740-490E0BF99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4B48-AA99-4283-98F4-FC459C37F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E795-D978-462F-8996-994F2695B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628D-6CAF-444D-B2BD-C1C1154BA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3334-ED3F-4084-B30C-BDB6D8BD5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FAD4-80CF-4E37-A37B-96B124746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2071-88F3-4E66-B56E-21B538CAA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1F8C-3BB6-45C8-B5F7-B6A3CED21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0AF6-FD8B-4498-975A-D80DCB8F9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CELEBRITY COUPLES (NO PARTIAL CREDI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63626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362240" y="1295280"/>
            <a:ext cx="6419520" cy="36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295280" y="4495680"/>
            <a:ext cx="655344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H  JESSICA  PARKER  &amp;  MATTHEW  BRODE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457360" y="1295280"/>
            <a:ext cx="4229280" cy="31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RUSSELL  &amp;  GOLDIE  H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852560" y="1295280"/>
            <a:ext cx="54388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-152280" y="5029200"/>
            <a:ext cx="9448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TTE  BENING  &amp;  WARREN  BEA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397160" y="1295280"/>
            <a:ext cx="634968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333440" y="4513320"/>
            <a:ext cx="6477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LICITY  HUFFMAN  &amp;  WILLIAM  H.  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785960" y="1278000"/>
            <a:ext cx="55720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SON  BRIE  &amp;  DAVE  FRA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886040" y="1295280"/>
            <a:ext cx="5371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74840" y="4572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IE  LEE  CURTIS  &amp;  CHRISTOPHER  GU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644480" y="1285920"/>
            <a:ext cx="5855040" cy="32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304920" y="502920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BACON  &amp;  KYRA  SEDG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171880" y="1295280"/>
            <a:ext cx="4800600" cy="35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00280" y="4572000"/>
            <a:ext cx="7543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A  BASSETT  &amp;  COURTNEY  B.  V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54280" y="1295280"/>
            <a:ext cx="5635440" cy="315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09480" y="4572000"/>
            <a:ext cx="7925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DOUGLAS  &amp;  CATHERINE  ZETA–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647720" y="1279440"/>
            <a:ext cx="5848560" cy="32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AN  REYNOLDS  &amp;  BLAKE  LIV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362240" y="1295280"/>
            <a:ext cx="6419520" cy="36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852560" y="1295280"/>
            <a:ext cx="54388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397160" y="1295280"/>
            <a:ext cx="63496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886040" y="1295280"/>
            <a:ext cx="53719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397160" y="1295280"/>
            <a:ext cx="634968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374840" y="1295280"/>
            <a:ext cx="63943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5-06T12:58:15Z</dcterms:modified>
  <cp:revision>290</cp:revision>
  <dc:subject/>
  <dc:title>Slide 1</dc:title>
</cp:coreProperties>
</file>