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E9C7-042D-41F8-A45A-4FC7AE5EC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2B3E-0541-49DD-A9FE-A4BBA742E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3DA6-CBCB-4F50-B332-81B2D05C2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E13A-CFDC-42AC-9276-EBBAA949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2527-A3AC-4F03-B19D-92FF327E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878E-EF92-4463-80B0-8F4BC500B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7423-2A9C-4652-8483-3E4DE8618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1087-466B-4F89-AB92-07C310BC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187A-E0FC-4F2D-9142-EB076DEA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91A0-72D7-4F3F-8028-8FA4CBAF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FE1E-2A5E-4FB2-BEF6-7815F889C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55B-4B6A-473A-A817-D429ED10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7FF5-2BA0-401E-98E8-984980463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FA3E9-8451-49E1-8F89-971A9E1D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CBBD-EBAE-40A3-B34F-1C59D4E03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EC9A-F9F8-45F7-8C21-24E5910B9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37A-BBCB-4861-A466-CBDFFFD4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D4F9-E673-4D4D-8C0F-8DDADCA3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0BAA-0E41-4B0C-9D19-9C856ABAF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308C-D21E-4DD8-ABE3-0150EE525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E1C3-1C93-4A6F-926C-BC5854EB7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3290-E76C-4A98-AFA1-34377D1A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F1A6-48DE-400A-8A81-EB7508380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ELEBRITY COUPLES (NO PARTIAL CREDI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390680" y="1295280"/>
            <a:ext cx="6362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362240" y="1295280"/>
            <a:ext cx="641952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295280" y="4495680"/>
            <a:ext cx="65534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H  JESSICA  PARKER  &amp;  MATTHEW  BROD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457360" y="1295280"/>
            <a:ext cx="4229280" cy="313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RUSSELL  &amp;  GOLDIE  HA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1852560" y="1295280"/>
            <a:ext cx="5438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-152280" y="5029200"/>
            <a:ext cx="9448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TTE  BENING  &amp;  WARREN  BEA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397160" y="129528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333440" y="451332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CITY  HUFFMAN  &amp;  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1785960" y="1278000"/>
            <a:ext cx="5572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SON  BRIE  &amp;  DAVE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7484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LEE  CURTIS  &amp;  CHRISTOPHER  GU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1644480" y="1285920"/>
            <a:ext cx="5855040" cy="327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04920" y="502920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BACON  &amp;  KYRA  SEDG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80060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45720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A  BASSETT  &amp;  COURTNEY  B.  V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54280" y="1295280"/>
            <a:ext cx="5635440" cy="31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09480" y="4572000"/>
            <a:ext cx="79250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DOUGLAS  &amp;  CATHERINE  ZETA–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647720" y="1279440"/>
            <a:ext cx="584856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YAN  REYNOLDS  &amp;  BLAKE  LI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362240" y="1295280"/>
            <a:ext cx="641952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852560" y="1295280"/>
            <a:ext cx="5438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397160" y="1295280"/>
            <a:ext cx="63496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397160" y="1295280"/>
            <a:ext cx="63496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374840" y="1295280"/>
            <a:ext cx="63943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5-06T12:58:15Z</dcterms:modified>
  <cp:revision>290</cp:revision>
  <dc:subject/>
  <dc:title>Slide 1</dc:title>
</cp:coreProperties>
</file>