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32A8-4436-48C0-B64F-31ECE21B6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B4CF-D93F-4501-900B-73FB5B4C1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0B2A-1FE4-4ED2-9C2D-A97198750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AEBE-F3F0-4BA8-8C23-EDEA1372F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5AEE-DBE9-4697-A2EE-A2FC86B1B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350A-3F29-4B8A-8194-9C424811D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88E1-CF28-4F0C-82C6-B3D3004E1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BDC0-8EBC-4D9A-8410-DCB182F2D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1467-F1A6-48D2-A205-37CB8B747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804A-E4EA-4C4C-A935-CC2F32C03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E5CF-DA5C-4A39-A530-48FCF5C5D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03A1-EDD3-469A-BA05-5BBA0FF97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C77B-F539-4451-B753-D7E7BF2C9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EEF7-125F-4CAF-91C3-270E3C676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1A40-4A9D-46EA-B2F3-5D33645F9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F5CE-37DC-440E-B432-1EBF9F510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0D14-7B34-436F-B436-EC9B8AB6A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6213-0213-4AD5-A4E5-62A179484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9A86-2322-47D2-A65D-E079C1A97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CD6F-2765-49FF-A2BB-7D7846B44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3272-6C96-4AC0-A28B-362F04D62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9FFE-0DB3-4873-B2DA-39FC3B677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38B8-EA3F-49DD-99E2-395D0F8DD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N FRANKL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BEN FRANKLIN'S LIFE WAS SPENT OVERSEAS, 1/7, 1/5, OR 1/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NOMINATION OF BILL DOES BEN FRANKLIN'S PICTURE NOW APPEAR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F  DOL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APPEARED ON WHAT U.S. COIN 1948-1963, BEFORE BEING REPLACED BY J.F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304920" y="495288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3080" y="7621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732, BEN FRANKLIN  STARTED THE NEWSPAPER "PHILADEPHISCHE ZEITUNG", WRITTEN IN WHAT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ARGUED THAT THE NATIONAL BIRD SHOULD NOT BE THE EAGLE, BUT WHAT BIRD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T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DID BEN FRANKL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VENT? LIGHTNING ROD, BIFOCALS, ROCKING CHAIR, ODOMETER, SEXTANT, OR SWIM F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WAS THE FIRST AMBASSADOR TO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OR  RICHARD'S  ALMAN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23880" y="762120"/>
            <a:ext cx="60962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GOT RICH BY PUBLISHING WHAT ALMANA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50292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EN FRANKLIN ONLY ATTENDED SCHOOL FOR 2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APPEARED ON WHAT U.S. COIN 1948-1963, BEFORE BEING REPLACED BY J.F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RECTOR  OF  THE  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23960"/>
            <a:ext cx="80769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JOB DID FRANKLIN NEVER HAVE?  DIRECTOR OF THE MINT, AMBASSADOR TO SWEDEN, GOVERNOR OF PENNSYLVANIA, OR POSTMASTER GENER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BEN FRANKLIN'S LIFE WAS SPENT OVERSEAS, 1/7, 1/5, OR 1/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23960" y="76212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NOMINATION OF BILL DOES BEN FRANKLIN'S PICTURE NOW APPEAR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732, BEN FRANKLIN  STARTED THE NEWSPAPER "PHILADEPHISCHE ZEITUNG", WRITTEN IN WHAT LANGU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ARGUED THAT THE NATIONAL BIRD SHOULD NOT BE THE EAGLE, BUT WHAT BIRD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DID BEN FRANKLIN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VENT? LIGHTNING ROD, BIFOCALS, ROCKING CHAIR, ODOMETER, SEXTANT, OR SWIM F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6240" y="72396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WAS THE FIRST AMBASSADOR TO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FRANKLIN GOT RICH BY PUBLISHING WHAT ALMANA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EN FRANKLIN ONLY ATTENDED SCHOOL FOR 2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JOB DID FRANKLIN NEVER HAVE?  DIRECTOR OF THE MINT, AMBASSADOR TO SWEDEN, GOVERNOR OF PENNSYLVANIA, OR POSTMASTER GENERA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7T15:04:22Z</dcterms:created>
  <dc:creator>Jennifer Budzinski</dc:creator>
  <dc:description/>
  <dc:language>en-US</dc:language>
  <cp:lastModifiedBy>Erich Friedman</cp:lastModifiedBy>
  <dcterms:modified xsi:type="dcterms:W3CDTF">2022-06-20T18:42:01Z</dcterms:modified>
  <cp:revision>329</cp:revision>
  <dc:subject/>
  <dc:title>Slide 1</dc:title>
</cp:coreProperties>
</file>