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E382-798E-47DD-91D3-001A2F580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7B2F-5E22-4847-AC40-700183A49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83A8-8032-4AFC-98E1-A937F51EA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DE13-311A-4B93-88CD-D065AB21A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E41F-1097-45B9-B404-6658303DB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2C1B-D29C-4C46-ACC2-26EABED3D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E649-EBD2-43CF-AFCA-F34E6EADA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917D-3EA8-4BA1-B268-E87A6AD79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AD7E-CF08-470C-A187-7F6050E08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1AE1-E908-479F-AA86-3A9712B7E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F39A-5F0A-41D3-A4FB-6271CADAB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7B24-50B9-4B98-BC31-06F75E3B4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D5DB-8249-4207-BD96-CF8BE30A2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D741-067E-4312-BB96-15F5B44A5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6753-0B1D-4FFB-BE90-0AF43984E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E1DD-5A64-47EF-A530-44927065C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BCDE-BBBC-48A6-BF0F-9B4F932F2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383A-2273-49C1-919C-DD375E763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E722-CE0C-479F-992E-D39631382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CB4B-C6E5-4A3C-9079-0136B3611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8E46-8C3E-41B1-ACC9-956D24A67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9E85-8363-40F2-B33A-72932152B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F61D-A3D1-4F4F-B8B9-1A0F9FE9B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N FRANKL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ACTION OF BEN FRANKLIN'S LIFE WAS SPENT OVERSEAS, 1/7, 1/5, OR 1/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23960" y="762120"/>
            <a:ext cx="769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NOMINATION OF BILL DOES BEN FRANKLIN'S PICTURE NOW APPEAR 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F  DOL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14400" y="762120"/>
            <a:ext cx="7315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N FRANKLIN APPEARED ON WHAT U.S. COIN 1948-1963, BEFORE BEING REPLACED BY J.F.K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304920" y="4952880"/>
            <a:ext cx="8381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R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43080" y="76212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732, BEN FRANKLIN  STARTED THE NEWSPAPER "PHILADEPHISCHE ZEITUNG", WRITTEN IN WHAT LANGU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19040" y="495288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N FRANKLIN ARGUED THAT THE NATIONAL BIRD SHOULD NOT BE THE EAGLE, BUT WHAT BIRD INSTE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XT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SE DID BEN FRANKLIN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NVENT? LIGHTNING ROD, BIFOCALS, ROCKING CHAIR, ODOMETER, SEXTANT, OR SWIM FI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53352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N FRANKLIN WAS THE FIRST AMBASSADOR TO WHAT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OR  RICHARD'S  ALMAN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523880" y="762120"/>
            <a:ext cx="60962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N FRANKLIN GOT RICH BY PUBLISHING WHAT ALMANA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50292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BEN FRANKLIN ONLY ATTENDED SCHOOL FOR 2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N FRANKLIN APPEARED ON WHAT U.S. COIN 1948-1963, BEFORE BEING REPLACED BY J.F.K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RECTOR  OF  THE  M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33520" y="723960"/>
            <a:ext cx="80769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CH JOB DID FRANKLIN NEVER HAVE?  DIRECTOR OF THE MINT, AMBASSADOR TO SWEDEN, GOVERNOR OF PENNSYLVANIA, OR POSTMASTER GENER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/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ACTION OF BEN FRANKLIN'S LIFE WAS SPENT OVERSEAS, 1/7, 1/5, OR 1/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723960" y="762120"/>
            <a:ext cx="7696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NOMINATION OF BILL DOES BEN FRANKLIN'S PICTURE NOW APPEAR 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732, BEN FRANKLIN  STARTED THE NEWSPAPER "PHILADEPHISCHE ZEITUNG", WRITTEN IN WHAT LANGUA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N FRANKLIN ARGUED THAT THE NATIONAL BIRD SHOULD NOT BE THE EAGLE, BUT WHAT BIRD INSTE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SE DID BEN FRANKLIN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NVENT? LIGHTNING ROD, BIFOCALS, ROCKING CHAIR, ODOMETER, SEXTANT, OR SWIM FI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76240" y="723960"/>
            <a:ext cx="7391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N FRANKLIN WAS THE FIRST AMBASSADOR TO WHAT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600200" y="761760"/>
            <a:ext cx="5943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N FRANKLIN GOT RICH BY PUBLISHING WHAT ALMANA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BEN FRANKLIN ONLY ATTENDED SCHOOL FOR 2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CH JOB DID FRANKLIN NEVER HAVE?  DIRECTOR OF THE MINT, AMBASSADOR TO SWEDEN, GOVERNOR OF PENNSYLVANIA, OR POSTMASTER GENERAL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7T15:04:22Z</dcterms:created>
  <dc:creator>Jennifer Budzinski</dc:creator>
  <dc:description/>
  <dc:language>en-US</dc:language>
  <cp:lastModifiedBy>Erich Friedman</cp:lastModifiedBy>
  <dcterms:modified xsi:type="dcterms:W3CDTF">2022-06-20T18:42:01Z</dcterms:modified>
  <cp:revision>329</cp:revision>
  <dc:subject/>
  <dc:title>Slide 1</dc:title>
</cp:coreProperties>
</file>