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396F-5176-42AC-A498-6E093A55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8F9-7F44-484A-A7D0-61B2807C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9D4-5DC7-44DE-B6F9-66F70D3F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49D-4BB6-4BAE-9597-B626E8D2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C2BF-00A3-4B9A-96A4-065C4C90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D5C1-36DB-454B-96CC-B54CFE30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AAD-3D6F-47A6-AA89-A42EAF46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757E-0E50-45FA-A347-11295324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DC9-BF90-45E8-9403-BF43E92F5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B842-544E-482E-9A71-3BBE51EA3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5B2-08FF-46F6-BA62-C92A0A36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8E66-091E-4682-8DCD-9D058B80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04B-F314-4F54-ABE8-2B73C145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D45-CDB9-417E-8551-ACE1FB4A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5BF4-F3E8-4360-A4E8-D68A794A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25A-EC18-401F-9F5B-33462EF2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962B-C3F3-40C6-9809-14DE53B2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93E-8854-4DAA-8D98-85FD2F9C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78D7-44A7-49AF-9624-CC761523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8A9D-9266-4AF4-ADC4-80414D38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624-3426-43BE-8B68-E4250C92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9555-1D60-41CE-BFFB-6AEF814B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AE6-BEF1-4CEC-8649-3E26EEBA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EOPLE FROM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IME MAGAZ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VERS FROM 2018 AND 201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43280" y="1295280"/>
            <a:ext cx="3457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93920" y="1349280"/>
            <a:ext cx="275616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AI  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82800" y="129528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KE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666800" y="1295280"/>
            <a:ext cx="581040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RIA  OCASIO–CORT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08240" y="1219320"/>
            <a:ext cx="29275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68600" y="1295280"/>
            <a:ext cx="400680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Y  GIULI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LOUIS–DREY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71920" y="1295280"/>
            <a:ext cx="3800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782800" y="129528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NETANYA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THU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843280" y="1295280"/>
            <a:ext cx="34574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BLASE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193920" y="1349280"/>
            <a:ext cx="275616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66800" y="1295280"/>
            <a:ext cx="581040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08240" y="1219320"/>
            <a:ext cx="29275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68600" y="1295280"/>
            <a:ext cx="400680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71920" y="1295280"/>
            <a:ext cx="3800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6-27T17:58:35Z</dcterms:modified>
  <cp:revision>289</cp:revision>
  <dc:subject/>
  <dc:title>Slide 1</dc:title>
</cp:coreProperties>
</file>