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47AF-8BCF-41E7-8525-DFCF19BE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8ECD-8986-4E19-9338-542C7B4AB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79CF4-5615-4A84-B175-61B5F1A7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A4E5-773C-4F56-8A98-04CF83D0C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43B5-E104-4174-A537-CF4092822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BBE1-827F-409F-AC86-E681D6A4F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C3BC-19D6-4D48-8FCC-CD29A69C8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7BDE-7725-47D0-8E67-F337A3236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FD06D-499E-42CE-AB28-566CAD828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FEA-C591-4C97-9584-7E3EAF8D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0FF1-29E7-4656-822C-E3389EE00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99D4-FED8-4945-ADE6-12A889A0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3DABD-EE4A-409F-8361-6C2DDBB79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1B54-FA4A-431F-BA0A-A92309BCE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9E28-0A88-4F0E-BCE2-8737B23B7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64E-C3A6-40C3-86C4-A48D207C1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5616-7A66-4C6B-AFB1-4CEBE1619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487D-0923-46A8-A78B-F1E1B0B4E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3EA7-5214-48DC-A969-498EE747A2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F3284-0848-4214-BD65-F1F8382C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7713-AF87-4AEF-A7D6-F706B5D66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2222-1252-4E0B-8E61-9A47F42A4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3DFDD-28A4-436E-9451-B6DFB7BCD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9903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PEOPLE FROM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IME MAGAZIN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COVERS FROM 2018 AND 201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843280" y="1295280"/>
            <a:ext cx="34574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93920" y="1349280"/>
            <a:ext cx="275616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LAI  L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82800" y="129528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KE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RENA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666800" y="1295280"/>
            <a:ext cx="581040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RIA  OCASIO–CORT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108240" y="1219320"/>
            <a:ext cx="29275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568600" y="1295280"/>
            <a:ext cx="4006800" cy="36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DY  GIULI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LOUIS–DREYF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71920" y="1295280"/>
            <a:ext cx="3800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782800" y="1295280"/>
            <a:ext cx="3578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NETANYA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TA  THUN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843280" y="1295280"/>
            <a:ext cx="34574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E  BLASEY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3193920" y="1349280"/>
            <a:ext cx="275616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029040" y="1295280"/>
            <a:ext cx="30859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66800" y="1295280"/>
            <a:ext cx="581040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108240" y="1219320"/>
            <a:ext cx="29275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568600" y="1295280"/>
            <a:ext cx="400680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895480" y="1295280"/>
            <a:ext cx="335304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71920" y="1295280"/>
            <a:ext cx="3800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75040" y="1295280"/>
            <a:ext cx="3193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6-27T17:58:35Z</dcterms:modified>
  <cp:revision>289</cp:revision>
  <dc:subject/>
  <dc:title>Slide 1</dc:title>
</cp:coreProperties>
</file>