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9F48-2A96-4105-8036-2FD2E619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973A-B667-49FF-8F38-2DE1D9F9C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BD72-7B8A-46C0-980B-FB9312CBB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5A78-0404-453D-8C0C-CFD9F524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82C1-B027-40CD-98D1-E4783AA20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AAB2-BD8A-4048-BAB9-EAD646159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7C31F-AC43-4E28-8649-371E7F2C2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C696-33BE-452B-99F9-9D54A219E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AB8E-9507-4389-87B6-34E07E9E0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CA8F-91B9-452B-A453-971192BA7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E0CB-97EE-4BB2-8C6E-E0B460CDB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EAD2-2E1D-42CB-B49E-C1C2FFC4A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433FC-B7D0-44D1-99E4-813F9BF81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1240-1756-4A76-8B83-31960B68A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9CC6-2663-410E-A750-26E074CE8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35EC-70CD-4DDA-87C2-467B95798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4068-D1C5-4331-AA68-07ECEC1B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65F9-68C9-460F-837B-E4EF9249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05D4-530E-44C0-A6A7-2D208E2D0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C770-3E92-408E-BD45-A2A07488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80AB-396C-430F-82A0-8F9771FFA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E152-5F58-4516-986E-504499A4D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5BD4-049C-4EAB-8BF3-5D1CC21E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990360"/>
            <a:ext cx="811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 CARICATURES (BY MAGIXL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14600" y="133344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41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SON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14760" y="128592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I  CAP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770200" y="1371600"/>
            <a:ext cx="36036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N  BR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90720" y="1295280"/>
            <a:ext cx="356256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P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14760" y="1314360"/>
            <a:ext cx="371448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538360" y="1295280"/>
            <a:ext cx="4067280" cy="40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BEY  MAG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78136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HREY  BOG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SAN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762280" y="1333440"/>
            <a:ext cx="3619440" cy="36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87600" y="1295280"/>
            <a:ext cx="4168800" cy="41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94080" y="1295280"/>
            <a:ext cx="4155840" cy="41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68520" y="1325520"/>
            <a:ext cx="4205160" cy="42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52760" y="14097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590920" y="1257480"/>
            <a:ext cx="407664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552760" y="1314360"/>
            <a:ext cx="40384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552760" y="140976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7-10T12:49:52Z</dcterms:modified>
  <cp:revision>290</cp:revision>
  <dc:subject/>
  <dc:title>Slide 1</dc:title>
</cp:coreProperties>
</file>