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E988-F038-4C0E-AC00-3112E2CFA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BD3F-FBE7-49F4-9767-1A0061DAC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E5E8-C05E-4D8A-9AED-EC5158C59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5869-BD29-4904-9E9E-A3BC1EF4C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11D5-C884-454E-88B7-14CB4779E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8095-2FA2-4FE3-AD14-AC2C4E3B4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B331-8722-4BC1-8CF8-89916CFD3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FEEC-0043-4944-9667-8AB98DCE4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D876-5857-48B3-B297-0C4E9E3B2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4D87-03D7-447F-A2B1-BC90195E0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345D-D6EB-43FA-804A-E6937FB98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7226-ECFC-4F17-9175-24DF47F70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9218-0AD3-4CC9-92FE-4CEE1C507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7969-EA9F-4F17-98D0-C86EFE415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C167-1407-4196-8686-2328EA53E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1007-CF3C-4668-A426-BFD7EEBDB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A6F9-051E-4A64-9571-D218E5087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DCB3-290F-4496-8932-C74E3B348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CD22-5E21-4D30-BB6E-7281074F3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82D8-A425-4FD9-918C-AB9BC7579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9CEF-E6E6-4EC5-B494-DBE001826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CCC6-449C-490D-ACDE-877CCB5A3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D06A-950D-4FFD-BEAF-D74BAECA2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14440" y="990360"/>
            <a:ext cx="811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ACTOR CARICATURES (BY MAGIXL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514600" y="133344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486160" y="1295280"/>
            <a:ext cx="4171680" cy="41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RISON  F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CLO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714760" y="1285920"/>
            <a:ext cx="3714480" cy="371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ONARDO  DI  CAP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770200" y="1371600"/>
            <a:ext cx="3603600" cy="360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LON  BRA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790720" y="1295280"/>
            <a:ext cx="3562560" cy="356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CRU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762280" y="1295280"/>
            <a:ext cx="3619440" cy="361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N  PEN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CE  WIL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714760" y="1314360"/>
            <a:ext cx="3714480" cy="371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538360" y="1295280"/>
            <a:ext cx="4067280" cy="40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BEY  MAGU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781360" y="137160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MPHREY  BOG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743200" y="13716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DAM  SAND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762280" y="1333440"/>
            <a:ext cx="3619440" cy="361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487600" y="1295280"/>
            <a:ext cx="4168800" cy="416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494080" y="1295280"/>
            <a:ext cx="4155840" cy="415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468520" y="1325520"/>
            <a:ext cx="4205160" cy="42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552760" y="140976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590920" y="1257480"/>
            <a:ext cx="407664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552760" y="1314360"/>
            <a:ext cx="403848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552760" y="140976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07-10T12:49:52Z</dcterms:modified>
  <cp:revision>290</cp:revision>
  <dc:subject/>
  <dc:title>Slide 1</dc:title>
</cp:coreProperties>
</file>