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A6A9-A92D-4195-897C-8CD24660E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1E1E-319B-4846-8317-69605CB8D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69C5-47BF-40B1-910A-A2ADF723D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A102-369C-4FBB-A4EC-85C679D04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0129-70FD-4809-9A05-54E3E2565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7CEA-E748-4922-8D4F-E58CC382A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5809-A96E-4452-B82C-7A5736AE6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31D8-40B6-4A99-A4ED-151C2C228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F5D1-A1D5-43B6-A239-2A718204F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5B9E-E438-48EA-B2E9-14F748BF4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8E3E-3AED-4CD3-A1F6-BA64AD00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EC7E-47DC-423E-BD5E-55162E5C9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08F6-EF3D-4CD2-878C-2F0815B2C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1A11-9877-451E-804A-3F7391145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4525-2C14-42CF-9550-A4CCE5DCF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E66D-335F-470C-80FE-005B0D545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61BD-28F8-4AE2-A9FE-4EEA71EA5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DF94-4FDA-468A-AB92-FC1821E27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3543-18E9-4E89-9A41-1532E5D34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51A6-8B25-4C4A-9C5F-CC5D50AA3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6F21-96DD-4FCC-B957-0F9048920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3BBF-7BFC-450C-92F3-0FC158B14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ECFC-EF58-4622-B79E-987CD0CDE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PEOPLE FROM CARIC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179880" y="1295280"/>
            <a:ext cx="278424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78120" y="1295280"/>
            <a:ext cx="358776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WAL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254400" y="1295280"/>
            <a:ext cx="263520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63720" y="1295280"/>
            <a:ext cx="3616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KNOT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61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SA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49400" y="1295280"/>
            <a:ext cx="344520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STEIN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4680" y="1295280"/>
            <a:ext cx="2654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P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268800" y="1311120"/>
            <a:ext cx="260640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–YO  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68720" y="1295280"/>
            <a:ext cx="2806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254400" y="1295280"/>
            <a:ext cx="2635200" cy="36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E  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174840" y="1295280"/>
            <a:ext cx="27943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  KI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179880" y="1295280"/>
            <a:ext cx="2784240" cy="36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–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778120" y="1295280"/>
            <a:ext cx="358776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63720" y="1295280"/>
            <a:ext cx="361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49400" y="1293840"/>
            <a:ext cx="3445200" cy="35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44680" y="1295280"/>
            <a:ext cx="2654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268800" y="1311120"/>
            <a:ext cx="260640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68720" y="1295280"/>
            <a:ext cx="2806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174840" y="1295280"/>
            <a:ext cx="2794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7-12T12:23:25Z</dcterms:modified>
  <cp:revision>288</cp:revision>
  <dc:subject/>
  <dc:title>Slide 1</dc:title>
</cp:coreProperties>
</file>