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0D9-43B6-46B4-94F1-CC789E9E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BE22-DE6A-4F47-9D0D-3378143E2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EBD1-21E9-4FB7-A160-0E377801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DD5-775F-4951-ADBD-5C378504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826-2B19-4DEE-A42C-A353DB3E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F7CF-3D4A-44AF-B87D-A2BEF883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B39F-E095-4275-B79B-BB885BD4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E21D-7C69-4517-9BE2-E0C7D597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C42C-3161-445A-8A6A-CBCA26AD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D02-38DF-48CB-B520-1EDB09DB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3B5D-B2F5-4468-A371-079B4F491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FC85-F677-49BD-81C0-3C7723D4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ACC8-9DA0-4FE8-8E64-9FAD6798B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2371-430A-4AC2-85EB-394F5162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D5A-8055-4552-B73A-C043B460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981-A353-4EBD-BD9C-8E743041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AF5A-B830-4963-86C6-88BE605B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1B2-A261-4794-B526-7F417CDD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7463-F93B-462C-B79F-D756A835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D87-2BAA-4D36-8A14-10989282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8C3-127D-4CA0-B99E-AA6ABF62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D31-1B28-4427-BFEB-94F82DDF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2F8-E1EC-4DF8-A60D-8DBACBE5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EOPLE FROM CARIC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79880" y="1295280"/>
            <a:ext cx="278424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78120" y="1295280"/>
            <a:ext cx="35877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AL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54400" y="1295280"/>
            <a:ext cx="26352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61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NO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4452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4680" y="1295280"/>
            <a:ext cx="2654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68800" y="1311120"/>
            <a:ext cx="26064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–YO 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68720" y="1295280"/>
            <a:ext cx="2806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54400" y="1295280"/>
            <a:ext cx="263520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  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174840" y="1295280"/>
            <a:ext cx="2794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  KI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179880" y="1295280"/>
            <a:ext cx="2784240" cy="36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–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78120" y="1295280"/>
            <a:ext cx="35877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61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49400" y="1293840"/>
            <a:ext cx="34452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4680" y="1295280"/>
            <a:ext cx="2654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68800" y="1311120"/>
            <a:ext cx="2606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68720" y="1295280"/>
            <a:ext cx="2806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74840" y="1295280"/>
            <a:ext cx="2794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2T12:23:25Z</dcterms:modified>
  <cp:revision>288</cp:revision>
  <dc:subject/>
  <dc:title>Slide 1</dc:title>
</cp:coreProperties>
</file>