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BC82-83F9-42D2-A3A9-470E7022C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AFAF-8F14-4235-B141-8A13FFF60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75FC-A5A9-48F4-97CA-32D60B365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6B630-279F-4AD5-B3BA-39FA0FFF3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A13A-101F-4F79-AB6F-029084B2C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3C88D-D37B-4D1C-927E-80927CE6B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FBE3-0DB4-41E9-972B-36E6E5535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BC9A-2E21-4D75-AD14-CB232C3C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27C-8C89-4C15-B958-F4C22B493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1C48-93F9-4389-9362-7D5352279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4320-E785-46D5-91AE-AD9DF924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A4750-E7BB-4202-8AB3-55FF77E5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D6E14-E168-4AF8-BF0C-EBA41EF6D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50D6-E806-45C3-98E4-0413B365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7798-08D5-43A6-9D19-2C6E7BD4E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20E-4AF1-4A38-A548-DBC7239FA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510-0F78-4F08-9A69-AD73556C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B6E6-E3BA-4B14-9D79-CEE67CA3E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E70-2DF7-4E1D-90A2-C4AF016E9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914E-6079-41E1-BF4A-4925AC71D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B82A-25A0-418F-B24E-F9F2A7F80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B9D-B1EC-4468-AC9A-6EDAAE987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1A42F-1D00-4022-8BC9-C33C1540A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925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OSE BIRTHDAYS ARE THESE GOOGLE DOODLES CELEBRAT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82480" y="1295280"/>
            <a:ext cx="7979040" cy="28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4800" y="1371600"/>
            <a:ext cx="7934400" cy="30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LSON  MANDE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GUEL  DE  CERV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04960" y="1295280"/>
            <a:ext cx="753408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A  FITZGERA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391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UL  CÉZAN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SAR  CHAV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80880" y="1333440"/>
            <a:ext cx="8382240" cy="335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GMUND  FREU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34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5800" y="1384200"/>
            <a:ext cx="7772400" cy="30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GUSTE  ROD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382240" cy="341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  LLOYD  WR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582480" y="1295280"/>
            <a:ext cx="7979040" cy="289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BRIEL  GARCIA  MÁRQ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604800" y="1371600"/>
            <a:ext cx="7934400" cy="305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804960" y="1295280"/>
            <a:ext cx="7534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39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10640" cy="348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822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80880" y="1333440"/>
            <a:ext cx="8382240" cy="33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143000" y="1333440"/>
            <a:ext cx="685800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80880" y="1301760"/>
            <a:ext cx="8382240" cy="341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7-15T14:46:39Z</dcterms:modified>
  <cp:revision>289</cp:revision>
  <dc:subject/>
  <dc:title>Slide 1</dc:title>
</cp:coreProperties>
</file>