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697A-B0F0-4942-B997-BA09EE042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AD27-8A40-406E-BFE3-A4F46A3EA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F616-1ED1-4510-8336-0F3DC784A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9265-265C-403B-AD1F-1B3719537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2BB2-799A-4B8B-B134-C0450156B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66D-2B1F-448D-A721-8A4E0F233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4C51-F473-441C-A1DF-0D3E6AFE4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832A-5A46-46D1-9E6F-BEBDA204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A557-AD54-42AE-AE4D-D7542CC5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50BA-A67F-4C1F-B89D-9784F7F6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B90C-3205-463C-BFD1-C1E688F63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8237-2969-48DF-B09D-BD3C74F1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6756-2A60-4818-861B-84F9375B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063-94CD-4868-B854-52EE5225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F4FE-DC9B-42BB-88F1-DE5561B3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3ABB-539A-4B21-9D1D-F51721396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36F0-2EF6-41B8-85D3-D1FCCF1E9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5932-64EA-437A-83B9-7B2727184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B176-8F0F-478A-AB61-4F7FB0249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FE12-96BA-4CD4-986F-EBA4CCDBA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1A84-2316-4A19-973B-B460EB0B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3AE-CDED-4CBE-B7BC-1C694868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DBCA-A458-4E10-BBD1-D195E15AD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2480" y="1295280"/>
            <a:ext cx="79790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4800" y="1371600"/>
            <a:ext cx="793440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MAND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85800" y="1384200"/>
            <a:ext cx="777240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UEL  DE  CER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04960" y="1295280"/>
            <a:ext cx="75340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A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39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CÉZ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48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SAR  CHAV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80880" y="1333440"/>
            <a:ext cx="838224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MUND 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5800" y="1384200"/>
            <a:ext cx="777240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GUSTE  ROD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80880" y="1301760"/>
            <a:ext cx="8382240" cy="34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LLOYD  W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82480" y="1295280"/>
            <a:ext cx="79790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BRIEL  GARCIA  MÁRQ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04800" y="1371600"/>
            <a:ext cx="793440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04960" y="1295280"/>
            <a:ext cx="7534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3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4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80880" y="1333440"/>
            <a:ext cx="8382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80880" y="1301760"/>
            <a:ext cx="8382240" cy="341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5T14:46:39Z</dcterms:modified>
  <cp:revision>289</cp:revision>
  <dc:subject/>
  <dc:title>Slide 1</dc:title>
</cp:coreProperties>
</file>