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73D4-FF80-4C65-90F0-CE27BE22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0BB2-160A-41BF-8109-0B65574E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5DD9-A9F4-4AFA-9738-01E3383C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56B-019B-4AA0-BFF5-DCCB9F93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F56-B09D-47D4-8AA1-3A8F1C6D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58CE-E196-4AC6-A80A-16FB995E1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DCE9-5F91-4746-A814-6C450DC66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17C-79CB-4B3F-8AF1-13B8C4C4E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A38D-76F6-4B01-8819-D8C74025A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6DF8-22A5-41BF-849F-4BB72ECD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7A4A-7650-4101-B035-07EBA42E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DF12-07AB-4679-B685-4F0D65AC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F748-92C6-4CA6-8FDB-44DDDB50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E3A1-FD99-42D5-889E-026F88088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8BD1-E026-4744-AD23-F70EF409B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D4D1-34AE-40D8-9B7C-FFED5AE05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B771-C0F6-4CD3-AEA7-C963CEB6F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10D-92E0-40DB-9F59-03D82D789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C143-06BD-4BEF-BD9A-D428F0F8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8572-DFED-41D4-BB95-C8241933B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21D1-AB04-45D0-B422-9E4B4CCC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29BB-77F3-4AD8-8E59-E4DB976F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3D78-A524-4484-BACB-ECC98EC6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STAR JOINED THE ARMY, BUT WAS KILLED BY FRIENDLY FIRE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BEST-SELLING RECORDING ARTIST OF THE 1950'S, AFTER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UMM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OF TENNESSEE WOMEN'S BASKETBALL COACH WAS THE FIRST NCAA COACH TO WIN MORE THAN 1000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A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14680" y="771480"/>
            <a:ext cx="5715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EN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IT ME WITH YOUR BEST S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MO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MIYAGI IN THE KARATE KI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23880" y="762120"/>
            <a:ext cx="609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TRAVELED FIRST LADY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METHE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714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FUSION MUSICIAN IS THE ONLY PERSON TO HAVE WON GRAMMY AWARDS IN 10 DIFFERENT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UMMER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CASTER ANNOUNCED 16 SUPER BOWLS, 26 MASTERS GOLF TOURNEYS, AND 21 US OPEN TENNIS TOURNE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OF TENNESSEE WOMEN'S BASKETBALL COACH WAS THE FIRST NCAA COACH TO WIN MORE THAN 1000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5564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NIXON'S SPEECHWRITER AND REAGAN'S COMMUNICATIONS DIRECTOR, AND RAN FOR PRESIDENT IN 1992, 1996, AND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TI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STAR JOINED THE ARMY, BUT WAS KILLED BY FRIENDLY FIRE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O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BEST-SELLING RECORDING ARTIST OF THE 1950'S, AFTER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IT ME WITH YOUR BEST S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MIYAGI IN THE KARATE KI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42960" y="723960"/>
            <a:ext cx="6058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TRAVELED FIRST LADY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FUSION MUSICIAN IS THE ONLY PERSON TO HAVE WON GRAMMY AWARDS IN 10 DIFFERENT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CASTER ANNOUNCED 16 SUPER BOWLS, 26 MASTERS GOLF TOURNEYS, AND 21 US OPEN TENNIS TOURNE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NIXON'S SPEECHWRITER AND REAGAN'S COMMUNICATIONS DIRECTOR, AND RAN FOR PRESIDENT IN 1992, 1996, AND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3:10:17Z</dcterms:created>
  <dc:creator>Jennifer Budzinski</dc:creator>
  <dc:description/>
  <dc:language>en-US</dc:language>
  <cp:lastModifiedBy>Erich Friedman</cp:lastModifiedBy>
  <dcterms:modified xsi:type="dcterms:W3CDTF">2020-09-04T13:19:33Z</dcterms:modified>
  <cp:revision>319</cp:revision>
  <dc:subject/>
  <dc:title>Slide 1</dc:title>
</cp:coreProperties>
</file>