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3C39-9E86-460C-B0D1-2E97C314B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6C2C-A0DE-4239-91C0-4FCF3F34C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2B8E-58F9-469F-8AEF-D38D762FA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76ED-3499-4113-8AC9-FDC8B80B1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FA3A7-0C88-4562-9A2E-2D37D5878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016B-698D-4B32-A16E-C69AE4B63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1979-C9AE-487C-8B0E-3AD02B188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EDE8-879E-4DA2-8A41-A200E7F19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89F8-DACC-446F-802B-A24B794EA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F9C1-1506-42B1-BA85-6E9EAE0C8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8081-698C-4B43-BD30-FDBA9DE00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1F37-C111-47C1-9CD7-0F80BF942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C9C3-0378-4650-85E0-A44FA357E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09A5-B56A-4BEE-94FD-DB48FD3AB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76B0-0719-4FE7-911B-8462905B6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ECCA-0723-4104-96E6-45B974C96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6873-19BD-42EB-9FEB-B67791FE6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1CC0-87D6-43AD-8641-40A9CF853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1619C-9F27-40D8-A12E-38F0A4B2B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FE07-E51D-47D1-A125-36D331F85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A6EB-DEDF-4705-98CB-37B9315A2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C34E-A8CC-4E02-8054-5EB479BB9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E7C4-4BA4-4A4F-8477-963D50A54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FIRST NA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STAR JOINED THE ARMY, BUT WAS KILLED BY FRIENDLY FIRE IN 200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BEST-SELLING RECORDING ARTIST OF THE 1950'S, AFTER ELVIS PRESL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SUMMI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OF TENNESSEE WOMEN'S BASKETBALL COACH WAS THE FIRST NCAA COACH TO WIN MORE THAN 1000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SAJ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714680" y="771480"/>
            <a:ext cx="5715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S "WHEEL OF FORTU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BENA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HIT ME WITH YOUR BEST SHO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MOR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R. MIYAGI IN THE KARATE KID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NIX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523880" y="762120"/>
            <a:ext cx="6096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OST TRAVELED FIRST LADY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METHE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3080" y="771480"/>
            <a:ext cx="8458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ZZ FUSION MUSICIAN IS THE ONLY PERSON TO HAVE WON GRAMMY AWARDS IN 10 DIFFERENT CATEGO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SUMMER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SCASTER ANNOUNCED 16 SUPER BOWLS, 26 MASTERS GOLF TOURNEYS, AND 21 US OPEN TENNIS TOURNE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OF TENNESSEE WOMEN'S BASKETBALL COACH WAS THE FIRST NCAA COACH TO WIN MORE THAN 1000 G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BUCHAN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266760" y="755640"/>
            <a:ext cx="8610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NIXON'S SPEECHWRITER AND REAGAN'S COMMUNICATIONS DIRECTOR, AND RAN FOR PRESIDENT IN 1992, 1996, AND 2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TILL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STAR JOINED THE ARMY, BUT WAS KILLED BY FRIENDLY FIRE IN 200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BO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00280" y="762120"/>
            <a:ext cx="7543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BEST-SELLING RECORDING ARTIST OF THE 1950'S, AFTER ELVIS PRESL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828800" y="761760"/>
            <a:ext cx="5486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S "WHEEL OF FORTU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HIT ME WITH YOUR BEST SHO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R. MIYAGI IN THE KARATE KID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42960" y="723960"/>
            <a:ext cx="6058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OST TRAVELED FIRST LADY IN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ZZ FUSION MUSICIAN IS THE ONLY PERSON TO HAVE WON GRAMMY AWARDS IN 10 DIFFERENT CATEGO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SCASTER ANNOUNCED 16 SUPER BOWLS, 26 MASTERS GOLF TOURNEYS, AND 21 US OPEN TENNIS TOURNE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NIXON'S SPEECHWRITER AND REAGAN'S COMMUNICATIONS DIRECTOR, AND RAN FOR PRESIDENT IN 1992, 1996, AND 20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1T13:10:17Z</dcterms:created>
  <dc:creator>Jennifer Budzinski</dc:creator>
  <dc:description/>
  <dc:language>en-US</dc:language>
  <cp:lastModifiedBy>Erich Friedman</cp:lastModifiedBy>
  <dcterms:modified xsi:type="dcterms:W3CDTF">2020-09-04T13:19:33Z</dcterms:modified>
  <cp:revision>319</cp:revision>
  <dc:subject/>
  <dc:title>Slide 1</dc:title>
</cp:coreProperties>
</file>