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7EE-149E-4FAF-A857-398BD715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0E1B-BC50-4594-A6D9-383B675C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45C-CEF0-4B3C-BCD2-779CD419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47C-FF63-4421-B127-B2285086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E74-9807-4B7B-B00A-A9F1178F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CA87-AE58-4FD0-86EB-DB20E30F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5B41-4305-4420-9A0F-E3DF0453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18A-F58A-4CEF-9A6D-4D84BB09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371-76DA-4842-B8A3-21D45F48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6A9-6C28-4437-A760-7F8D1F8F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F560-97A7-49B6-A4CF-80949349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93A8-760B-4EBA-84B3-A42D5AC4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9B4C-F4AE-4F80-8ACF-E6D04D17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52C-B111-4C15-BC8D-D1E5B60B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9F3-884E-470D-A074-613A2EE2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251-F404-4CAC-A6B0-7398FB35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A3E-8F03-4CA2-A6B4-AB688FD5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08B-7E03-455B-9585-37F0609B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7126-AD76-4F74-B66F-24FDF14C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469-3962-4EB3-8F4D-1CCCC891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D323-6217-4998-A744-E3717603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868-8A64-40BD-9ED7-FA3C1285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9788-7070-417F-BEFF-C28DC2E5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14680" y="77148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EN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O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ETHE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71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E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5564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TI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O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42960" y="723960"/>
            <a:ext cx="605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3:10:17Z</dcterms:created>
  <dc:creator>Jennifer Budzinski</dc:creator>
  <dc:description/>
  <dc:language>en-US</dc:language>
  <cp:lastModifiedBy>Erich Friedman</cp:lastModifiedBy>
  <dcterms:modified xsi:type="dcterms:W3CDTF">2020-09-04T13:19:33Z</dcterms:modified>
  <cp:revision>319</cp:revision>
  <dc:subject/>
  <dc:title>Slide 1</dc:title>
</cp:coreProperties>
</file>