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42B3-637F-45E6-B646-DD4780369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8D0E-53D5-4451-A85A-57936F27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DCA4-8262-439A-A8FC-4D36CFDD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D552-DB9D-4DC0-8BF0-61551B5BE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39D2-0B84-4B24-B8B9-669DB6BA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9847-83CC-4DBC-A5F0-70DB175E5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0818-9538-47FB-976A-553AF08B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BD5B-7FF3-4CB7-B093-4770795AB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3802B-72A1-453C-A2A0-581A8C3E4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65E4-0B43-40FE-8726-CBD24DC3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5631-5C6A-4295-A5B8-A0CC3B8BD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452-9C6D-4A4C-82E7-99386C14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0DD8-F80B-4511-91B9-54F9779C2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F593-D7FB-44B6-A6EE-75F21EDDF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BE8C-5D5D-4498-8EC4-F625B6486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60F-9055-4B0C-BECC-E1383A509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80F0-2839-4844-AB14-4C127B80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9D01-D6A2-4D03-9DAD-EEF1D62A9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A7D0-F954-4E57-BF52-C91AA6218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0A80-F53C-4F10-9D31-4962A0B57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5435-01F6-4A71-BAFA-745C591EA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22A-A7C7-46F0-89FB-7DD8392F3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2D8E-BBE4-4A7B-AA5D-79EB5B8A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MEN WITH THE SAME FIRST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3344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384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george_lopez-300x300.jpg"/>
          <p:cNvPicPr/>
          <p:nvPr/>
        </p:nvPicPr>
        <p:blipFill>
          <a:blip r:embed="rId1"/>
          <a:stretch/>
        </p:blipFill>
        <p:spPr>
          <a:xfrm>
            <a:off x="2895480" y="1447920"/>
            <a:ext cx="335304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HAR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LU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A-829795-1340957721-6022.jpeg.jpg"/>
          <p:cNvPicPr/>
          <p:nvPr/>
        </p:nvPicPr>
        <p:blipFill>
          <a:blip r:embed="rId1"/>
          <a:stretch/>
        </p:blipFill>
        <p:spPr>
          <a:xfrm>
            <a:off x="2133720" y="1523880"/>
            <a:ext cx="4724280" cy="32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OR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eorge-clooney-1.jpg"/>
          <p:cNvPicPr/>
          <p:nvPr/>
        </p:nvPicPr>
        <p:blipFill>
          <a:blip r:embed="rId1"/>
          <a:stretch/>
        </p:blipFill>
        <p:spPr>
          <a:xfrm>
            <a:off x="2362320" y="1371600"/>
            <a:ext cx="4368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TAK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81080" y="1523880"/>
            <a:ext cx="5181840" cy="332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OR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George_Orwell_press_photo.jpg"/>
          <p:cNvPicPr/>
          <p:nvPr/>
        </p:nvPicPr>
        <p:blipFill>
          <a:blip r:embed="rId1"/>
          <a:stretch/>
        </p:blipFill>
        <p:spPr>
          <a:xfrm>
            <a:off x="3281400" y="1371600"/>
            <a:ext cx="2581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83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george-burns-9232145-1-raw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79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george_lopez-300x300.jpg"/>
          <p:cNvPicPr/>
          <p:nvPr/>
        </p:nvPicPr>
        <p:blipFill>
          <a:blip r:embed="rId1"/>
          <a:stretch/>
        </p:blipFill>
        <p:spPr>
          <a:xfrm>
            <a:off x="2819520" y="14479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1200px-George_Harrison_1974_edited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94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eorge-lucas.jpg"/>
          <p:cNvPicPr/>
          <p:nvPr/>
        </p:nvPicPr>
        <p:blipFill>
          <a:blip r:embed="rId1"/>
          <a:stretch/>
        </p:blipFill>
        <p:spPr>
          <a:xfrm>
            <a:off x="2209680" y="1523880"/>
            <a:ext cx="4876920" cy="32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A-829795-1340957721-6022.jpeg.jpg"/>
          <p:cNvPicPr/>
          <p:nvPr/>
        </p:nvPicPr>
        <p:blipFill>
          <a:blip r:embed="rId1"/>
          <a:stretch/>
        </p:blipFill>
        <p:spPr>
          <a:xfrm>
            <a:off x="2165400" y="1447920"/>
            <a:ext cx="4813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orge-foreman-9298881-1-402.jpg"/>
          <p:cNvPicPr/>
          <p:nvPr/>
        </p:nvPicPr>
        <p:blipFill>
          <a:blip r:embed="rId1"/>
          <a:stretch/>
        </p:blipFill>
        <p:spPr>
          <a:xfrm>
            <a:off x="2895480" y="1523880"/>
            <a:ext cx="3337200" cy="333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eorge-carlin-4.jpg"/>
          <p:cNvPicPr/>
          <p:nvPr/>
        </p:nvPicPr>
        <p:blipFill>
          <a:blip r:embed="rId1"/>
          <a:stretch/>
        </p:blipFill>
        <p:spPr>
          <a:xfrm>
            <a:off x="2286000" y="1447920"/>
            <a:ext cx="4648320" cy="33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tar-Trek-George-Takei-Sexual-Assault-Model-Denial.jpg"/>
          <p:cNvPicPr/>
          <p:nvPr/>
        </p:nvPicPr>
        <p:blipFill>
          <a:blip r:embed="rId1"/>
          <a:stretch/>
        </p:blipFill>
        <p:spPr>
          <a:xfrm>
            <a:off x="1905120" y="1523880"/>
            <a:ext cx="5338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04:13:14Z</dcterms:created>
  <dc:creator>Jennifer Budzinski</dc:creator>
  <dc:description/>
  <dc:language>en-US</dc:language>
  <cp:lastModifiedBy>Erich Friedman</cp:lastModifiedBy>
  <dcterms:modified xsi:type="dcterms:W3CDTF">2020-09-04T13:43:44Z</dcterms:modified>
  <cp:revision>287</cp:revision>
  <dc:subject/>
  <dc:title>Slide 1</dc:title>
</cp:coreProperties>
</file>