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59EC-F3BE-4F87-9DD6-4428240E8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F462-5322-4F46-9C28-A2A57D551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247A-A7F6-4ECA-BC36-8AC6A3E80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88C4-C259-458F-9FAE-E7D512A9F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6682-7651-4092-8DEF-1C4432DB4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AF89-6735-4695-98A7-8EAD0FB43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AD5B-F381-4C60-9ABC-1AFB613A1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8372-CCB8-491D-844B-E39A8B26E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7EFD-A10F-4B33-A83D-E58DDB5DC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83CE-A06E-473B-812E-94CCB7AD1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9AD9-AAD6-469C-88C8-FF937DF7E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30FE-9B99-4FB3-83E5-C48357EB4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8047-F4A5-4BF1-9FF6-BC00B9690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72CC-4E3F-4190-B961-3A3D9CCE0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9068-E299-4D9C-8380-506F5C8BB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0095-EEF5-44CE-B222-8C53F61B1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A6D-DF08-4CD5-A4B9-C934771B7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A3BE-669C-47AF-8EB7-27BF927FA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E16C-FC9A-4759-B707-E20657523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8DEA-E373-4D6F-8A86-ECBA75E40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9D0C-DA85-406F-8297-B2BA3C83D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0AC6-237F-4305-AB45-B4E3175F1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7803-4FA5-4FFA-AE68-21B93CF42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TWO PEOPLE WITH THE SAME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IS THE LEAD SINGER OF MATCHBOX TWENTY    &amp; THE OTHER CREATED "VERONICA MARS", "PARTY DOWN" AND "IZOMB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ANG "GRACELAND" &amp; THE OTHER WAS AN ILLINOIS SEN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GRE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ROTE "THE POWER AND THE GLORY" AND "THE HEART OF THE MATTER" &amp; THE OTHER WON AN OSCAR FOR "DANCES WITH WOL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WA(H)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TARRED IN "TED" AND "THE FIGHTER" &amp; THE OTHER IS THE HOST OF "ANTIQUES ROAD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480" y="7477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NOMINATED FOR BEST ACTRESS FOR "BLUE VALENTINE" AND "MY WEEK WITH MARILYN"   &amp; THE OTHER WAS A MEMBER   OF DESTINY'S CHI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HATH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SHAKESPEARE'S WIFE &amp; THE OTHER WON BEST SUPPORTING ACTRESS FOR "LES MISÉRAB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CREATIVE FORCE OF THE BEACH BOYS &amp; THE OTHER WAS A RELIEF PITCHER FOR THE GIANTS AND DOD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ORIGINAL LEAD GUITARIST FOR THE CLASH &amp; THE OTHER IS THE FOUNDER OF FOREIG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SC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PLAYED BEN WYATT ON "PARKS AND RECREATION" &amp; THE OTHER WON THE 2013 MASTERS GOLF TOURN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ROTE "THE POWER AND THE GLORY" AND "THE HEART OF THE MATTER" &amp; THE OTHER WON AN OSCAR FOR "DANCES WITH WOLV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DRUMMER FOR QUEEN &amp; THE OTHER WAS THE DRUMMER FOR DURAN DUR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IS THE LEAD SINGER OF MATCHBOX TWENTY    &amp; THE OTHER CREATED "VERONICA MARS", "PARTY DOWN" AND "IZOMB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ANG "GRACELAND" &amp; THE OTHER WAS AN ILLINOIS SEN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TARRED IN "TED" AND "THE FIGHTER" &amp; THE OTHER IS THE HOST OF "ANTIQUES ROAD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480" y="7621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NOMINATED FOR BEST ACTRESS FOR "BLUE VALENTINE" AND "MY WEEK WITH MARILYN"   &amp; THE OTHER WAS A MEMBER  OF DESTINY'S CHI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SHAKESPEARE'S WIFE &amp; THE OTHER WON BEST SUPPORTING ACTRESS FOR "LES MISÉRAB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CREATIVE FORCE OF THE BEACH BOYS &amp; THE OTHER WAS A RELIEF PITCHER FOR THE GIANTS AND DODG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ORIGINAL LEAD GUITARIST FOR THE CLASH &amp; THE OTHER IS THE FOUNDER OF FOREIG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PLAYED BEN WYATT ON "PARKS AND RECREATION" &amp; THE OTHER WON THE 2013 MASTERS GOLF TOURN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WAS THE DRUMMER FOR QUEEN &amp; THE OTHER WAS THE DRUMMER FOR DURAN DUR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0T20:32:17Z</dcterms:created>
  <dc:creator>Jennifer Budzinski</dc:creator>
  <dc:description/>
  <dc:language>en-US</dc:language>
  <cp:lastModifiedBy>Erich Friedman</cp:lastModifiedBy>
  <dcterms:modified xsi:type="dcterms:W3CDTF">2020-09-04T15:01:28Z</dcterms:modified>
  <cp:revision>349</cp:revision>
  <dc:subject/>
  <dc:title>Slide 1</dc:title>
</cp:coreProperties>
</file>