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F68-1245-4C89-B9A5-C53462E5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1EA-15B9-4185-8196-BBA7C5BC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264D-297D-4FF7-98AC-FCB584F4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001-CAB0-4FA5-BFC6-70E55898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549F-5688-4314-817A-E3D66A66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2C49-E6C5-4A85-A545-D0748ACD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A0F5-22C7-4276-8D08-E825C833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A9DD-F27C-44BB-A46E-6294C5B6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FA2D-FCD3-48D7-AF16-E4A20A59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CC9-DCA1-4BF7-B241-167972D0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F46-28A7-4DB1-BDE4-8534C29D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E0E3-E0F9-4F38-9217-A716205D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D3A-A2FF-4314-B4A3-D2B77D0C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267E-DD9F-4C67-9E3A-CC487B56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BC0-FAF2-4EB9-AD22-1D23E2FA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9AA-345C-4086-9F81-BAC53693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0AC-E31F-4183-968C-36E834D7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AA7C-867D-470B-BD3E-09CACE28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47BE-47AD-4B9E-80BE-48BC3A1C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623-CE46-40B1-B586-926F6124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60A-ABCB-4C90-AD7B-A7A2D999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A9EF-31A8-41A3-887F-C5F39A2E4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59E-3F07-44F5-946A-F03046EC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WO PEOPLE WITH THE SAME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IS THE LEAD SINGER OF MATCHBOX TWENTY    &amp; THE OTHER CREATED "VERONICA MARS", "PARTY DOWN" AND "IZOMB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ANG "GRACELAND" &amp; THE OTHER WAS AN ILLINOIS SE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GRE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ROTE "THE POWER AND THE GLORY" AND "THE HEART OF THE MATTER" &amp; THE OTHER WON AN OSCAR FOR "DANCES WITH WO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WA(H)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RRED IN "TED" AND "THE FIGHTER" &amp; THE OTHER IS THE HOST OF "ANTIQUES ROAD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480" y="747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NOMINATED FOR BEST ACTRESS FOR "BLUE VALENTINE" AND "MY WEEK WITH MARILYN"   &amp; THE OTHER WAS A MEMBER   OF DESTINY'S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SHAKESPEARE'S WIFE &amp; THE OTHER WON BEST SUPPORTING ACTRESS FOR "LES MISÉR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CREATIVE FORCE OF THE BEACH BOYS &amp; THE OTHER WAS A RELIEF PITCHER FOR THE GIANTS AND DOD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ORIGINAL LEAD GUITARIST FOR THE CLASH &amp; THE OTHER IS THE FOUNDER OF FOREI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C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PLAYED BEN WYATT ON "PARKS AND RECREATION" &amp; THE OTHER WON THE 2013 MASTERS GOLF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ROTE "THE POWER AND THE GLORY" AND "THE HEART OF THE MATTER" &amp; THE OTHER WON AN OSCAR FOR "DANCES WITH WOL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DRUMMER FOR QUEEN &amp; THE OTHER WAS THE DRUMMER FOR DURAN DU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IS THE LEAD SINGER OF MATCHBOX TWENTY    &amp; THE OTHER CREATED "VERONICA MARS", "PARTY DOWN" AND "IZOMB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ANG "GRACELAND" &amp; THE OTHER WAS AN ILLINOIS SE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RRED IN "TED" AND "THE FIGHTER" &amp; THE OTHER IS THE HOST OF "ANTIQUES ROAD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480" y="7621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NOMINATED FOR BEST ACTRESS FOR "BLUE VALENTINE" AND "MY WEEK WITH MARILYN"   &amp; THE OTHER WAS A MEMBER  OF DESTINY'S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SHAKESPEARE'S WIFE &amp; THE OTHER WON BEST SUPPORTING ACTRESS FOR "LES MISÉR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CREATIVE FORCE OF THE BEACH BOYS &amp; THE OTHER WAS A RELIEF PITCHER FOR THE GIANTS AND DOD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ORIGINAL LEAD GUITARIST FOR THE CLASH &amp; THE OTHER IS THE FOUNDER OF FOREIG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PLAYED BEN WYATT ON "PARKS AND RECREATION" &amp; THE OTHER WON THE 2013 MASTERS GOLF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DRUMMER FOR QUEEN &amp; THE OTHER WAS THE DRUMMER FOR DURAN DU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20:32:17Z</dcterms:created>
  <dc:creator>Jennifer Budzinski</dc:creator>
  <dc:description/>
  <dc:language>en-US</dc:language>
  <cp:lastModifiedBy>Erich Friedman</cp:lastModifiedBy>
  <dcterms:modified xsi:type="dcterms:W3CDTF">2020-09-04T15:01:28Z</dcterms:modified>
  <cp:revision>349</cp:revision>
  <dc:subject/>
  <dc:title>Slide 1</dc:title>
</cp:coreProperties>
</file>