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513E-BF06-4E36-BECE-47853F838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B9C6-E4CF-45F8-99DC-CE4F46E4B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4F63-DB97-44B2-834B-DE4FBADEB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78C0-8073-42FF-B2D2-2D23EEE0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553F-8CDA-4F93-98B4-FAF716C8A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5E0B-2F44-4CCD-B975-B28998C4D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A831-1763-4676-B874-5A9CC5733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B1E7-DF11-47B9-A140-6A8486956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BFC9-62E5-4F45-B98C-2918BB9E1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88F5-A3FF-404D-AC9B-082E8DC1C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9D36-907F-4A54-B164-25AB89FAD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BF0C-48E3-429D-8681-5E8C7B34D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1E41-3D09-47B8-97C3-784FBFB7B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4F97-FE33-4874-8240-2E5212297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73EE-B8E1-434D-9F4B-A40506DA0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A591-2535-4F5B-9A59-C0895ACCC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5ECD-C66E-47C6-93F2-329DD2375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5564-E7A2-4A08-A575-4853F7586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A8F8-24F4-4658-9170-4CBE4BB40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8F22-79FB-4FCF-9A5E-BFF7290FE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95CB-F3D2-4046-91E5-BAB632D6A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FAC8-4ECF-4788-9D2F-C0209AC71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0773-7E07-4058-8C35-7FC84F8B0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CTORS AND ACTRESSES WHEN THEY WERE YOUN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6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59056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2398680" y="1265400"/>
            <a:ext cx="4346640" cy="36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6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3073320" y="1295280"/>
            <a:ext cx="2997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MIR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913120" y="1371600"/>
            <a:ext cx="33177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548080" y="1371600"/>
            <a:ext cx="4047840" cy="34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3022560" y="1295280"/>
            <a:ext cx="3098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IE  FO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3166920" y="1219320"/>
            <a:ext cx="281016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ZE  TH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1960560" y="1295280"/>
            <a:ext cx="52228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OWN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3102120" y="1295280"/>
            <a:ext cx="2939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3073320" y="1295280"/>
            <a:ext cx="2997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61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WAL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790720" y="1295280"/>
            <a:ext cx="3562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E  KE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59056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6656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BAIO  &amp;  BROOKE  SHIEL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760840" y="1295280"/>
            <a:ext cx="3620880" cy="30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913120" y="1371600"/>
            <a:ext cx="33177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548080" y="1371600"/>
            <a:ext cx="404784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022560" y="1295280"/>
            <a:ext cx="3098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3166920" y="1295280"/>
            <a:ext cx="281016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960560" y="1295280"/>
            <a:ext cx="52228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3102120" y="1295280"/>
            <a:ext cx="2939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52560" y="1295280"/>
            <a:ext cx="3638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13:42Z</dcterms:modified>
  <cp:revision>291</cp:revision>
  <dc:subject/>
  <dc:title>Slide 1</dc:title>
</cp:coreProperties>
</file>