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A34B5-0A53-4899-AF4A-E3A3AFA39A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93FD-F3E5-4A9F-AE68-44D318E07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3FD03-9ABC-4B84-B919-5D6715766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DCAE-E5B2-44C0-8023-D6B70548DE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5A9D1-2C0A-417A-A9A3-D380F8D41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6AEFC-8185-4D22-B9F3-E317931FB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FACD-BC07-44FA-8617-F478B7C585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2C41C-6082-443E-8C7D-7AFB03034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3EB2-49EC-49BC-9DFE-37D1AFC2B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2BAD9-BE73-47A7-833A-2175F30794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7293-21C3-4BE5-B49B-C53573B22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C46D-C4E7-4040-849A-305581B82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AFA8-BCAE-4472-921E-923BC96280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8F70-8FDC-4583-B1B0-24F00E2CD8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26660-C918-45F0-8648-CF25AEED3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C1224-F34F-4028-9763-D3BAD0A2A8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7E59E-A98E-4884-B3EE-B27CAA913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3EF20-FF98-4FB1-9BD7-621425166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E570-B658-4863-A71B-1FCA638C3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6C3CE-50C0-4011-B184-E38BCBA43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4899-4062-4F0E-8823-ED9391AEB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C680-69A6-43B8-BC65-2417313E8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7F75-0158-43EE-A58D-9244B9251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914400" y="1447560"/>
            <a:ext cx="7315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ACTORS AND ACTRESSES WHEN THEY WERE YOUNG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6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2590560" cy="359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4" descr=""/>
          <p:cNvPicPr/>
          <p:nvPr/>
        </p:nvPicPr>
        <p:blipFill>
          <a:blip r:embed="rId1"/>
          <a:stretch/>
        </p:blipFill>
        <p:spPr>
          <a:xfrm>
            <a:off x="2398680" y="1265400"/>
            <a:ext cx="4346640" cy="36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612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RUCE  WILL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"/>
          <p:cNvPicPr/>
          <p:nvPr/>
        </p:nvPicPr>
        <p:blipFill>
          <a:blip r:embed="rId1"/>
          <a:stretch/>
        </p:blipFill>
        <p:spPr>
          <a:xfrm>
            <a:off x="3073320" y="1295280"/>
            <a:ext cx="29973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HELEN  MIR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2" descr=""/>
          <p:cNvPicPr/>
          <p:nvPr/>
        </p:nvPicPr>
        <p:blipFill>
          <a:blip r:embed="rId1"/>
          <a:stretch/>
        </p:blipFill>
        <p:spPr>
          <a:xfrm>
            <a:off x="2913120" y="1371600"/>
            <a:ext cx="331776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CLOONE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2548080" y="1371600"/>
            <a:ext cx="4047840" cy="3479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CK  NICHOL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2" descr=""/>
          <p:cNvPicPr/>
          <p:nvPr/>
        </p:nvPicPr>
        <p:blipFill>
          <a:blip r:embed="rId1"/>
          <a:stretch/>
        </p:blipFill>
        <p:spPr>
          <a:xfrm>
            <a:off x="3022560" y="1295280"/>
            <a:ext cx="309888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MIE  FOX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"/>
          <p:cNvPicPr/>
          <p:nvPr/>
        </p:nvPicPr>
        <p:blipFill>
          <a:blip r:embed="rId1"/>
          <a:stretch/>
        </p:blipFill>
        <p:spPr>
          <a:xfrm>
            <a:off x="3166920" y="1219320"/>
            <a:ext cx="2810160" cy="3614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IZE  THER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2" descr=""/>
          <p:cNvPicPr/>
          <p:nvPr/>
        </p:nvPicPr>
        <p:blipFill>
          <a:blip r:embed="rId1"/>
          <a:stretch/>
        </p:blipFill>
        <p:spPr>
          <a:xfrm>
            <a:off x="1960560" y="1295280"/>
            <a:ext cx="52228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ROBERT  DOWNEY  J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"/>
          <p:cNvPicPr/>
          <p:nvPr/>
        </p:nvPicPr>
        <p:blipFill>
          <a:blip r:embed="rId1"/>
          <a:stretch/>
        </p:blipFill>
        <p:spPr>
          <a:xfrm>
            <a:off x="3102120" y="1295280"/>
            <a:ext cx="29397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"/>
          <p:cNvPicPr/>
          <p:nvPr/>
        </p:nvPicPr>
        <p:blipFill>
          <a:blip r:embed="rId1"/>
          <a:stretch/>
        </p:blipFill>
        <p:spPr>
          <a:xfrm>
            <a:off x="3073320" y="1295280"/>
            <a:ext cx="29973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6120"/>
            <a:ext cx="8458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OPHER  WAL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2" descr=""/>
          <p:cNvPicPr/>
          <p:nvPr/>
        </p:nvPicPr>
        <p:blipFill>
          <a:blip r:embed="rId1"/>
          <a:stretch/>
        </p:blipFill>
        <p:spPr>
          <a:xfrm>
            <a:off x="2790720" y="1295280"/>
            <a:ext cx="356256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IANE  KEA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3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2590560" cy="359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6656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7000"/>
          </a:bodyPr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COTT  BAIO  &amp;  BROOKE  SHIELD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26720" indent="-1267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"/>
          <p:cNvPicPr/>
          <p:nvPr/>
        </p:nvPicPr>
        <p:blipFill>
          <a:blip r:embed="rId1"/>
          <a:stretch/>
        </p:blipFill>
        <p:spPr>
          <a:xfrm>
            <a:off x="2760840" y="1295280"/>
            <a:ext cx="3620880" cy="307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"/>
          <p:cNvPicPr/>
          <p:nvPr/>
        </p:nvPicPr>
        <p:blipFill>
          <a:blip r:embed="rId1"/>
          <a:stretch/>
        </p:blipFill>
        <p:spPr>
          <a:xfrm>
            <a:off x="2913120" y="1371600"/>
            <a:ext cx="331776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"/>
          <p:cNvPicPr/>
          <p:nvPr/>
        </p:nvPicPr>
        <p:blipFill>
          <a:blip r:embed="rId1"/>
          <a:stretch/>
        </p:blipFill>
        <p:spPr>
          <a:xfrm>
            <a:off x="2548080" y="1371600"/>
            <a:ext cx="4047840" cy="347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3022560" y="1295280"/>
            <a:ext cx="30988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"/>
          <p:cNvPicPr/>
          <p:nvPr/>
        </p:nvPicPr>
        <p:blipFill>
          <a:blip r:embed="rId1"/>
          <a:stretch/>
        </p:blipFill>
        <p:spPr>
          <a:xfrm>
            <a:off x="3166920" y="1295280"/>
            <a:ext cx="2810160" cy="36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"/>
          <p:cNvPicPr/>
          <p:nvPr/>
        </p:nvPicPr>
        <p:blipFill>
          <a:blip r:embed="rId1"/>
          <a:stretch/>
        </p:blipFill>
        <p:spPr>
          <a:xfrm>
            <a:off x="1960560" y="1295280"/>
            <a:ext cx="522288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3102120" y="1295280"/>
            <a:ext cx="2939760" cy="358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2752560" y="1295280"/>
            <a:ext cx="3638880" cy="3657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9-05T12:13:42Z</dcterms:modified>
  <cp:revision>291</cp:revision>
  <dc:subject/>
  <dc:title>Slide 1</dc:title>
</cp:coreProperties>
</file>