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F57-C832-481D-8945-4DE72509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168-808B-42C6-B05B-23B0DF8BD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1EA3-E208-4104-B402-D3E9C1CD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FF51-06A7-4CA3-B91B-79DE0EE20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F0D2-C006-4EF5-9A38-279521EAF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0C60-B65E-43C4-B43E-7892651D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AAAB-E8DA-49DA-807B-ACA7F6BB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9C34-7149-4191-9CCC-62BCADEA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BDC-8223-4778-A9E9-582E50791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AE4B-C243-430D-B33E-1D43C891B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56D2-75C4-4972-9B13-7042738FC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3A7A-A247-436D-92D9-D4760C7C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FAE1-B582-46B3-BD2B-9F0AFC22F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EE6F-D874-432E-9F14-D43719993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373E-8642-436A-857B-BFB58BD6F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16F2-AA68-41EA-AF7D-AAAC5933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C96-AE2C-415C-B416-2D52C3F0E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5F45-164F-4429-B3D9-3A7D3CB9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5EC8-73A8-4F0C-9860-6029BCEBE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BD8-6F66-410E-8C33-2D7896CE8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0992-7F0C-442C-8828-0C5A289AF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19F2-0E63-4368-ACA3-1830F0A6F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36A1-EB54-4868-BB04-1A8AEF793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ATHLETES WHO WERE (OR ARE) AT THE TOP OF THEIR S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rack-hitting-speed-limit-barrow_vudty4.jpg"/>
          <p:cNvPicPr/>
          <p:nvPr/>
        </p:nvPicPr>
        <p:blipFill>
          <a:blip r:embed="rId1"/>
          <a:stretch/>
        </p:blipFill>
        <p:spPr>
          <a:xfrm>
            <a:off x="1600200" y="144792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73392618-1024x847.jpg"/>
          <p:cNvPicPr/>
          <p:nvPr/>
        </p:nvPicPr>
        <p:blipFill>
          <a:blip r:embed="rId1"/>
          <a:stretch/>
        </p:blipFill>
        <p:spPr>
          <a:xfrm>
            <a:off x="2590920" y="1447920"/>
            <a:ext cx="40528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130828123801-michael-jordan-iso-1998-all-star-game.video-player.jp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 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5a95ac1eaae6051e008b46af-750-375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9752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FED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8873210-3x2-940x627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59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P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rs-michael-phelps-7ffe00e9-e0c3-4778-bf12-8559af505182.jpg"/>
          <p:cNvPicPr/>
          <p:nvPr/>
        </p:nvPicPr>
        <p:blipFill>
          <a:blip r:embed="rId1"/>
          <a:stretch/>
        </p:blipFill>
        <p:spPr>
          <a:xfrm>
            <a:off x="1676520" y="1447920"/>
            <a:ext cx="58212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33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tom-brady-4517-usnews-getty-ftr_slmkna5vndow1b5401mhj52v8.jpg"/>
          <p:cNvPicPr/>
          <p:nvPr/>
        </p:nvPicPr>
        <p:blipFill>
          <a:blip r:embed="rId1"/>
          <a:stretch/>
        </p:blipFill>
        <p:spPr>
          <a:xfrm>
            <a:off x="1600200" y="1523880"/>
            <a:ext cx="601992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7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40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NE  GRET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retzky-wayne-oilers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29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71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24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780w.jpg"/>
          <p:cNvPicPr/>
          <p:nvPr/>
        </p:nvPicPr>
        <p:blipFill>
          <a:blip r:embed="rId1"/>
          <a:stretch/>
        </p:blipFill>
        <p:spPr>
          <a:xfrm>
            <a:off x="2209680" y="1447920"/>
            <a:ext cx="48006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130828123801-michael-jordan-iso-1998-all-star-game.video-player.jp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00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_J85jI_HahBSm4U8FSvCd3A.0.jpeg"/>
          <p:cNvPicPr/>
          <p:nvPr/>
        </p:nvPicPr>
        <p:blipFill>
          <a:blip r:embed="rId1"/>
          <a:stretch/>
        </p:blipFill>
        <p:spPr>
          <a:xfrm>
            <a:off x="2057400" y="1447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5335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AIN  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rack-hitting-speed-limit-barrow_vudty4.jpg"/>
          <p:cNvPicPr/>
          <p:nvPr/>
        </p:nvPicPr>
        <p:blipFill>
          <a:blip r:embed="rId1"/>
          <a:stretch/>
        </p:blipFill>
        <p:spPr>
          <a:xfrm>
            <a:off x="1600200" y="144792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73392618-1024x847.jpg"/>
          <p:cNvPicPr/>
          <p:nvPr/>
        </p:nvPicPr>
        <p:blipFill>
          <a:blip r:embed="rId1"/>
          <a:stretch/>
        </p:blipFill>
        <p:spPr>
          <a:xfrm>
            <a:off x="2590920" y="1447920"/>
            <a:ext cx="40528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5a95ac1eaae6051e008b46af-750-375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9752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8873210-3x2-940x627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59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s-michael-phelps-7ffe00e9-e0c3-4778-bf12-8559af505182.jpg"/>
          <p:cNvPicPr/>
          <p:nvPr/>
        </p:nvPicPr>
        <p:blipFill>
          <a:blip r:embed="rId1"/>
          <a:stretch/>
        </p:blipFill>
        <p:spPr>
          <a:xfrm>
            <a:off x="1676520" y="1447920"/>
            <a:ext cx="58212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tom-brady-4517-usnews-getty-ftr_slmkna5vndow1b5401mhj52v8.jpg"/>
          <p:cNvPicPr/>
          <p:nvPr/>
        </p:nvPicPr>
        <p:blipFill>
          <a:blip r:embed="rId1"/>
          <a:stretch/>
        </p:blipFill>
        <p:spPr>
          <a:xfrm>
            <a:off x="1600200" y="1523880"/>
            <a:ext cx="601992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retzky-wayne-oilers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293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84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780w.jpg"/>
          <p:cNvPicPr/>
          <p:nvPr/>
        </p:nvPicPr>
        <p:blipFill>
          <a:blip r:embed="rId1"/>
          <a:stretch/>
        </p:blipFill>
        <p:spPr>
          <a:xfrm>
            <a:off x="2209680" y="1447920"/>
            <a:ext cx="480060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_J85jI_HahBSm4U8FSvCd3A.0.jpeg"/>
          <p:cNvPicPr/>
          <p:nvPr/>
        </p:nvPicPr>
        <p:blipFill>
          <a:blip r:embed="rId1"/>
          <a:stretch/>
        </p:blipFill>
        <p:spPr>
          <a:xfrm>
            <a:off x="2057400" y="1447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17:06:55Z</dcterms:created>
  <dc:creator>Jennifer Budzinski</dc:creator>
  <dc:description/>
  <dc:language>en-US</dc:language>
  <cp:lastModifiedBy>Erich Friedman</cp:lastModifiedBy>
  <dcterms:modified xsi:type="dcterms:W3CDTF">2020-09-04T15:46:42Z</dcterms:modified>
  <cp:revision>288</cp:revision>
  <dc:subject/>
  <dc:title>Slide 1</dc:title>
</cp:coreProperties>
</file>