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2530-74EB-44F6-9E1A-D0EFB0393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A822-EDDE-4D74-BDA1-11D8EB6CB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46A-B37F-4A19-ACCC-30D97569F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FF3F-97A1-486C-929F-3317318C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BEA4-D8DD-4DA8-BC89-B4C89ABC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0A40-7DA2-4346-984E-F6DE3455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4567-71E5-4663-A360-6CF00480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46A0-6603-475C-BBC6-40EAEF8C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D471-0AD7-4A9A-9E9B-437D98EA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E3C-171D-4BF4-9A8E-EB47891CF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07C9-6900-4953-9753-3E83B4BF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D0CA-6ADC-45D6-892B-7EC316E7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35A57-9F8E-4547-AF3B-19645241F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F137-37BD-49F9-A40F-281C80A1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AF16-31D7-40E9-AD31-90B08469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4EC8-6C09-42DA-A0FC-62085606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2CEE-2567-4CD1-819A-9266B18E0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574D-BC57-43A1-8EC3-53C59541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2168-A16B-4E0C-88B7-03AD0B023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D349-4464-4CF4-AF1A-8CD47409F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C621-59E7-4A7F-9E03-552F9856C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B22F-F903-4FC6-8693-D6EB36B83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9129-A300-4D89-AD35-83F5232A0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99840" y="12949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WOMEN IN THE 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jane austen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llafitzgerald-hero-61346973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602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  KAH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rida kahl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nne frank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5784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BILLIE HOLIDA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11820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mily brontë.png"/>
          <p:cNvPicPr/>
          <p:nvPr/>
        </p:nvPicPr>
        <p:blipFill>
          <a:blip r:embed="rId1"/>
          <a:stretch/>
        </p:blipFill>
        <p:spPr>
          <a:xfrm>
            <a:off x="1600200" y="1295280"/>
            <a:ext cx="579132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agatha christ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O'KEE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ORGIA O'KEEFF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ÉDITH  PI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édith pia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frida kahl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virginia woolf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jane austen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llafitzgerald-hero-61346973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602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nne frank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5784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BILLIE HOLIDA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11820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mily brontë.png"/>
          <p:cNvPicPr/>
          <p:nvPr/>
        </p:nvPicPr>
        <p:blipFill>
          <a:blip r:embed="rId1"/>
          <a:stretch/>
        </p:blipFill>
        <p:spPr>
          <a:xfrm>
            <a:off x="1600200" y="1295280"/>
            <a:ext cx="579132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agatha christ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ORGIA O'KEEFF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́dith pia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virginia woolf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3:12:33Z</dcterms:created>
  <dc:creator>Jennifer Budzinski</dc:creator>
  <dc:description/>
  <dc:language>en-US</dc:language>
  <cp:lastModifiedBy>Erich Friedman</cp:lastModifiedBy>
  <dcterms:modified xsi:type="dcterms:W3CDTF">2020-09-04T16:00:02Z</dcterms:modified>
  <cp:revision>289</cp:revision>
  <dc:subject/>
  <dc:title>Slide 1</dc:title>
</cp:coreProperties>
</file>