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ADA3-532F-4A4F-B9FB-23FC1F6D0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AF81-2984-4EE1-A0CE-74302265F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4BCE-FD32-4761-AB5F-8E35CBB2B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FF5D-D384-43BD-A7AF-A6404D042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A893-BF55-460C-95B1-565B09A36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5BEE-D58D-4843-9D19-202D4A9B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0C67-EB72-4363-8672-87EF756C4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D3BE-0201-4D60-B707-7DC423F64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22A3-9B6F-42BF-A6C2-95106084F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A50A-8D3D-434A-81C1-1622B7E8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CD3E-46F6-4A0C-BCA6-D2F35E41E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28AD-096A-4890-BFC8-128E0F96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7997-18E7-4957-8165-EA0F46B0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B60D-6BFF-44A7-BBD7-87EDE2BF6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A30B-14BF-4CD0-B09A-AD43F7B6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ABF0-9371-4FFB-ACBE-C3BAD57EE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7730-196A-4B05-B5D6-AC58BA9E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E908-CAF2-4D20-9882-BEEF474F4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F1C9-51E1-408E-8DCC-1915D0EB5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4B44-554A-4D26-B6CF-75E2E4A9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DA12-E84C-4DCF-9B35-46115A4CA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622-03C8-4266-834B-4C464C47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D4F8-14CA-48EE-AE93-FAE760CF4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99840" y="129492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WOMEN IN THE 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jane austen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ellafitzgerald-hero-613469734.jpg"/>
          <p:cNvPicPr/>
          <p:nvPr/>
        </p:nvPicPr>
        <p:blipFill>
          <a:blip r:embed="rId1"/>
          <a:stretch/>
        </p:blipFill>
        <p:spPr>
          <a:xfrm>
            <a:off x="1295280" y="1295280"/>
            <a:ext cx="6602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  KAH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frida kahl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F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nne frank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5784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BILLIE HOLIDAY.png"/>
          <p:cNvPicPr/>
          <p:nvPr/>
        </p:nvPicPr>
        <p:blipFill>
          <a:blip r:embed="rId1"/>
          <a:stretch/>
        </p:blipFill>
        <p:spPr>
          <a:xfrm>
            <a:off x="1523880" y="1295280"/>
            <a:ext cx="611820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Y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emily brontë.png"/>
          <p:cNvPicPr/>
          <p:nvPr/>
        </p:nvPicPr>
        <p:blipFill>
          <a:blip r:embed="rId1"/>
          <a:stretch/>
        </p:blipFill>
        <p:spPr>
          <a:xfrm>
            <a:off x="1600200" y="1295280"/>
            <a:ext cx="579132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agatha christie.jp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  O'KEE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EORGIA O'KEEFF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ÉDITH  PI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édith pia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frida kahl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WO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virginia woolf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A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jane austen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A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llafitzgerald-hero-613469734.jpg"/>
          <p:cNvPicPr/>
          <p:nvPr/>
        </p:nvPicPr>
        <p:blipFill>
          <a:blip r:embed="rId1"/>
          <a:stretch/>
        </p:blipFill>
        <p:spPr>
          <a:xfrm>
            <a:off x="1295280" y="1295280"/>
            <a:ext cx="6602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nne frank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5784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BILLIE HOLIDAY.png"/>
          <p:cNvPicPr/>
          <p:nvPr/>
        </p:nvPicPr>
        <p:blipFill>
          <a:blip r:embed="rId1"/>
          <a:stretch/>
        </p:blipFill>
        <p:spPr>
          <a:xfrm>
            <a:off x="1523880" y="1295280"/>
            <a:ext cx="61182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emily brontë.png"/>
          <p:cNvPicPr/>
          <p:nvPr/>
        </p:nvPicPr>
        <p:blipFill>
          <a:blip r:embed="rId1"/>
          <a:stretch/>
        </p:blipFill>
        <p:spPr>
          <a:xfrm>
            <a:off x="1600200" y="1295280"/>
            <a:ext cx="579132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agatha christie.jp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EORGIA O'KEEFF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édith pia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virginia woolf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3:12:33Z</dcterms:created>
  <dc:creator>Jennifer Budzinski</dc:creator>
  <dc:description/>
  <dc:language>en-US</dc:language>
  <cp:lastModifiedBy>Erich Friedman</cp:lastModifiedBy>
  <dcterms:modified xsi:type="dcterms:W3CDTF">2020-09-04T16:00:02Z</dcterms:modified>
  <cp:revision>289</cp:revision>
  <dc:subject/>
  <dc:title>Slide 1</dc:title>
</cp:coreProperties>
</file>