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86EB-477D-49ED-9416-7E96C3EE0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DA5A-0B96-4F98-B580-3897E19E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26F-0132-4BC3-9250-A93EB47C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15F-7A7B-4195-9862-1AF802BA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133-1264-40C3-AA97-6F10D1C7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E37-681A-420B-998E-A533144D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BCA-025C-4EF7-BFDA-0B188129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A00-6C0B-45ED-9A61-2C5850ADE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1069-64F3-4589-94BD-0013CBE5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72E-93B1-493F-AB23-F60F6E12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2A1-B88D-474D-94BB-497E62DF6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FFF8-3EDD-41B6-B9FB-7036123A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CD8-90AD-45D8-9716-348FF7B8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E5E-0B5D-44A6-A166-91CC2732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D20-1A10-4772-8F61-89AA3CA24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F853-C177-4E75-B098-16E5621C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3DD-466C-4E69-9155-BCC54261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1A4-84A0-4718-9B42-30F7C587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DC9B-E4DE-4BF7-8074-8D665DEF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282-1A32-4088-8454-75B55C19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ED56-EB2A-4A1C-A9BE-96308A61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A13-53A8-4E38-8096-DC6F8A8E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2A7C-5F0E-4BEC-8CDA-DA9659B8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99840" y="12949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 IN 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  KAH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ÉDITH  P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3:12:33Z</dcterms:created>
  <dc:creator>Jennifer Budzinski</dc:creator>
  <dc:description/>
  <dc:language>en-US</dc:language>
  <cp:lastModifiedBy>Erich Friedman</cp:lastModifiedBy>
  <dcterms:modified xsi:type="dcterms:W3CDTF">2020-09-04T16:00:02Z</dcterms:modified>
  <cp:revision>289</cp:revision>
  <dc:subject/>
  <dc:title>Slide 1</dc:title>
</cp:coreProperties>
</file>