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8A1D-E800-4376-A130-F43421FC8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1DD2-DE32-4AB2-A2B4-445ED4303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5F1B-2BBC-42E7-A048-F8DCBE6D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DD94C-4535-409F-9E46-963B3E065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A7F3-43E2-479C-BDA2-75EB2CE1B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29B6-4735-41CE-A885-C92164DC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5C7-A18A-4645-B2AF-6CEBE24A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1B9E-50A9-45E5-B40D-FB6F07AA3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5154-87FF-4BFB-8B93-FA1450D32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EB2E-B2B6-4FC6-AC42-3C42228A6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D608-35CA-44BD-854B-3DF016CAA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B2CA-DC58-4E0C-B889-A17C80A4D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A4ED-9FE2-4DA1-8D01-E46791DE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0BAA-4C07-4432-93C5-C4E9A8E80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8B6A-3F7E-4F82-A5F2-4F35E6C49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5615-F924-4650-A74A-60A12B4D4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3A6F-901F-4A2C-8461-38671008F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9BF0-DBA3-4BB8-9198-FE706C6AA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3D12-1DA4-4818-82F8-22D97EC6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2205-91DA-47D5-8302-19E3C6D5C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18BB-2241-4BE4-AC0E-048ADF5C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3DA2-E0BA-4CEA-BEB6-73C67DB89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9893-A588-44B4-BFA4-81E221B57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NAMED AFTER WOME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XAN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G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CHIE  VAL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570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41360" y="4869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UR  T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RNAD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SAN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356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1720" y="762120"/>
            <a:ext cx="8077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OLE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UR  SEA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R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G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LMAN  BROTHERS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LISS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XAN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MANI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RNAD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SAN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OLE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R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ELISS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3:55:02Z</dcterms:created>
  <dc:creator>Jennifer Budzinski</dc:creator>
  <dc:description/>
  <dc:language>en-US</dc:language>
  <cp:lastModifiedBy>Erich Friedman</cp:lastModifiedBy>
  <dcterms:modified xsi:type="dcterms:W3CDTF">2020-08-29T17:35:19Z</dcterms:modified>
  <cp:revision>314</cp:revision>
  <dc:subject/>
  <dc:title>Slide 1</dc:title>
</cp:coreProperties>
</file>