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A6B7-B016-43B9-A427-4FBD1759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0AB5-708B-45DA-B890-33B9ADB9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CA8-7CE2-4E05-BABF-D847D64E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5C76-43CC-4E4A-976B-06627B5F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4231-5103-4E0B-9CA4-8D7F79C12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5972-6267-44BC-B35C-67190DEB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07B-9A70-493E-9C48-A3AF2732E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71B3-46C7-46E1-AD92-05D9A5CC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A67C-8978-4A37-86BB-31B3E345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ECD2-CD42-4F0A-BBD1-AD58FB75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D588-6BA5-4A88-97AF-B5E53F06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1FF-5F7C-4044-99AC-825A6C057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F85A-6511-4981-B2FE-FAF7FE334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873-CF37-4639-8FD3-2A947EBC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6C9-707A-47EB-A962-46BC4BE5A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555-93C0-4C18-9A8B-BBA72C56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7E16-56AD-4BB8-B9A0-4A535875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0417-4E67-4FB4-8CD0-04A510CC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0E54-69A2-42D9-B0FC-CBFB765F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6FF2-EFD8-4E21-83D5-D37974B49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D943-7E0C-4427-827B-6D82BC77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6DE-2121-43EB-B4FA-ED0FD0C47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59A-7BBA-4079-904A-AF7AF61F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NAMED AFTER WOM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XAN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CHIE  VAL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57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4136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UR  T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RNAD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AN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356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1720" y="7621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OLE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LMAN  BROTHERS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ISS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XAN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MANI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RNAD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AN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OLE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ISS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3:55:02Z</dcterms:created>
  <dc:creator>Jennifer Budzinski</dc:creator>
  <dc:description/>
  <dc:language>en-US</dc:language>
  <cp:lastModifiedBy>Erich Friedman</cp:lastModifiedBy>
  <dcterms:modified xsi:type="dcterms:W3CDTF">2020-08-29T17:35:19Z</dcterms:modified>
  <cp:revision>314</cp:revision>
  <dc:subject/>
  <dc:title>Slide 1</dc:title>
</cp:coreProperties>
</file>