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A449-BF2E-4D1A-9415-BDBFEA480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4E28-84C1-4F39-B188-1147C3E92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5C5F-EAF8-4F60-998D-1BA166B5F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176E-A5F3-40EA-8DB6-BCCD708DE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A2EF-6F71-4227-9D6F-F4FE4F950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0FD5-B0DF-4E20-8992-2A5AE938B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AF67-DE61-4786-B7E6-870327081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1B44-941C-412B-8910-844BE0582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56AED-E7FA-4301-B4C4-4250F60C8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CC82-BC22-41A1-B4AE-C75C6061D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75F8-2A95-4EC4-A3E2-51F79D2B5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A00C-14C7-45E9-AF52-83F14F294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EA13-6BE2-48A3-9E19-D7937F484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6BBE-72CD-4C67-BAF6-A3F32D11B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C6B1-95BA-4242-B7A6-FBCF5714F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8648-6F77-428C-AB76-D76F732C7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B5F2-E50D-430E-AD00-EEBE7F102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9473-6328-4C19-8A9F-8810AB10A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6E85-2FFE-409C-B7A8-C7BC2D3D5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43A2-0EBA-4243-841A-47E95B8BB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F897-843E-4B5F-8F4C-0DD12034F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26F3-C502-4CED-96FA-373F9675E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5D3E-8404-494D-818D-D03B635DC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9903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SONGS ABOUT NIGH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TURDAY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WISTIN' THE NIGHT A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ONEL  RICH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752480" y="762120"/>
            <a:ext cx="5639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NIGHT LONG (ALL NIGHT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ODY  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IGHTS IN WHITE SAT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HARD DAY'S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0536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CO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OTHER SATURDAY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87624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COU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714680" y="762120"/>
            <a:ext cx="5715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IN'T EVEN DONE WITH THE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LLING  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486080" y="762120"/>
            <a:ext cx="61722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T'S SPEND THE NIGHT TOGET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LY BY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171520" y="762120"/>
            <a:ext cx="4800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NIGHT LONG (ALL NIGHT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DIA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86080" y="762120"/>
            <a:ext cx="6172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ANK THE LORD FOR THE NIGHT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16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Y  CITY  ROL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57480" y="762120"/>
            <a:ext cx="6629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TURDAY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  CO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WISTIN' THE NIGHT A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IGHTS IN WHITE SAT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86080" y="76212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HARD DAY'S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NOTHER SATURDAY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6096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IN'T EVEN DONE WITH THE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T'S SPEND THE NIGHT TOGETH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FLY BY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ANK THE LORD FOR THE NIGHT TI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0T02:06:00Z</dcterms:created>
  <dc:creator>Jennifer Budzinski</dc:creator>
  <dc:description/>
  <dc:language>en-US</dc:language>
  <cp:lastModifiedBy>Erich Friedman</cp:lastModifiedBy>
  <dcterms:modified xsi:type="dcterms:W3CDTF">2020-08-29T18:00:59Z</dcterms:modified>
  <cp:revision>339</cp:revision>
  <dc:subject/>
  <dc:title>Slide 1</dc:title>
</cp:coreProperties>
</file>