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E80-747F-48F6-8B44-3B4DD42E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CE2-0E88-46E5-898B-F279A59A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CEE-E5C2-4956-AA6E-A988F3C5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C6B-4B08-43C3-A50B-CCB2B0EF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BD3-6319-4A47-87BE-F899DE812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9DF8-FB34-49B7-BFBC-3BFFDC92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665-44A0-4B13-BBB4-CCE92E70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313D-5C17-4CE8-B109-9859BC5A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8D1-953C-4938-875F-D738BE602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2144-62A8-4039-BCE7-D69A65B4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7715-2DBC-4079-A923-2C7E398A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096-164E-4AF3-8A50-E15EBAAC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2CE5-8AEE-49F7-BB2B-331723D4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400E-3165-4D8B-B893-288E2707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C2A-69F7-4E3E-882D-61601937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92F-D4CA-4F92-AFE8-BA06EE5AB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1CE-C7D3-416C-B9E9-2D63EC02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0491-4D49-4AF1-9960-DD89199F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FF6C-BC85-4C2F-845B-EDBC3541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BA8B-3EB9-4044-9D56-78EDD85F9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E21-FBF1-41E0-B32B-88EF52B87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E92-4004-46CE-9A00-A75D4E79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1A8-D235-4822-9A65-7E9E6EFE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EL  RICH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52480" y="762120"/>
            <a:ext cx="5639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53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O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86080" y="762120"/>
            <a:ext cx="61722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171520" y="7621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16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  CITY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2:06:00Z</dcterms:created>
  <dc:creator>Jennifer Budzinski</dc:creator>
  <dc:description/>
  <dc:language>en-US</dc:language>
  <cp:lastModifiedBy>Erich Friedman</cp:lastModifiedBy>
  <dcterms:modified xsi:type="dcterms:W3CDTF">2020-08-29T18:00:59Z</dcterms:modified>
  <cp:revision>339</cp:revision>
  <dc:subject/>
  <dc:title>Slide 1</dc:title>
</cp:coreProperties>
</file>