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AD424-2712-45BF-A90E-058D0EFB7C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4AA24-5FD1-421E-B285-27FAABDA96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1797D-8A8C-43FE-A251-9B05E9975A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BDAAA-DDAD-444B-95DA-7E20E5D625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1BC61-465A-4DB3-90E8-B4B3DE8771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D241B-6D80-4A42-B1FF-B2F3B8252F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1DE93-C8C6-40D6-8D8A-37BD2896F6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680B8-B231-4B0E-8858-D8BE129A8D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E432D-72D2-4152-AC3F-6429311865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A7FAF-EA8D-4C57-8E3E-E45CA7676C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1FE9A-3032-4B5C-BD73-740D667653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08423-E7DC-4A2F-A71E-C7D17732A4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97061-5B3B-4FE7-9521-E0F122F51C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5F12D-C9DE-4D98-93FB-5712BDB387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5C085-77C0-419D-A90C-FAE7B5A877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25558-A8CE-474B-A23D-6AAFE05566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FB702-DB1B-4782-893C-D2CAF9E6F8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F77C2-4E8F-4F7D-BABC-93C5294C38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A32CA-5E36-4A3E-B59B-BB5C0C9D21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F1CB1-2828-4344-B6DD-78D7AE3E64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6B040-7753-4C47-BA96-B5F3CB7088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55DA1-4C9D-459E-B4FC-E5485FF169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AD7D3-A1AA-4B01-98FC-6F203A81A0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914400" y="990360"/>
            <a:ext cx="73152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O SANG THESE SONGS ABOUT NIGHT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228600" y="76176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SATURDAY NIGHT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800280" y="762120"/>
            <a:ext cx="75438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TWISTIN' THE NIGHT AWAY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IONEL  RICHI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1752480" y="762120"/>
            <a:ext cx="563904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ALL NIGHT LONG (ALL NIGHT)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MOODY  BLU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533520" y="762120"/>
            <a:ext cx="80769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NIGHTS IN WHITE SATI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BEAT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1523880" y="762120"/>
            <a:ext cx="60962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A HARD DAY'S NIGHT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905360"/>
            <a:ext cx="84582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AM  COOK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876240" y="762120"/>
            <a:ext cx="73915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ANOTHER SATURDAY NIGHT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876240" y="4876920"/>
            <a:ext cx="73915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HN  COUG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1714680" y="762120"/>
            <a:ext cx="57150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AIN'T EVEN DONE WITH THE NIGHT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ROLLING  STO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1486080" y="762120"/>
            <a:ext cx="6172200" cy="27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LET'S SPEND THE NIGHT TOGETHER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US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914400" y="762120"/>
            <a:ext cx="73152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FLY BY NIGHT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2171520" y="762120"/>
            <a:ext cx="4800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ALL NIGHT LONG (ALL NIGHT)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457200" y="4876920"/>
            <a:ext cx="8229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EIL  DIAMO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1486080" y="762120"/>
            <a:ext cx="61722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THANK THE LORD FOR THE NIGHT TIM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11160" y="4876920"/>
            <a:ext cx="9144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AY  CITY  ROLL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1257480" y="762120"/>
            <a:ext cx="66294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SATURDAY NIGHT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AM  COOK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762120" y="762120"/>
            <a:ext cx="76197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TWISTIN' THE NIGHT AWAY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NIGHTS IN WHITE SATIN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1486080" y="762120"/>
            <a:ext cx="6172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A HARD DAY'S NIGHT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723960" y="762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ANOTHER SATURDAY NIGHT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1523880" y="762120"/>
            <a:ext cx="60962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AIN'T EVEN DONE WITH THE NIGHT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1485720" y="761760"/>
            <a:ext cx="61722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LET'S SPEND THE NIGHT TOGETHER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876240" y="761760"/>
            <a:ext cx="73915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FLY BY NIGHT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1143000" y="762120"/>
            <a:ext cx="68580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THANK THE LORD FOR THE NIGHT TIM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30T02:06:00Z</dcterms:created>
  <dc:creator>Jennifer Budzinski</dc:creator>
  <dc:description/>
  <dc:language>en-US</dc:language>
  <cp:lastModifiedBy>Erich Friedman</cp:lastModifiedBy>
  <dcterms:modified xsi:type="dcterms:W3CDTF">2020-08-29T18:00:59Z</dcterms:modified>
  <cp:revision>339</cp:revision>
  <dc:subject/>
  <dc:title>Slide 1</dc:title>
</cp:coreProperties>
</file>