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1E9D-A90A-4FFD-8430-EE7450492F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AEFE-420C-420A-B419-7E2E54FA5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4703-7192-4897-A3E5-18C329749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A608-3EBF-47A6-BD31-8B0A31F51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AC07-5258-4EA0-8FDC-8226F990E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4B27-C61F-449A-ACC5-C5B2436FC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5157-A866-4A8C-8E67-6169AC284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EFE1-C8F9-4A82-B73A-1769AA3FA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90A0-603D-402D-BDEE-84E4E317D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AAFF-36E6-48C2-BDFC-312FB6D17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B52E-2461-4F2E-974B-7DA0886E1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93B6-49E0-4F79-BF0C-7C47F0FCB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0F4A-995F-474C-A35C-3DE58FFE9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354C-A6C0-42A7-9527-7EBCD4D67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A910-1BB1-4855-80E7-E5660FC00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7944-BF23-484C-AE62-1C2A4E042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6474-4C3B-474B-909C-11B3FA9E2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FE84-432A-4C51-9F43-71D1DA2E4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FD88-2660-4B9D-AD05-3A3B0A0D4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96BE-BE07-4F44-A27C-308D5A8F5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DFEA-215A-4ADC-A4A9-44F819FEB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634D-3CBF-4A06-A1D4-8C95196D1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C287-CB17-4F55-BDB5-62ECF6518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066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"BABY" SON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Y BABY C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333440" y="762120"/>
            <a:ext cx="6477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WEET BABY JAM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UPR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BY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FRAM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90680" y="762120"/>
            <a:ext cx="6362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BY I LOVE YOUR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NILLA  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CE ICE BA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6576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TNEY  S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35040" y="762120"/>
            <a:ext cx="607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... BABY ONE MORE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NA  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47760" y="762120"/>
            <a:ext cx="6648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TO LOVE YOU BA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NET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85760" y="762120"/>
            <a:ext cx="6972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E MY BA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BY HOLD 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BY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9800" y="4343400"/>
            <a:ext cx="5864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OKEY  ROBINSON  AND  THE  MIRA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OO BABY BA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Y BABY C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447920" y="762120"/>
            <a:ext cx="6248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WEET BABY JAM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352520" y="761760"/>
            <a:ext cx="6438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BY I LOVE YOUR 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CE ICE BA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04800" y="762120"/>
            <a:ext cx="6134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... BABY ONE MORE TI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43160" y="762120"/>
            <a:ext cx="645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TO LOVE YOU BA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81000" y="761760"/>
            <a:ext cx="718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E MY BA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BY HOLD 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OO BABY BA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9T18:01:38Z</dcterms:modified>
  <cp:revision>362</cp:revision>
  <dc:subject/>
  <dc:title>Slide 1</dc:title>
</cp:coreProperties>
</file>