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ACA6-8752-4E3B-A55F-98B72D4CE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27BD-A37E-4BA0-99C9-188E3CD7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DA01-4A37-41D7-9DF9-3C9FFD5F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F818-B3C1-422C-A224-B4DF539AE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1DA9-8F54-413B-A9DD-983390FAC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3DDC-C6D2-40C8-A82E-0D084398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9816-7D24-43E5-ABBA-A34FE624D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709E-EEBB-401B-9033-62B43F89C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12CD-221E-4194-A6AF-5CBFB6410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6F9F-A753-42B1-8E4C-82B96077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451F-9307-45EB-BB69-64CA1EC85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3144-F4CF-4956-8605-0F7A1C843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80A4-7D42-4859-8302-7DC356BFD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4900-AD9D-411E-93D1-11469E68B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3124-63D7-4EFC-A535-51D68EBEC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0CD0-D19E-4E31-957C-59E349BF9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1F44-3329-4DFC-8547-73A511262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7578-3ECE-4B65-9500-470652E2D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B755-C137-4BF5-AE0B-72B06DDC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5BA6-DB7C-492D-B24F-08E6609D3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8C2C-91EC-40E6-A0C3-E4AAD5C5B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F54A-1A8B-437F-8D67-ED42AC25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2019-DF09-4D47-AD0F-21BBA5E20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BABY"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Y BABY C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WEET BABY JA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UPR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FRAM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90680" y="762120"/>
            <a:ext cx="63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I LOVE YOUR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ILLA  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CE ICE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576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NEY  S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35040" y="762120"/>
            <a:ext cx="607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... BABY ONE MORE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A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47760" y="762120"/>
            <a:ext cx="6648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TO LOVE YOU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NET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85760" y="762120"/>
            <a:ext cx="6972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E MY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HOLD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9800" y="4343400"/>
            <a:ext cx="5864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EY  ROBINSON  AND  THE  MIRA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OO BABY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Y BABY C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47920" y="762120"/>
            <a:ext cx="6248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WEET BABY JA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I LOVE YOUR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CE ICE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04800" y="762120"/>
            <a:ext cx="6134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... BABY ONE MORE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43160" y="762120"/>
            <a:ext cx="645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TO LOVE YOU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81000" y="761760"/>
            <a:ext cx="718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E MY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HOLD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OO BABY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9T18:01:38Z</dcterms:modified>
  <cp:revision>362</cp:revision>
  <dc:subject/>
  <dc:title>Slide 1</dc:title>
</cp:coreProperties>
</file>