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3EA-7236-4806-B6A4-7FBE8A37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7A3A-7F2F-4C38-875A-FDE8800B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532-FAAE-4878-9035-23F77AB6D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F7E-F6D4-49FA-9EF4-CEDA8001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DA9F-97EC-4714-8B58-FB45DEC1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1EB-F93F-4CDB-BFED-5E298E0A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280A-E4D6-45FC-8071-549C1A7A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A1DF-4E87-4562-A63D-2D3AC0FC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98A-B962-41CF-8425-35C399A3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4EB-6C9E-4FB4-8C94-5E04CDC5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A15-27ED-4228-B130-6BB64A82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9F62-2DF2-4B6D-BC81-1F1CC161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B664-DA2F-440A-95B5-01AAE3B6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139-2014-443A-9945-B9BB87C9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604-BBB6-4B42-86E7-62B1E744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54F-93AF-4CCE-A5B9-B91E5A79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A6B8-8F64-4BC3-8012-1B1F24E3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8EE4-38C6-4597-9D1F-60879846D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E4F-9B2A-4676-B094-52CB4F2F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3881-EE8E-4BA2-875C-A6B270A7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9253-D13F-4163-A88C-DB0599510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FE89-E30C-4041-B60B-BA6FFC0FD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C7E-1772-471A-B1D3-D67253381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THAT MENTION CA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52360" y="761760"/>
            <a:ext cx="68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HOUSE OF THE RISING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LY, ROSEMARY, AND THE JACK OF HEA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OKER 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PERA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17720" y="768240"/>
            <a:ext cx="710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GAMB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66840" y="739800"/>
            <a:ext cx="661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H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 OF A KIND, WORKING ON A FULL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TTLE QUEEN OF SPAD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OKER 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IVA LAS VEG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876920"/>
            <a:ext cx="560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81240" y="762120"/>
            <a:ext cx="658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HOUSE OF THE RISING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38400" y="762120"/>
            <a:ext cx="666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LY, ROSEMARY, AND THE JACK OF HEA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PERA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GAMB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 OF A KIND, WORKING ON A FULL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TTLE QUEEN OF SPAD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IVA LAS VEG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8:02:05Z</dcterms:modified>
  <cp:revision>342</cp:revision>
  <dc:subject/>
  <dc:title>Slide 1</dc:title>
</cp:coreProperties>
</file>