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DB40-C3F7-428F-B265-1E7BC23F5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1D48-E8E1-4654-9877-728A452D4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E0EA-F0DD-488D-B5B2-923BC930C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DFB9-4796-41E8-91B5-36DBDD129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104E8-6A6F-489D-826F-63A8AA45F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1E8F-93E5-4F86-B7B3-CA19459B9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3BBF-52F7-4EC3-9AFB-8210D2A5B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461A-0941-4C50-A77A-F5CF6ED43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ED5A-6ACA-498C-9D40-76370F2F5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7783-88D1-4F07-84CB-52515F9D5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9470-974A-4687-A512-F76A74B28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F8E2-C65D-492F-A4F6-BF43BCC0E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B39C-B987-409F-95F8-C5DBC02A9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62E3-4A86-4A1E-BCD8-7CF8C8598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A1CA1-1386-4CB3-B223-73732B5CF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79AB-B3E7-41F6-82D3-FF46377DE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B240-5103-440B-8FBA-CEB6F9D02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72D7-EF66-4EBB-815D-79BAFEC67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31D1-D3CD-41C4-8CC7-38948D893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02F2-E164-403B-B55E-B80A64401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E7A6-66D0-4971-9A63-7E1DA8DC0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99A3-EF25-4962-9674-8478A3806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9BB9-B391-48CE-8C91-25ACFE8C9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THAT MENTION CA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52360" y="761760"/>
            <a:ext cx="683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HOUSE OF THE RISING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LY, ROSEMARY, AND THE JACK OF HEA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OKER F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SPERAD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Y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17720" y="768240"/>
            <a:ext cx="710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GAMB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4600"/>
            <a:ext cx="8458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MILLER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66840" y="739800"/>
            <a:ext cx="661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O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790560" y="4876920"/>
            <a:ext cx="7562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TH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28720" y="762120"/>
            <a:ext cx="7486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O OF A KIND, WORKING ON A FULL HO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 / 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TTLE QUEEN OF SPAD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OKER F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PRE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IVA LAS VEG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71560" y="4876920"/>
            <a:ext cx="5600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81240" y="762120"/>
            <a:ext cx="658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HOUSE OF THE RISING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38400" y="762120"/>
            <a:ext cx="6667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LY, ROSEMARY, AND THE JACK OF HEA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SPERAD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GAMB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O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O OF A KIND, WORKING ON A FULL HO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ITTLE QUEEN OF SPAD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IVA LAS VEG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9T18:02:05Z</dcterms:modified>
  <cp:revision>342</cp:revision>
  <dc:subject/>
  <dc:title>Slide 1</dc:title>
</cp:coreProperties>
</file>