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311A-42E3-48B2-8A5F-4B12C7CA0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4834-F52C-4235-874C-E8C82A218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D49E-ABF2-448A-B5CF-125AF8493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1AA7-EFBD-4AC4-9FA2-CF9CE70F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A26E-6B2A-4D1C-A77C-03EE182C1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9A1B-D112-4E05-8702-61DECCC33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EBBE-D47E-48B9-95ED-8F6AE47E5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7CFD-7595-480C-936B-F8B7EF376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567A-66FB-43C0-A45F-E793585DC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E081-3D48-4D08-BC18-970E1E2D0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8849-FEBD-422A-A23F-D5A0C208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F142-CD68-458E-A414-78D996EF6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5CC8-188F-49B1-A1BC-6468D79E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14BC-196E-4664-AAF2-1ABEC27B3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D6B2-A7AC-4C76-B775-27065C83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F8F7-E919-41B4-BABD-DDE84220A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691A-83DC-432D-9195-31511983C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5484-564B-448A-BD3E-E90C1B0EF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8502-3977-40F9-BB88-D36175A19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AD89-BC65-4B2C-ABC7-5969115A1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1E73-3C01-4349-9997-849307533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4A4-282C-49E4-88C7-3D2B3C825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01E9-C2FE-41A4-A977-12BC67345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6858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 SONGS WITH THESE NONSENSE LYRIC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 MA SE, MA MA SA, MA MA COO SA,      MA MA SE, MA MA SA, MA MA COO S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OO EEE, OOO AH AH TING TANG, WALLA WALLA, BANG BA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71680" y="4800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RICHARD  (TUTTI  FRUTTI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-WOP-BOP-A-LOO-BOP-A-WOP-BAM-BOO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  (BAD  ROMA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H RAH AH-AH-AH! /  RO MAH RO-MAH-MA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905120" y="4267080"/>
            <a:ext cx="5333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YSTALS       (DA  DOO  RON  RON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A DOO RON RON RON, DA DOO RON R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267080"/>
            <a:ext cx="845820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LICE                                     (DE DO DO DO, DE DA DA D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5000"/>
            <a:ext cx="7772400" cy="33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 DO DO DO, DE DA DA 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76280" y="4800600"/>
            <a:ext cx="819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MICAL  ROMANCE  (NA, NA, N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NA, NA, NA, NA, NA, NA, NA, NA, NA, NA, NA, NA, NA, NA, NA, NA, NA, NA, NA, NA, NA, NA, NA, NA, NA, NA, NA, NA, NA, NA, NA, NA, NA, NA, NA, NA, NA, NA, NA, NA, NA, NA, NA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19320" y="4267080"/>
            <a:ext cx="6705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FRED  MANN               (DO  WAH  DIDDY  DIDD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AH DIDDY DIDDY DUM DIDDY D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62120" y="4800600"/>
            <a:ext cx="7619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NEY  HOUSTON  (EXHA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OP, SHOOP, SHOOP, SHOOP BE DOOP, SHOOP, SHOOP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-WOP-BOP-A-LOO-BOP-A-WOP-BAM-B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04920" y="480060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  (I  AM  THE  WALR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14360" y="762120"/>
            <a:ext cx="6515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 GOO G'JOO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868320" y="4267080"/>
            <a:ext cx="74055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  (WANNA  BE  STARTIN'  SOMETHIN'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738440" y="762120"/>
            <a:ext cx="5667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 MA SE, MA MA SA, MA MA COO SA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 MA SE, MA MA SA, MA MA COO S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SEVILLE  (WITCH  DOC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6212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OO EEE, OOO AH AH TING TANG, WALLA WALLA, BANG BA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H RAH AH-AH-AH! /  RO MAH RO-MAH-MA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47600" y="762120"/>
            <a:ext cx="704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A DOO RON RON RON, DA DOO RON R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 DO DO DO, DE DA DA 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NA, NA, NA, NA, NA, NA, NA, NA, NA, NA, NA, NA, NA, NA, NA, NA, NA, NA, NA, NA, NA, NA, NA, NA, NA, NA, NA, NA, NA, NA, NA, NA, NA, NA, NA, NA, NA, NA, NA, NA, NA, NA, NA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 WAH DIDDY DIDDY DUM DIDDY D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2000" y="761760"/>
            <a:ext cx="7020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OOP, SHOOP, SHOOP, SHOOP BE DOOP, SHOOP, SHOOP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 GOO G'JOO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0-08-29T18:03:10Z</dcterms:modified>
  <cp:revision>347</cp:revision>
  <dc:subject/>
  <dc:title>Slide 1</dc:title>
</cp:coreProperties>
</file>