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5901-EB81-4BAC-9184-CB4857CE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82F-BAF4-47A3-83F4-F4456A134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6DA-AC22-4BDC-AEFA-DD44889F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CA2E-A233-4E03-8E08-BA3FAEAB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807-D494-47EB-9E47-6A1041F0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54E7-C68D-46C0-B319-09C3C53F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520F-C5DE-48C2-8732-D83C0CBE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153-EF54-4323-97D4-9F01C96F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E27-146C-4605-9A78-0DCF96F5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E50-8278-4079-B35B-4872B1C9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7F5-CE97-4984-95DC-34143E3D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F17D-1ADA-47AB-8DF0-A559916F2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5460-E64E-4DC1-8CB5-1D1FDE8E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A20-882B-4403-B775-378381A98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459-7BC8-412F-AB1A-CC4150B07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B4C-187B-43A9-9978-16295234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C36-C9F3-47AB-B8E4-36CF02E5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84A-6096-4489-AE98-81BD4D31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F815-EF8B-4585-B6F9-D4954D61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363-531D-478C-8072-9FE79B76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48A-52D6-4F9D-910D-817AB843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8DD-F3B5-421D-B114-C7539773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478-096B-4901-8C0D-E20EF7C4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 SONGS WITH THESE NONSENSE LYRIC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 MA SE, MA MA SA, MA MA COO SA,      MA MA SE, MA MA SA, MA MA COO S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OO EEE, OOO AH AH TING TANG, WALLA WALLA, BANG B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71680" y="4800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RICHARD  (TUTTI  FRUTTI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-WOP-BOP-A-LOO-BOP-A-WOP-BAM-BOO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  (BAD  ROMA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H RAH AH-AH-AH! /  RO MAH RO-MAH-M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905120" y="4267080"/>
            <a:ext cx="5333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YSTALS       (DA  DOO  RON  RO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A DOO RON RON RON, DA DOO RON 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267080"/>
            <a:ext cx="84582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                                     (DE DO DO DO, DE DA DA 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5000"/>
            <a:ext cx="77724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 DO DO DO, DE DA DA 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76280" y="4800600"/>
            <a:ext cx="819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CAL  ROMANCE  (NA, NA, 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A, NA, NA, NA, NA, NA, NA, NA, NA, NA, NA, NA, NA, NA, NA, NA, NA, NA, NA, NA, NA, NA, NA, NA, NA, NA, NA, NA, NA, NA, NA, NA, NA, NA, NA, NA, NA, NA, NA, NA, NA, NA, NA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267080"/>
            <a:ext cx="6705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FRED  MANN               (DO  WAH  DIDDY  DID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AH DIDDY DIDDY DUM DIDDY 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62120" y="48006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NEY  HOUSTON  (EXH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OP, SHOOP, SHOOP, SHOOP BE DOOP, SHOOP, SHOOP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-WOP-BOP-A-LOO-BOP-A-WOP-BAM-B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04920" y="4800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  (I  AM  THE  WALR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14360" y="762120"/>
            <a:ext cx="651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 GOO G'JOO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68320" y="4267080"/>
            <a:ext cx="74055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  (WANNA  BE  STARTIN'  SOMETHIN'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738440" y="762120"/>
            <a:ext cx="566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 MA SE, MA MA SA, MA MA COO 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MA SE, MA MA SA, MA MA COO S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SEVILLE  (WITCH  DOC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OO EEE, OOO AH AH TING TANG, WALLA WALLA, BANG B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H RAH AH-AH-AH! /  RO MAH RO-MAH-M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47600" y="76212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A DOO RON RON RON, DA DOO RON 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 DO DO DO, DE DA DA 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A, NA, NA, NA, NA, NA, NA, NA, NA, NA, NA, NA, NA, NA, NA, NA, NA, NA, NA, NA, NA, NA, NA, NA, NA, NA, NA, NA, NA, NA, NA, NA, NA, NA, NA, NA, NA, NA, NA, NA, NA, NA, NA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AH DIDDY DIDDY DUM DIDDY 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2000" y="761760"/>
            <a:ext cx="702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OP, SHOOP, SHOOP, SHOOP BE DOOP, SHOOP, SHOOP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 GOO G'JOO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0-08-29T18:03:10Z</dcterms:modified>
  <cp:revision>347</cp:revision>
  <dc:subject/>
  <dc:title>Slide 1</dc:title>
</cp:coreProperties>
</file>