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3789-DA6F-4AA9-985B-E0EE6A381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7A89-8C94-4384-8D61-A382CBE88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9F18-77C4-4169-AD17-A34382B51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4927-B019-43DB-854F-9C2310EFC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80E7-5E69-4824-92D4-E246AFE81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71EE-3DC7-43BE-B808-A9AE9FDC9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4319-0415-41B3-99B8-221A9B0D1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DB25-2FF2-4F93-9BF6-721595FFC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E208-4D55-4795-98EC-FF3F24A47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831A-1FB2-41D5-AA9C-159FAAAE8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7B91-5C61-4B28-9CC6-08133EFE5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5450-4ECE-4BA9-BECE-8813B7D5D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3B82-08DD-44D1-A6F1-7BFFF0630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F339-94D6-4802-8652-559BA48C4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AC25-08EB-4985-A060-920846CC0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63B6-6290-4EFE-9258-652368AD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AF10-A0C9-425D-8ED4-1585FCD1F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074E-D48A-4959-B116-0BA78CC0C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0CDE-811B-4738-A12B-AC46BCBFC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0987-2481-4EE5-971A-93AF28390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524C-DF72-4181-984B-7B6A8108F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8CF8-C3F2-4BEC-828D-9698FDF32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6444-C496-45F9-A610-90E4DC192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066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"AMERICAN" SO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809720" y="761760"/>
            <a:ext cx="552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IVING IN AMERIC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"? (TWO POSSIBLE ANSWE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0060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MC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P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TR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90680" y="762120"/>
            <a:ext cx="6362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REAKFAST IN AMERIC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52600" y="762120"/>
            <a:ext cx="803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IDI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66760" y="762120"/>
            <a:ext cx="68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NG AMERICA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76320" y="4267080"/>
            <a:ext cx="8991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PETTY  &amp;  THE  HEARTBREAKERS  or  BONNIE  MCK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GIRL"? (2 POSSIBLE ANSWE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FUNK  RAIL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E'RE AN AMERICAN B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UESS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62040" y="762120"/>
            <a:ext cx="60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 "AMERICAN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P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  WIL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KIDS IN AMERIC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886040" y="762120"/>
            <a:ext cx="5371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IVING IN AMERIC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14680" y="426708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&amp;  GARFUNKEL  or  NEIL  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"? (TWO POSSIBLE ANSWE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REAKFAST IN AMERIC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14440" y="762120"/>
            <a:ext cx="811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IDI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NG AMERICA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GIRL"? (2 POSSIBLE ANSWE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E'RE AN AMERICAN B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3880" y="761760"/>
            <a:ext cx="6096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 "AMERICAN WO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KIDS IN AMERIC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9T18:04:20Z</dcterms:modified>
  <cp:revision>361</cp:revision>
  <dc:subject/>
  <dc:title>Slide 1</dc:title>
</cp:coreProperties>
</file>