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F6C0-8D47-4874-9250-B07939E03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6631-8BE3-4F33-904C-8A6F2AF35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28DF-712E-4469-8F53-557B31C26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485D-5D8B-42F9-88EA-3A4A289AC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DDA43-46AE-4BA3-829B-7C35DE305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7A1A9-400B-4558-B25E-8F4E3B9C9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02BE-3922-42FF-83B9-9C4EAD1B7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5DFD-0AFB-4A3E-9722-642587C7E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22D4-B24B-4CFA-9BC4-A86AC25DB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5A2B-49FD-4C43-AC6B-B425242BD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4AC7-55CC-444E-9884-6A723AACE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132B-0C4A-4F6F-85D9-807AC6E00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2B0F-86EB-4E75-853D-E20E04CA1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CE94-14A8-4936-89B8-5A7B2F148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FB3E-7C9A-46A0-94E7-701553451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4CBB-FD3B-4A43-AD9C-1DD587FE5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C2FC-204A-4AD2-B001-81E4F594C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0EE98-5564-4CF7-9D69-FF0B01B66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CDD9-A17F-4C67-A4EB-BE0C735A3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8A21-F616-4F32-99FE-9B8C4E606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A6F8-F547-408E-AE7A-352A6C678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A4C4F-4134-4E74-8B4C-090CF697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5C30-1CC8-40DA-A62C-6DB0A09E0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066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AMERICAN" SONG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809720" y="761760"/>
            <a:ext cx="552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VING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"? (TWO POSSIBLE ANS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0060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MCLE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PERTR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90680" y="762120"/>
            <a:ext cx="63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EAKFAST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52600" y="762120"/>
            <a:ext cx="803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IDI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B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66760" y="762120"/>
            <a:ext cx="68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NG AMERICA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76320" y="4267080"/>
            <a:ext cx="8991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  &amp;  THE  HEARTBREAKERS  or  BONNIE  MCK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GIRL"? (2 POSSIBLE ANS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FUNK  RAIL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'RE AN AMERICAN B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UESS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62040" y="762120"/>
            <a:ext cx="60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 "AMERICAN WO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PI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M  WIL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DS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886040" y="762120"/>
            <a:ext cx="53719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IVING IN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2670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MON  &amp;  GARFUNKEL  or  NEIL  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"? (TWO POSSIBLE ANSW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REAKFAST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14440" y="762120"/>
            <a:ext cx="8115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IDIO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NG AMERICA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57360" y="762120"/>
            <a:ext cx="782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MERICAN GIRL"? (2 POSSIBLE ANSWER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WE'RE AN AMERICAN B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23880" y="761760"/>
            <a:ext cx="6096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 "AMERICAN WO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KIDS IN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9T18:04:20Z</dcterms:modified>
  <cp:revision>361</cp:revision>
  <dc:subject/>
  <dc:title>Slide 1</dc:title>
</cp:coreProperties>
</file>