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83C25-7BD8-449D-864A-718D6E63E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508F7-7306-4F7C-855A-D6DBDFD00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C6A68-5106-41C6-8BFA-A09584AA7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82570-885D-4CE6-AB64-1BC3AC159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E4CF7-D9F3-4A3D-A993-0D11CD057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B7C67-4F8C-4FD9-9664-BCD4A1382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53D2C-873A-488D-A27A-704CF72AC9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0B0F8-4839-4648-AB1B-C702BF44B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07193-62D9-4992-8422-C912DA9FC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DAB07-CE09-4896-9607-1B081D622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579C6-0482-4EE2-9B07-7C8DBD328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8CAF9-95F6-4166-B126-028E72C3B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A37A3-4688-47B1-ADDF-FFE082D8C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5E0E3-D3EE-4762-8503-246576F3D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658A2-7EC6-4A44-9464-82238A576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56A91-6063-4E4D-A7B2-614D7A6A9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A6A8A-3AAB-457F-893B-2F130220B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6BB0E-E9BE-41F8-80D6-E6A00887B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F026D-CBCB-449B-A392-298E0D68B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6BF04-D61B-49E4-B542-B8754B733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681EB-855F-40B7-9714-08039F523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53D92-1669-4A78-9F96-20AB1537A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4700D-47D1-4F53-B7EE-7269A6155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0666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O SANG THESE TIMELY SONG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CHELSEA  MORNI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380880" y="762120"/>
            <a:ext cx="8382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N THE MIDNIGHT HOU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MOODY  BL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09480" y="762120"/>
            <a:ext cx="79250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UESDAY AFTERNO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CA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25 OR 6 TO 4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3059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W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5:15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RLAND  VOCAL  B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FTERNOON DEL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LLY  PAR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9 TO 5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IL  COLL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600200" y="762120"/>
            <a:ext cx="5943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ONE MORE N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T  STEV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43080" y="762120"/>
            <a:ext cx="8458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MORNING HAS BROKE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UESDAY AFTERNOO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81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RIC  CLAP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22360" y="762120"/>
            <a:ext cx="8076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FTER  MIDN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NI  MITC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85800" y="762120"/>
            <a:ext cx="77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CHELSEA  MORN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SON  PICKET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57200" y="76212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N THE MIDNIGHT HOU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25 OR 6 TO 4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5:15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FTERNOON DELIGH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76240" y="723960"/>
            <a:ext cx="7391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9 TO 5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600200" y="761760"/>
            <a:ext cx="5943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ONE MORE NIGH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MORNING HAS BROKE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FTER MIDNIGH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7T22:26:08Z</dcterms:created>
  <dc:creator>Jennifer Budzinski</dc:creator>
  <dc:description/>
  <dc:language>en-US</dc:language>
  <cp:lastModifiedBy>Erich Friedman</cp:lastModifiedBy>
  <dcterms:modified xsi:type="dcterms:W3CDTF">2020-08-30T12:13:51Z</dcterms:modified>
  <cp:revision>326</cp:revision>
  <dc:subject/>
  <dc:title>Slide 1</dc:title>
</cp:coreProperties>
</file>