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48A3-69BD-46C7-9290-EC12AB3E4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7952-5EE9-4E7A-9A5E-8CBF9E198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650D-4BD8-49DA-96A2-25DFC44DD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C2FA-BEF3-4125-91D4-A0017CE36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2089-60F2-4747-AFC7-6CF7E5399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6C2A-3405-4F80-98F4-AADE2DE19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2A28-6C19-49C7-8AC7-A3B10DBF5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5CC8-6A89-4565-B336-093F9BD39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BF25-9B90-4148-9B29-2165F2014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3BC4-A1DC-453C-93CC-FA9548FFA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6823-150A-4C90-9752-66A1F7538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08FB-E4AE-424F-8048-DF81FF548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ACE8A-8855-4B8D-B8F2-C91EF22BA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C998-1A1B-4BDE-A743-F23627E0E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FB17-CE71-40D7-8336-4351EB318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5D00-C940-47DE-8BAE-16D4895AC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F89E-E36F-462B-A88B-44CD60E73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5213-9846-4440-9653-BDB84810D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2817-3483-4517-A3AF-636B118C5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C09A-4FA2-4810-964E-4801350BA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C48F-F2CF-4F14-A8EC-E802B778A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FE55-9BCB-4026-9EFE-FDE064C0C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5350-B75B-4CB1-9E78-913F26659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066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TIMELY SONG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HELSEA  MORN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N THE MIDNIGHT HO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ODY  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UESDAY AFTERNO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25 OR 6 TO 4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5:15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LAND  VOCAL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FTERNOON DEL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LY  PA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9 TO 5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CO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600200" y="762120"/>
            <a:ext cx="5943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NE MORE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  STEV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ORNING HAS BROK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UESDAY AFTERNO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IC  CLAP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2236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FTER  MID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I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HELSEA  MORN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SON  PICK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N THE MIDNIGHT HO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25 OR 6 TO 4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5:15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FTERNOON DEL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2396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9 TO 5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NE MORE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ORNING HAS BROK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FTER MID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7T22:26:08Z</dcterms:created>
  <dc:creator>Jennifer Budzinski</dc:creator>
  <dc:description/>
  <dc:language>en-US</dc:language>
  <cp:lastModifiedBy>Erich Friedman</cp:lastModifiedBy>
  <dcterms:modified xsi:type="dcterms:W3CDTF">2020-08-30T12:13:51Z</dcterms:modified>
  <cp:revision>326</cp:revision>
  <dc:subject/>
  <dc:title>Slide 1</dc:title>
</cp:coreProperties>
</file>