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917-F477-49A0-8F39-0735BD5AB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68F6-72FB-4175-B62B-93B44D4C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105D-BD52-45AD-84CD-A356124C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D02-85F2-4C59-9CC5-4323D660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9E0E-B9EC-4DA9-8F00-E62790E5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7B4A-FF64-48E0-9EB3-86F10BA0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4FDA-AC51-4F0B-AFA8-5F90BD8F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FBB7-9A5F-49E7-ACD6-F5E02B59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CDA-BB51-48DA-9662-CFCC0374F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52F-A64E-461F-BBE9-14DEE864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90A9-231C-4A2C-9400-D519E184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5A07-CA37-4DCB-9F3C-B03FDFEE1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A396-B480-4057-86C5-DB1C542F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3E6F-42DA-4C10-9F35-D479F64B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5E00-E1BC-4163-865D-212D0445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9BF6-D153-43CD-BA89-30F409BC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A111-C9A0-4A25-96C8-68C45261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3FF5-DA37-48E8-AC14-859E3A2C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E5F-1560-4682-AA53-624CA501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3CB-68ED-4D43-ABC2-6124CDF9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022-D81C-4D72-80CF-1DF53E10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26B-FE94-4E4F-ABF2-C89A272A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A26-C443-49A2-9606-20DE655F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TIMELY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ELSEA 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MIDNIGHT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 AFTERN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5 OR 6 TO 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LAND  VOCAL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NOON DE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9 TO 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762120"/>
            <a:ext cx="5943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ORNING HAS BROK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ESDAY AFTERNO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2236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 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ELSEA 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  PI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MIDNIGHT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5 OR 6 TO 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NOON DE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9 TO 5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ORNING HAS BROK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 MID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22:26:08Z</dcterms:created>
  <dc:creator>Jennifer Budzinski</dc:creator>
  <dc:description/>
  <dc:language>en-US</dc:language>
  <cp:lastModifiedBy>Erich Friedman</cp:lastModifiedBy>
  <dcterms:modified xsi:type="dcterms:W3CDTF">2020-08-30T12:13:51Z</dcterms:modified>
  <cp:revision>326</cp:revision>
  <dc:subject/>
  <dc:title>Slide 1</dc:title>
</cp:coreProperties>
</file>