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078D-A67C-4813-A7E7-57EBB2C9B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44F9-946C-4AE0-AD30-1DCEBB7E6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1A92-C447-42DC-A96B-28E02D7F5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C987-1196-4F28-BD57-E85DDDB85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DF08-92C7-4595-8B9A-86E290FDA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F93D-9FAA-425C-811D-8D2D4E5BB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77CA-C98C-4E45-A4EB-B4000AC73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1C56-2B20-40A2-8D47-40407D165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AEF1-D207-41BE-A054-A5A792EB6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3F4F-B362-4A89-B70B-C43036226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F96D-D05F-4ACA-BDFC-11242D06E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27CC-3A0A-4EE4-9111-B12912FF9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52A9-7964-4174-89DF-E65D99CF3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E60D-861C-480C-8F17-1D7820080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B41F-C9D6-49E6-BA54-E66EF40F3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C200-0F39-41D6-ACB4-774F742FA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9792-42A6-4004-9B7C-955555202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E220-DA9A-480E-B831-EB4DC1CA5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1973-4FB8-4E8B-AE4C-104FF47FA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6A02-36D8-4419-8E26-B1DBCD5A0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0211-0FC9-4C4E-9669-C60FE7DA2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088D-AF02-453E-B4A9-C37375AC6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C35A-F967-426B-9CD2-79D259774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3712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SONGS WHOSE LYRICS START WITH THE TIT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I NEED YOU TO NEED ME / I'D LOVE YOU TO LOVE ME / I'M BEGGIN' YOU TO BEG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THAT'S THE WAY YOU NEED IT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SHE LOVES TO LAUGH / SHE LOVES TO S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  IN  BLACK  (AC/D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I HIT THE SACK / I'VE BEEN TOO LONG / I'M GLAD TO BE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35276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NGERS  IN  THE  NIGHT  (FRANK SINAT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EXCHANGING GLANCES / WONDERING IN THE NIGHT / WHAT WERE THE CHANC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409760" y="4343400"/>
            <a:ext cx="6324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IS  ON  MY  SIDE  (THE  ROLLING  ST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ES IT IS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ES IT IS / NOW YOU ALL WERE SAYING THAT YOU WANT TO BE F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800280" y="4343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ILL  REMEMBER  YOU  (SARAH  MCLACHL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9040" y="7621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WILL YOU REMEMBER ME? / DON'T LET YOUR LIFE PASS YOU 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D  MAN  (NEIL  YOU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LOOK AT MY LIFE / I'M A LOT LIKE YOU WERE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LOOK AT MY LIFE / I'M A LOT LIKE YOU W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  AND  THEM  (PINK  FLOY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AND AFTER ALL WE'RE ONLY ORDINARY MEN / ME AND YOU / GOD ONLY KNOWS IT'S NOT WHAT WE WOULD CHOOSE TO D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4197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MORNING  GOOD  MORNING  (THE  BEAT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 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NOTHING TO DO TO SAVE HIS LIFE CALL HIS WIFE IN / NOTHING TO SAY BUT WHAT A DAY HOW'S YOUR BOY B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I HIT THE SACK / I'VE BEEN TOO LONG / I'M GLAD TO BE B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T  DREAMS  (EURYTHMIC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E MADE OF THIS / WHO AM I TO DISAGREE? / I TRAVEL THE WORLD AND THE SEVEN SEAS / EVERYBODY'S LOOKING FOR SOME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95360" y="434340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YOU  TO  WANT  ME  (CHEAP  TRI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I NEED YOU TO NEED ME / I'D LOVE YOU TO LOVE ME / I'M BEGGIN' YOU TO BEG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66760" y="4876920"/>
            <a:ext cx="8610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Y  WAY  YOU  WANT  IT  (JOURN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THAT'S THE WAY YOU NEED IT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SHE LOVES TO LAUGH / SHE LOVES TO S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EXCHANGING GLANCES / WONDERING IN THE NIGHT / WHAT WERE THE CHANC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ES IT IS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ES IT IS / NOW YOU ALL WERE SAYING THAT YOU WANT TO BE FR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WILL YOU REMEMBER ME? / DON'T LET YOUR LIFE PASS YOU 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LOOK AT MY LIFE / I'M A LOT LIKE YOU WERE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LOOK AT MY LIFE / I'M A LOT LIKE YOU W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AND AFTER ALL WE'RE ONLY ORDINARY MEN / ME AND YOU / GOD ONLY KNOWS IT'S NOT WHAT WE WOULD CHOOSE TO D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 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NOTHING TO DO TO SAVE HIS LIFE CALL HIS WIFE IN / NOTHING TO SAY BUT WHAT A DAY HOW'S YOUR BOY B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E MADE OF THIS / WHO AM I TO DISAGREE? / I TRAVEL THE WORLD AND THE SEVEN SEAS / EVERYBODY'S LOOKING FOR SOME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8:35Z</dcterms:created>
  <dc:creator>Jennifer Budzinski</dc:creator>
  <dc:description/>
  <dc:language>en-US</dc:language>
  <cp:lastModifiedBy>Erich Friedman</cp:lastModifiedBy>
  <dcterms:modified xsi:type="dcterms:W3CDTF">2020-08-30T12:24:06Z</dcterms:modified>
  <cp:revision>340</cp:revision>
  <dc:subject/>
  <dc:title>Slide 1</dc:title>
</cp:coreProperties>
</file>