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FB3-865D-46F3-870A-E89A49C1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3F42-450E-4E57-869A-65F577B9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9EC9-0644-4020-818F-E56C5AA4F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2A1-5D6D-4251-A45F-A9422FF27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2014-8C18-4DD1-92B2-440F4E6C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6A5-190F-405A-A48A-DE47C307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5B0-66C2-49CC-98DD-9E31BA3C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E8E-38A5-4C5F-A448-EAAF32BF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124C-52E3-4FF8-B74D-C3D22293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011-5082-4ACC-8FAF-CF47E9AC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69D-725A-464F-AFC4-75F25A84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6D0-D7BB-46A1-B6DC-94E4670E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CE4-3DA4-43DD-AFD7-D7E9F9C3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C9FB-5049-40D2-AA14-EB410FE4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42D7-8EF2-4905-A33F-04BD9E89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ADC0-19C9-4B33-A50C-8EF474520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539-0564-4060-94B0-33579118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CDC4-101D-451C-85DD-6CE1CEF1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C66B-A33B-4D92-A2ED-FEF06B47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E2A-81B6-4EE5-A8E0-41F52CBF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FEA6-EB3B-4A87-A647-40F0C07D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36AC-27C3-4F79-BB9E-3BC4FFC0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9B74-1BF9-4CAB-8DA5-BE3BC19E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712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SONGS WHOSE LYRICS START WITH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NEED YOU TO NEED ME / I'D LOVE YOU TO LOVE ME / I'M BEGGIN' YOU TO BEG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THAT'S THE WAY YOU NEED IT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SHE LOVES TO LAUGH / SHE LOVES TO 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IN  BLACK  (AC/D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HIT THE SACK / I'VE BEEN TOO LONG / I'M GLAD TO B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527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S  IN  THE  NIGHT  (FRANK SINA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EXCHANGING GLANCES / WONDERING IN THE NIGHT / WHAT WERE THE CHAN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IS  ON  MY  SIDE  (THE  ROLLING  ST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NOW YOU ALL WERE SAYING THAT YOU WANT TO BE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002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ILL  REMEMBER  YOU  (SARAH  MCLACH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904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WILL YOU REMEMBER ME? / DON'T LET YOUR LIFE PASS YOU 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AN  (NEIL  YOU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  AND  THEM  (PINK  FLOY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AND AFTER ALL WE'RE ONLY ORDINARY MEN / ME AND YOU / GOD ONLY KNOWS IT'S NOT WHAT WE WOULD CHOOSE TO 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4197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MORNING  GOOD  MORNING 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OTHING TO DO TO SAVE HIS LIFE CALL HIS WIFE IN / NOTHING TO SAY BUT WHAT A DAY HOW'S YOUR BOY B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HIT THE SACK / I'VE BEEN TOO LONG / I'M GLAD TO B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  (EURYTHMI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MADE OF THIS / WHO AM I TO DISAGREE? / I TRAVEL THE WORLD AND THE SEVEN SEAS / EVERYBODY'S LOOKING FOR SOME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9536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YOU  TO  WANT  ME  (CHEAP  TRI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NEED YOU TO NEED ME / I'D LOVE YOU TO LOVE ME / I'M BEGGIN' YOU TO BEG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8769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  WAY  YOU  WANT  IT  (JOURN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THAT'S THE WAY YOU NEED IT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SHE LOVES TO LAUGH / SHE LOVES TO 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EXCHANGING GLANCES / WONDERING IN THE NIGHT / WHAT WERE THE CHAN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NOW YOU ALL WERE SAYING THAT YOU WANT TO BE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WILL YOU REMEMBER ME? / DON'T LET YOUR LIFE PASS YOU 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AND AFTER ALL WE'RE ONLY ORDINARY MEN / ME AND YOU / GOD ONLY KNOWS IT'S NOT WHAT WE WOULD CHOOSE TO 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OTHING TO DO TO SAVE HIS LIFE CALL HIS WIFE IN / NOTHING TO SAY BUT WHAT A DAY HOW'S YOUR BOY B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MADE OF THIS / WHO AM I TO DISAGREE? / I TRAVEL THE WORLD AND THE SEVEN SEAS / EVERYBODY'S LOOKING FOR SOME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0-08-30T12:24:06Z</dcterms:modified>
  <cp:revision>340</cp:revision>
  <dc:subject/>
  <dc:title>Slide 1</dc:title>
</cp:coreProperties>
</file>