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5A14-E8F4-493C-903D-1F0DF403D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46A6-AC7D-4E82-89B3-832C45E53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C299-077F-426D-A125-9E313455D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8F11-8F58-4EE1-836A-8E38230A6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1FD8-2341-4EF8-87BD-6CB927CEB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92D4-49DD-4997-834A-922BE665B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2C9F-AC89-4871-BE6B-7449D8A1A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4E37-E20A-4CCB-8CDA-E05DAD54A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DF9C-0359-4CCA-B24F-BF2E5E9F1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2623-876B-4E8B-A25C-E2E6942D7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CC5D-5BD7-49B0-A55E-3F06DFA8F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48FE-0C10-4CA0-967C-21FD32DBB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4703-9BA4-4FB1-ADDB-FF2A43281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4343-21AA-4B9C-9C8F-6C8C2F547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EB8A-3EFA-4B43-A0B1-FACB459CD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373D-BD0F-4DAD-8649-67965607C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2CC2-F55E-4C96-ABC9-49222889B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0F65-BD77-42C4-AC29-BC4172DFC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4FE6-EC73-4050-ADA8-29059AD11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F8B1-3918-4FE8-91A6-35D02075A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9959-3F36-4AAE-AD5E-3971DC982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1013-614A-4B41-A9C6-B454591E1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4D2A-3726-4CE0-BD61-418AF9E0F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23960" y="137124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SONGS WHOSE LYRICS START WITH THE TITL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I NEED YOU TO NEED ME / I'D LOVE YOU TO LOVE ME / I'M BEGGIN' YOU TO BEG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THAT'S THE WAY YOU NEED IT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SHE LOVES TO LAUGH / SHE LOVES TO S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  IN  BLACK  (AC/D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81160" y="762120"/>
            <a:ext cx="6781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I HIT THE SACK / I'VE BEEN TOO LONG / I'M GLAD TO BE B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35276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NGERS  IN  THE  NIGHT  (FRANK SINAT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EXCHANGING GLANCES / WONDERING IN THE NIGHT / WHAT WERE THE CHANC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409760" y="4343400"/>
            <a:ext cx="6324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  IS  ON  MY  SIDE  (THE  ROLLING  ST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YES IT IS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YES IT IS / NOW YOU ALL WERE SAYING THAT YOU WANT TO BE FRE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800280" y="4343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WILL  REMEMBER  YOU  (SARAH  MCLACHLA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9040" y="7621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WILL YOU REMEMBER ME? / DON'T LET YOUR LIFE PASS YOU B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87624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D  MAN  (NEIL  YOU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LOOK AT MY LIFE / I'M A LOT LIKE YOU WERE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LOOK AT MY LIFE / I'M A LOT LIKE YOU WE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S  AND  THEM  (PINK  FLOY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AND AFTER ALL WE'RE ONLY ORDINARY MEN / ME AND YOU / GOD ONLY KNOWS IT'S NOT WHAT WE WOULD CHOOSE TO D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41972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  MORNING  GOOD  MORNING  (THE  BEAT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 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NOTHING TO DO TO SAVE HIS LIFE CALL HIS WIFE IN / NOTHING TO SAY BUT WHAT A DAY HOW'S YOUR BOY BE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I HIT THE SACK / I'VE BEEN TOO LONG / I'M GLAD TO BE B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ET  DREAMS  (EURYTHMIC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RE MADE OF THIS / WHO AM I TO DISAGREE? / I TRAVEL THE WORLD AND THE SEVEN SEAS / EVERYBODY'S LOOKING FOR SOMETH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95360" y="434340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WANT  YOU  TO  WANT  ME  (CHEAP  TRIC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04920" y="76212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I NEED YOU TO NEED ME / I'D LOVE YOU TO LOVE ME / I'M BEGGIN' YOU TO BEG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66760" y="4876920"/>
            <a:ext cx="8610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Y  WAY  YOU  WANT  IT  (JOURNE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621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THAT'S THE WAY YOU NEED IT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SHE LOVES TO LAUGH / SHE LOVES TO S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EXCHANGING GLANCES / WONDERING IN THE NIGHT / WHAT WERE THE CHANC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YES IT IS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YES IT IS / NOW YOU ALL WERE SAYING THAT YOU WANT TO BE FRE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WILL YOU REMEMBER ME? / DON'T LET YOUR LIFE PASS YOU B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LOOK AT MY LIFE / I'M A LOT LIKE YOU WERE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LOOK AT MY LIFE / I'M A LOT LIKE YOU WE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AND AFTER ALL WE'RE ONLY ORDINARY MEN / ME AND YOU / GOD ONLY KNOWS IT'S NOT WHAT WE WOULD CHOOSE TO D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 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NOTHING TO DO TO SAVE HIS LIFE CALL HIS WIFE IN / NOTHING TO SAY BUT WHAT A DAY HOW'S YOUR BOY BE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RE MADE OF THIS / WHO AM I TO DISAGREE? / I TRAVEL THE WORLD AND THE SEVEN SEAS / EVERYBODY'S LOOKING FOR SOMETH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16:58:35Z</dcterms:created>
  <dc:creator>Jennifer Budzinski</dc:creator>
  <dc:description/>
  <dc:language>en-US</dc:language>
  <cp:lastModifiedBy>Erich Friedman</cp:lastModifiedBy>
  <dcterms:modified xsi:type="dcterms:W3CDTF">2020-08-30T12:24:06Z</dcterms:modified>
  <cp:revision>340</cp:revision>
  <dc:subject/>
  <dc:title>Slide 1</dc:title>
</cp:coreProperties>
</file>