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E563C-75C8-454D-B287-ED9FE4D8E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4C7E-A7BE-449F-9ED0-DFA840BE8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9F52-D444-4AD9-9423-F8309C6F6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3940F-ACA5-4B0E-856B-F5AFE351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5EEA-A647-4C0C-9AD8-43BAA6BF7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0A1-F9E7-4B26-9CFE-BC9BF52C2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EC04-4835-4FF5-9360-E48628BC0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1CDC-5407-4109-9D38-EB35C0FC7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185-820B-4628-8C0C-F359878DD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AB2BE-1660-429A-A839-134B357B48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198E-05C3-4816-99A9-EEFAA5802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8304-AEE8-498E-B6DF-6A9E17BB1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72AB-0DFB-4B98-BC03-CC7D39F9C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B6DE-BA28-4839-96C5-A8E5E6079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E9AC-87F4-4405-BC3D-BEAF61BE26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1AE4-F725-482E-BA6D-22162CC88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0F95-9CAD-4CFC-AA0D-970A15988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6375-69F7-4249-BBB6-25D0C01E3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F48BF-FA3F-4A55-AEFF-3627A6A54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6D47-87E1-47C2-8938-89D10F4FB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74C2-8341-477C-B045-FF572FB74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15C4-2346-42C9-8171-1B31BA63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7251-AAF9-4072-8E05-A9F24C2630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PETITIVE SONG TIT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52360" y="761760"/>
            <a:ext cx="8639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CRASH TEST DUMM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HIT OF NEIL DIAMOND,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LED "ONE OF THE GREATEST 3-CHORD SONG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2019240" y="487692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,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38240" y="762120"/>
            <a:ext cx="886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SONG BY THE CARTOON BAND "THE ARCH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UN,  FUN,  F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95400" y="762120"/>
            <a:ext cx="7153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CH BOYS SONG DOES A GIRL DECEIVE HER FATHER SO SHE CAN USE HIS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N!  TURN!  TU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15880" y="762120"/>
            <a:ext cx="8112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YRICS TO WHAT SONG  BY THE BYRDS ARE TAKEN ALMOST VERBATIM FROM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096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DAY,  MON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57400" y="762120"/>
            <a:ext cx="682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MAMAS AND THE PAP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Y,  SAY,  S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28680" y="762120"/>
            <a:ext cx="848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THE GIRL IS MINE", "THE MAN", AND WHAT OTHER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YE  BYE  B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NSYNC WAS NOMINATED FOR A GRAMMY FOR RECORD OF THE Y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IE  LOU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7320" y="762120"/>
            <a:ext cx="8829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RICHARD BERRY WAS THE MOST POPULAR SONG PERFORMED  BY THE KINGSM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1120" y="762120"/>
            <a:ext cx="8861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SUCCESSFUL SONG BY THE CARTOON BAND "THE ARCH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S,  PROMI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NEW WAVE BAND NAKED EYES ONLY HAD TWO TOP-20 SONGS: "ALWAYS SOMETHING THERE TO REMIND ME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MM  MMM  MMM  MM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04920" y="762120"/>
            <a:ext cx="8534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SONG BY THE CRASH TEST DUMM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RY,  CHER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TOP-10 HIT OF NEIL DIAMOND, WHICH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ROLLING STON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ALLED "ONE OF THE GREATEST 3-CHORD SONGS OF ALL TIM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06480" y="761760"/>
            <a:ext cx="73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BEACH BOYS SONG DOES A GIRL DECEIVE HER FATHER SO SHE CAN USE HIS C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19120" y="762120"/>
            <a:ext cx="81057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YRICS TO WHAT SONG  BY THE BYRDS ARE TAKEN ALMOST VERBATIM FROM THE BOOK OF ECCLESIAS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85920" y="762120"/>
            <a:ext cx="657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ONLY #1 HIT FOR THE MAMAS AND THE PAP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276120" y="762120"/>
            <a:ext cx="8591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MCCARTNEY AND MICHAEL JACKSON RECORDED 3 DUETS: "THE GIRL IS MINE", "THE MAN", AND WHAT OTHER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NSYNC WAS NOMINATED FOR A GRAMMY FOR RECORD OF THE Y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200" y="761760"/>
            <a:ext cx="8877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WRITTEN BY RICHARD BERRY WAS THE MOST POPULAR SONG PERFORMED  BY THE KINGSM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RITISH NEW WAVE BAND NAKED EYES ONLY HAD TWO TOP-20 SONGS: "ALWAYS SOMETHING THERE TO REMIND ME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8:24:11Z</dcterms:created>
  <dc:creator>Jennifer Budzinski</dc:creator>
  <dc:description/>
  <dc:language>en-US</dc:language>
  <cp:lastModifiedBy>Erich Friedman</cp:lastModifiedBy>
  <dcterms:modified xsi:type="dcterms:W3CDTF">2020-08-30T12:24:52Z</dcterms:modified>
  <cp:revision>425</cp:revision>
  <dc:subject/>
  <dc:title>Slide 1</dc:title>
</cp:coreProperties>
</file>