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4E7D-7B3A-46BD-95A4-4CE333052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0480-97DE-40DD-9EC1-26F4F0ED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4123-4741-49FB-97B2-A130605A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94CD-306A-4E4F-AE08-611A0D3C4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1605-6D9D-4527-B0FC-9AA89967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FAD7-4D0F-42DB-8644-EAEEA444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E470-C1C6-4B9A-AA47-B111E454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C244-ECA9-4C48-8F42-C8D4126A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D47-3A7F-45D8-85EA-F666057F8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EF6B-E074-48CB-A83B-669E815E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4BA8-E425-441D-8C39-D45E2B2AB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E203-C2A3-4646-9F47-AAB4FA39F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EF1C-DCB2-46EB-8AFB-BEEA8CCA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F658-5DA2-4749-B816-D2F9E732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4B47-36AD-440B-8DC7-263A6613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6462-2124-45AF-8E8C-726819950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11F5-61F8-4632-825F-752039988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5439-5203-4E6D-9E1E-FAA11C7F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71CC-A554-42C9-8BE9-07EE7133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837-4869-421E-86CB-1C97246DF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F23B-4792-49F4-B22C-56E9AB5AE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1CB8-3C8F-4506-AFFA-A4AB67A3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D2E-F3D7-4C41-981C-143D2169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ITIVE SONG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CRASH TEST DUMM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OP-10 HIT OF NEIL DIAMOND, WHICH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LLED "ONE OF THE GREATEST 3-CHORD SONGS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, 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8240" y="762120"/>
            <a:ext cx="886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SONG BY THE CARTOON BAND "THE ARCH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N,  FUN, 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5400" y="762120"/>
            <a:ext cx="715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EACH BOYS SONG DOES A GIRL DECEIVE HER FATHER SO SHE CAN USE HIS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!  TURN!  TU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YRICS TO WHAT SONG  BY THE BYRDS ARE TAKEN ALMOST VERBATIM FROM THE BOOK OF ECCLESIAS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096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DAY,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57400" y="762120"/>
            <a:ext cx="68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MAMAS AND THE PAP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,  SAY, 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28680" y="762120"/>
            <a:ext cx="848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MCCARTNEY AND MICHAEL JACKSON RECORDED 3 DUETS: "THE GIRL IS MINE", "THE MAN", AND WHAT OTHER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E  BYE  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NSYNC WAS NOMINATED FOR A GRAMMY FOR RECORD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E  LOU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7320" y="762120"/>
            <a:ext cx="8829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RICHARD BERRY WAS THE MOST POPULAR SONG PERFORMED  BY THE KINGS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1120" y="762120"/>
            <a:ext cx="8861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SONG BY THE CARTOON BAND "THE ARCH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ISES,  PROM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NEW WAVE BAND NAKED EYES ONLY HAD TWO TOP-20 SONGS: "ALWAYS SOMETHING THERE TO REMIND ME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MM  MMM  MMM  M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CRASH TEST DUMM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,  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OP-10 HIT OF NEIL DIAMOND, WHICH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LLED "ONE OF THE GREATEST 3-CHORD SONGS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06480" y="761760"/>
            <a:ext cx="73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EACH BOYS SONG DOES A GIRL DECEIVE HER FATHER SO SHE CAN USE HIS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19120" y="762120"/>
            <a:ext cx="8105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YRICS TO WHAT SONG  BY THE BYRDS ARE TAKEN ALMOST VERBATIM FROM THE BOOK OF ECCLESIAS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85920" y="762120"/>
            <a:ext cx="657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MAMAS AND THE PAP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76120" y="762120"/>
            <a:ext cx="8591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MCCARTNEY AND MICHAEL JACKSON RECORDED 3 DUETS: "THE GIRL IS MINE", "THE MAN", AND WHAT OTHER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NSYNC WAS NOMINATED FOR A GRAMMY FOR RECORD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RICHARD BERRY WAS THE MOST POPULAR SONG PERFORMED  BY THE KINGS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NEW WAVE BAND NAKED EYES ONLY HAD TWO TOP-20 SONGS: "ALWAYS SOMETHING THERE TO REMIND ME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0-08-30T12:24:52Z</dcterms:modified>
  <cp:revision>425</cp:revision>
  <dc:subject/>
  <dc:title>Slide 1</dc:title>
</cp:coreProperties>
</file>