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ADAE-E11A-4348-8146-7479326B3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7810-F235-434C-86DA-8AB6C7590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CF9F-2AC8-45B5-8FCF-32B5C35CF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5C35-DECF-40D2-9146-B8865652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80A5-36B0-4E87-A053-F51BB81D0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B4DC-A525-4AFA-A3CE-6B0B620CE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A848-6F55-4618-8084-EF82FA0D6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8658-8EA6-476C-A54B-7A6E1E457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FFD8-764B-4098-9DB7-28B2E3C46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FB2E-BD46-4275-8E51-7484D9EEA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63C0-7A09-4464-8233-3DA753DEA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248C-0D47-462B-9675-EE6ED2449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4F66-3C58-4290-B6E3-3D6590109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EFDD-7C62-4E10-9259-C882DA1C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02F1-F09B-4946-A173-0F0C3F5C7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0B09-F1BF-480E-AC41-A700D55A7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E9E0-B232-44A6-B4DE-81184E507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87D0-9C4A-438A-9577-1A22BA03D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5FB8-7CC5-415D-9A44-A77D37F4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BF01-547A-4FEE-A9BA-B242308CA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E41D-A3F1-4123-9C7A-137F19512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D0FB-67A8-4F81-AAB9-7A663B3D0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6D81-0790-4F63-8F69-36C6D71A5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06668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SUNNY"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371600" y="76212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FOLLOW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ARE THE SUNSHINE OF MY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 DAY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WI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NO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J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4448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ASONS I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FTH  DIM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90640" y="762120"/>
            <a:ext cx="556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QUARIUS / LET THE SUNSHINE 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&amp;  GARFUN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76160"/>
            <a:ext cx="6934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SUN IS BU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OV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SHINE SUPER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ARE THE SUNSHINE OF MY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YL  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AK UP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FOLLOW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 DAY SUNS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NO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ASONS IN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828800" y="723600"/>
            <a:ext cx="5486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QUARIUS / LET THE SUNSHINE 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SUN IS BU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SHINE SUPER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AK UP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17:32:25Z</dcterms:created>
  <dc:creator>Jennifer Budzinski</dc:creator>
  <dc:description/>
  <dc:language>en-US</dc:language>
  <cp:lastModifiedBy>Erich Friedman</cp:lastModifiedBy>
  <dcterms:modified xsi:type="dcterms:W3CDTF">2020-08-30T12:27:25Z</dcterms:modified>
  <cp:revision>329</cp:revision>
  <dc:subject/>
  <dc:title>Slide 1</dc:title>
</cp:coreProperties>
</file>