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0F5F-656D-433E-9BB7-5F889BEFF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8EC7-94B5-47BE-9FC1-25C008D33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925C-B120-4A08-ACB6-EC2112871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29F5-BF53-4CBE-B1D2-1D66D8DC7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1DCD-69D4-42D4-BADF-6E07D1612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C491-3607-4499-871F-112E9B244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F3BD-BF8F-47BC-964D-99984AC20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DE23-53E3-441C-9528-06EC6BB94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1203-E008-400B-929E-6CD26C139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EB47-29D1-4809-9230-B74C48DD3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3E77-39DD-4EDB-AD76-FDACF8061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55AA-E91E-446E-B114-21C6A70B9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0A21-5AF9-4FC6-B089-D9C35C27D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394E-2994-487C-92F8-8279F95F1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9451-6A78-4F1A-A923-A8BA05AC2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67F2-E15D-4296-A92A-4832443D2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7339-0E38-43ED-8FC7-8C63CEF64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D2A8-A010-4395-A28C-ED593201C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22D4-6203-4189-9253-8A66E5273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2255-556D-49A4-AC3E-0605FA4CE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E318-C346-48C6-9156-3489888BB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7F71-D82C-49D1-86BD-C70F3B44F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2C4E-CDE9-4571-853F-A7BEACC5B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106668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"SUNNY" SO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371600" y="762120"/>
            <a:ext cx="64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FOLLOW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IE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ARE THE SUNSHINE OF MY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 DAY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WI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NO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 J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4448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EASONS IN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FTH  DIM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90640" y="762120"/>
            <a:ext cx="5562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QUARIUS / LET THE SUNSHINE 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&amp;  GARFUN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76160"/>
            <a:ext cx="6934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SUN IS BURN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OV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SHINE SUPER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ARE THE SUNSHINE OF MY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YL  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AK UP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LIGHT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71600" y="762120"/>
            <a:ext cx="6400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FOLLOW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 DAY SUNSH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NO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EASONS IN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828800" y="723600"/>
            <a:ext cx="5486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QUARIUS / LET THE SUNSHINE 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SUN IS BURN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SHINE SUPER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AK UP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17:32:25Z</dcterms:created>
  <dc:creator>Jennifer Budzinski</dc:creator>
  <dc:description/>
  <dc:language>en-US</dc:language>
  <cp:lastModifiedBy>Erich Friedman</cp:lastModifiedBy>
  <dcterms:modified xsi:type="dcterms:W3CDTF">2020-08-30T12:27:25Z</dcterms:modified>
  <cp:revision>329</cp:revision>
  <dc:subject/>
  <dc:title>Slide 1</dc:title>
</cp:coreProperties>
</file>