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5466-2F23-47D3-A1AF-D158DB27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E518-C9C6-40C9-8990-569E0D04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99A4-4025-4B10-80D0-F9EBA44FD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3916-1D1E-405F-A231-92A965E8B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0910-6ACC-4F51-BDD3-85B7EDA11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650D-A504-423D-AA42-2F867840C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52A8-242C-42F6-85FB-CF51901A0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85BF-D771-47AF-886B-6896352A1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3F58-4A4A-40A4-A43C-B8C8B5730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9DEC-F6B5-4C24-B57D-72F66C03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5CFA-9453-4B33-A420-D51CFB84A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D13A-FC5B-428F-BAE5-82707B666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1C42-58B3-4854-94D9-BFA8EE61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C935-200F-4BAD-BEB6-DB6F80EB2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A322-C8E7-4DC3-87F7-D3C17607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72B1-2315-4002-B1E0-E7E3EA694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0946-C3BF-430D-B288-043DD9F9B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0A70-3B23-4137-8741-AC6CE065A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F907-B0AD-4441-B318-6FB332F64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F69B-D1DF-4AFE-AB3B-5DFCF164A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F618-08AB-4AE2-8D0E-D5D5712DB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C23E-3DE6-4A3E-A087-48F2860AA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0A84-69F5-4953-A24A-C09FCDDE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06668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SUNNY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FOLLOW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ARE THE SUNSHINE OF MY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DAY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WI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NO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J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4448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ASONS I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FTH  DIM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90640" y="762120"/>
            <a:ext cx="55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QUARIUS / LET THE SUNSHINE 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&amp;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76160"/>
            <a:ext cx="6934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UN IS BU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OV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SUPER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ARE THE SUNSHINE OF MY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YL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AK UP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FOLLOW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DAY SUNSH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IN'T NO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ASONS I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828800" y="723600"/>
            <a:ext cx="54864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QUARIUS / LET THE SUNSHINE 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SUN IS BU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SHINE SUPER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AK UP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17:32:25Z</dcterms:created>
  <dc:creator>Jennifer Budzinski</dc:creator>
  <dc:description/>
  <dc:language>en-US</dc:language>
  <cp:lastModifiedBy>Erich Friedman</cp:lastModifiedBy>
  <dcterms:modified xsi:type="dcterms:W3CDTF">2020-08-30T12:27:25Z</dcterms:modified>
  <cp:revision>329</cp:revision>
  <dc:subject/>
  <dc:title>Slide 1</dc:title>
</cp:coreProperties>
</file>