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58D4-668B-4BB2-B1A5-8757C24D0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C717-4810-4E5D-89D7-05AE47848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119-C086-46BD-80E9-F0DF2FD8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626-8EF0-4293-B612-7DF12C65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A1E1-2D5C-40D3-BF28-93A49D5F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667-3C62-4526-9D92-B817BA300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49CB-6172-4DD3-8521-7AED5840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58CF-2E3E-4093-9B5D-CF145CE81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F31-7F39-41D8-B2CE-268224FA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8D4A-755F-4A46-B97B-A5A1E7A2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90D9-75D7-43C5-B7C1-3D221E19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F29-7983-4ECE-82F0-7D670A54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BE7B-E3DC-4A7C-B99C-D1138798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87D-153B-4A21-A439-E668BD382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0FDD-DF56-446D-AF94-A7FA29A7E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72F-2AFB-44A5-8457-9FDAED3D1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BB89-4089-4836-B124-3A0CC97F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F52C-E7D6-4BED-A003-074F023C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CA2E-157E-44FD-9C14-434641A9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7C74-A69F-48D1-9A72-3A7332FA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505-D747-4C80-86FC-BBEB69CD1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02DE-E9E2-4B12-86E7-9ACAD1CF8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EB8E-735F-4C7D-AA39-C2C6EE78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HIT SONGS WITH THE EXACT SAME TITLE BY THESE GROUP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M (1965) AND LAURA BRANNIGAN (198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G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O STARR (1973), DEF LEPPARD (1983), NICKELBACK (2005), AND ED SHEERAN (2014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P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INTER SISTERS (1983), VAN HALEN (1984), AND   KRISS KROSS (199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J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I HENDRIX (1967), ARTHUR BROWN (1968), OHIO PLAYERS (1974), AND THE POINTER SISTERS (197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OF  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7004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 (1974) AND THE EMOTIONS (1977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B.O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DOG NIGHT (1969) AND METALLICA (1988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O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(1963) AND PINK FLOYD (1973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M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(1961) AND CHEAP TRICK (1978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S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YX (1973), KENNY ROGERS (1980), AND THE COMMODORES (1981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INTER SISTERS (1983), VAN HALEN (1984), AND KRISS KROSS (1992)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J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EL  LIKE  MAKING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A FLACK (1974) AND BAD COMPANY (1975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L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M (1965) AND LAURA BRANNIGAN (198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G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O STARR (1973), DEF LEPPARD (1983), NICKELBACK (2005), AND ED SHEERAN (2014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P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I HENDRIX (1967), ARTHUR BROWN (1968), OHIO PLAYERS (1974), AND THE POINTER SISTERS (1978)?  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 (1974) AND THE EMOTIONS (1977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B.O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DOG NIGHT (1969) AND METALLICA (1988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O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(1963) AND PINK FLOYD (1973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M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(1961) AND CHEAP TRICK (1978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S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YX (1973), KENNY ROGERS (1980), AND THE COMMODORES (1981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L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A FLACK (1974) AND BAD COMPANY (1975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L.M.L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2:38:40Z</dcterms:created>
  <dc:creator>Jennifer Budzinski</dc:creator>
  <dc:description/>
  <dc:language>en-US</dc:language>
  <cp:lastModifiedBy>Erich Friedman</cp:lastModifiedBy>
  <dcterms:modified xsi:type="dcterms:W3CDTF">2020-08-30T12:28:39Z</dcterms:modified>
  <cp:revision>334</cp:revision>
  <dc:subject/>
  <dc:title>Slide 1</dc:title>
</cp:coreProperties>
</file>