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069F-09AB-4701-9731-76D213EFC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3D25-D7D1-4143-81E5-781288DFA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3314-77AC-4DCB-80D6-94EB808CC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0F7F-E8EB-42F6-AF9C-D98B49FCF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DF70-78C9-466D-93EC-8A205F5B0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70FA-F215-4E76-91E8-C12C2B129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65DF-74E0-4598-A0F0-C936C5DA1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E0E6-B782-425C-B219-8BBF0F621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A0F2-8469-4DA2-840D-5711F212E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2B9C-6509-4DC3-9F4C-9F3CFB89A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01DF-B22C-4B62-AD17-21F97CFBB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54F3-B1D8-44E4-9B4B-4BCFBB55E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07B2-B213-440A-BDDE-CFFE3AC7A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C621-560B-4045-8F95-D8C2FCA8E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E45C-1AEE-400D-9BF9-FDCAA5A45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28C4-F715-43A5-99F4-08602B6C6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9BEA-75C0-4131-9A6E-23E7CFDAF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05B5-E032-4C8E-92BA-0B316107A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D41C-3783-485B-A678-2FD57FD55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576F-8BB2-4A89-91BE-326968587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AC21-9AF7-46B6-8301-1EAC624B2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AA07-65A1-4068-929D-40F14184B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3654-66D1-471E-826D-FF6EE5FD6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HIT SONGS WITH THE EXACT SAME TITLE BY THESE GROUP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M (1965) AND LAURA BRANNIGAN (1982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G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NGO STARR (1973), DEF LEPPARD (1983), NICKELBACK (2005), AND ED SHEERAN (2014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P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OINTER SISTERS (1983), VAN HALEN (1984), AND   KRISS KROSS (1992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J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I HENDRIX (1967), ARTHUR BROWN (1968), OHIO PLAYERS (1974), AND THE POINTER SISTERS (197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F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ST  OF  MY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7004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GLES (1974) AND THE EMOTIONS (1977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B.O.M.L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DOG NIGHT (1969) AND METALLICA (1988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O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 (1963) AND PINK FLOYD (1973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M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R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 (1961) AND CHEAP TRICK (1978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S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YX (1973), KENNY ROGERS (1980), AND THE COMMODORES (1981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L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OINTER SISTERS (1983), VAN HALEN (1984), AND KRISS KROSS (1992)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J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EL  LIKE  MAKING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A FLACK (1974) AND BAD COMPANY (1975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F.L.M.L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M (1965) AND LAURA BRANNIGAN (1982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G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TO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28600" y="76212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NGO STARR (1973), DEF LEPPARD (1983), NICKELBACK (2005), AND ED SHEERAN (2014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P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I HENDRIX (1967), ARTHUR BROWN (1968), OHIO PLAYERS (1974), AND THE POINTER SISTERS (1978)?     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F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GLES (1974) AND THE EMOTIONS (1977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B.O.M.L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DOG NIGHT (1969) AND METALLICA (1988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O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 (1963) AND PINK FLOYD (1973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M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 (1961) AND CHEAP TRICK (1978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S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YX (1973), KENNY ROGERS (1980), AND THE COMMODORES (1981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L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A FLACK (1974) AND BAD COMPANY (1975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F.L.M.L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2:38:40Z</dcterms:created>
  <dc:creator>Jennifer Budzinski</dc:creator>
  <dc:description/>
  <dc:language>en-US</dc:language>
  <cp:lastModifiedBy>Erich Friedman</cp:lastModifiedBy>
  <dcterms:modified xsi:type="dcterms:W3CDTF">2020-08-30T12:28:39Z</dcterms:modified>
  <cp:revision>334</cp:revision>
  <dc:subject/>
  <dc:title>Slide 1</dc:title>
</cp:coreProperties>
</file>