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631E6-AD4A-4657-AE6C-E8B6D62A05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C8F44-E42D-4228-8D9C-19E8A38E07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9932A-6F86-4ADF-8B63-16EBE15DBD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0126B-D4BE-492F-8826-EDEF966368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F3948-802B-4E16-A3E6-64143876E1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580A7-9F01-4936-A3F6-1C5A973A89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0B901-C0B4-4E27-8F84-8BBC9CC33C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283EF-A920-44DA-88E1-60A231A877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C9582-FA7A-4059-8555-3F7AF76F8B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2EB38-FB16-4D0C-B88B-8566B49BD0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DAFEC-E2DE-477A-B9DF-7C1C5709FC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864BE-BE42-4877-80AA-B273768361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25C99-B9BF-4679-A1B9-A2AD38D9D6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C5087-E15D-41FD-A75D-80E57059CA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557C9-6989-49BC-B27E-E1A6EFE095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53AC4-6BCC-4F13-AA04-A051482BF3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A237C-A294-437E-AF35-B18A964EC9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57E07-05F1-4A8C-9433-2E09F40D6A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A060C-EEF7-4069-8D11-61F0B2C633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32356-B6B3-4921-8068-C0048AC78C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687A3-90BA-4B74-A153-3A3E190033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BF246-6732-461C-96BB-F36A4FE89C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3F59D-BCD1-43A5-A389-0F195895E1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723960" y="1447560"/>
            <a:ext cx="76960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DENTIFY THE HIT SONGS WITH THE EXACT SAME TITLE BY THESE GROUPS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723960" y="761760"/>
            <a:ext cx="76960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M (1965) AND LAURA BRANNIGAN (1982)?  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[STARTS WITH G.]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190440" y="762120"/>
            <a:ext cx="87631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INGO STARR (1973), DEF LEPPARD (1983), NICKELBACK (2005), AND ED SHEERAN (2014)? 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[STARTS WITH P.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1066680" y="4876920"/>
            <a:ext cx="70106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UM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685800" y="762120"/>
            <a:ext cx="77724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POINTER SISTERS (1983), VAN HALEN (1984), AND   KRISS KROSS (1992)?  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[STARTS WITH J.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I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800280" y="762120"/>
            <a:ext cx="75438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JIMI HENDRIX (1967), ARTHUR BROWN (1968), OHIO PLAYERS (1974), AND THE POINTER SISTERS (1978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[STARTS WITH F.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76920"/>
            <a:ext cx="830592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EST  OF  MY  LO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990720" y="770040"/>
            <a:ext cx="71625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AGLES (1974) AND THE EMOTIONS (1977)? 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[STARTS WITH B.O.M.L.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7692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876240" y="762120"/>
            <a:ext cx="73915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REE DOG NIGHT (1969) AND METALLICA (1988)? 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[STARTS WITH O.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ON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838080" y="762120"/>
            <a:ext cx="74678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BEATLES (1963) AND PINK FLOYD (1973)?  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[STARTS WITH M.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URREN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1066680" y="762120"/>
            <a:ext cx="701064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LVIS PRESLEY (1961) AND CHEAP TRICK (1978)?  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[STARTS WITH S.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AD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952560" y="762120"/>
            <a:ext cx="72388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TYX (1973), KENNY ROGERS (1980), AND THE COMMODORES (1981)? 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[STARTS WITH L.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POINTER SISTERS (1983), VAN HALEN (1984), AND KRISS KROSS (1992)?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[STARTS WITH J.]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EEL  LIKE  MAKING  LO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533520" y="762120"/>
            <a:ext cx="807696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OBERTA FLACK (1974) AND BAD COMPANY (1975)? 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[STARTS WITH F.L.M.L.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LOR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685800" y="762120"/>
            <a:ext cx="77724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M (1965) AND LAURA BRANNIGAN (1982)?  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[STARTS WITH G.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HOTOGRAP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228600" y="762120"/>
            <a:ext cx="86868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INGO STARR (1973), DEF LEPPARD (1983), NICKELBACK (2005), AND ED SHEERAN (2014)? 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[STARTS WITH P.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723960" y="76176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JIMI HENDRIX (1967), ARTHUR BROWN (1968), OHIO PLAYERS (1974), AND THE POINTER SISTERS (1978)?           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[STARTS WITH F.]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952560" y="762120"/>
            <a:ext cx="7238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AGLES (1974) AND THE EMOTIONS (1977)? 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[STARTS WITH B.O.M.L.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723960" y="762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REE DOG NIGHT (1969) AND METALLICA (1988)? 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[STARTS WITH O.]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876240" y="761760"/>
            <a:ext cx="7391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BEATLES (1963) AND PINK FLOYD (1973)?  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[STARTS WITH M.]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1104840" y="761760"/>
            <a:ext cx="69343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LVIS PRESLEY (1961) AND CHEAP TRICK (1978)?  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[STARTS WITH S.]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1104840" y="761760"/>
            <a:ext cx="69343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TYX (1973), KENNY ROGERS (1980), AND THE COMMODORES (1981)? 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[STARTS WITH L.]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OBERTA FLACK (1974) AND BAD COMPANY (1975)? 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[STARTS WITH F.L.M.L.]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9-01T12:38:40Z</dcterms:created>
  <dc:creator>Jennifer Budzinski</dc:creator>
  <dc:description/>
  <dc:language>en-US</dc:language>
  <cp:lastModifiedBy>Erich Friedman</cp:lastModifiedBy>
  <dcterms:modified xsi:type="dcterms:W3CDTF">2020-08-30T12:28:39Z</dcterms:modified>
  <cp:revision>334</cp:revision>
  <dc:subject/>
  <dc:title>Slide 1</dc:title>
</cp:coreProperties>
</file>