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9DF9-56CD-4349-B6E6-542E928A0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D1FE-9DF3-4A42-BF80-85B455013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DC27-49B4-443E-96DE-DC143ABC6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3D2C-CFDD-4004-8F5E-33745FD45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4E47-A280-463B-8530-9EA00E554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6752-E37D-43AD-9294-5A30A678A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7EA6-C5B8-4401-BBE8-9BAA04581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3413-3AF4-4874-9173-0866EFDF8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C47B-3957-48A6-8FC0-D042D5746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7630-E68D-433C-A669-8798F615C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8019-5D9D-45D9-A3C0-C40F32F78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7ABB-6588-4091-B333-CD3CE9B0C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81C9-D3C6-4D74-BD33-24770E309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CD9B-2EE2-46C3-8D5C-2A0018583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6E0D4-E77D-422E-91EF-14C2F73E6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4832-EC71-4337-93FF-5E56A3DE7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520C-6A98-4D0F-AC11-D05A7B893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A8F3-6B7E-44B9-B6D5-F89A989DF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5690-48A8-48B8-9684-EACE68093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C6CB-E4D6-47E0-9449-30AFB1525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A8BF-79DE-48DA-87F5-65C8F3758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CE6E-E0D7-4CDC-A804-35F0B2B6F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61B0-0370-4F45-BAEF-CB2AE73D2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7162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SANG THESE "SUNNY" SONG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LKIN' ON THE SU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409760" y="762120"/>
            <a:ext cx="6324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LISTER IN THE S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EA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44720" y="762120"/>
            <a:ext cx="7086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ERE COMES THE S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N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OUSE OF THE RISING S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RINA  AND  THE  W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LKING ON SUNSH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EZ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04840" y="77616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SLAND IN THE S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UNSHINE OF YOUR LO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TON  JOH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562040" y="782640"/>
            <a:ext cx="60199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ON'T LET THE SUN GO DOWN ON 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EACH  BO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WARMTH OF THE S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ERE COMES THE SU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DO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ITING FOR THE S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MASH  MO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28880" y="762120"/>
            <a:ext cx="7086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LKIN' ON THE S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OLENT  FEM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371600" y="762120"/>
            <a:ext cx="6400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LISTER IN THE S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OUSE OF THE RISING SU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LKING ON SUNSH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SLAND IN THE SU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99920" y="72396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UNSHINE OF YOUR LO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600200" y="761760"/>
            <a:ext cx="5943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ON'T LET THE SUN GO DOWN ON 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WARMTH OF THE SU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ITING FOR THE SU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4:32:26Z</dcterms:created>
  <dc:creator>Jennifer Budzinski</dc:creator>
  <dc:description/>
  <dc:language>en-US</dc:language>
  <cp:lastModifiedBy>Erich Friedman</cp:lastModifiedBy>
  <dcterms:modified xsi:type="dcterms:W3CDTF">2020-08-29T17:51:07Z</dcterms:modified>
  <cp:revision>328</cp:revision>
  <dc:subject/>
  <dc:title>Slide 1</dc:title>
</cp:coreProperties>
</file>