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0979-87BC-426F-9877-BACF33D0D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97E6-B074-4A10-930C-37F831766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F992-9B37-453E-889E-568958540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E136-83F1-4A9F-8F2D-843274FCA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A099-249B-430A-B2EC-B40E04BA9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BC94-D2FD-4706-869B-3D98838B6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33D1-5F34-44F5-9552-CD65ACC7C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680E-A58B-4FBF-AFC6-DC9BA930A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EBD2-5302-4107-9F9E-D619BF4C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4BDB-8096-471A-BBB7-69BDEE03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A97F-AE3D-4BD4-871D-FF603DF30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E4DB-0DFF-4D9B-8D60-3C20BD1E8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C7FF-290F-42D5-91AE-E650F7D51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A38D-B8BE-460E-ABC3-B9942CB7A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F8AE-BBB6-43BD-AC3C-CF6FD92C6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EDFC-9B80-4D75-AF47-3DF40AB1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004B-B7C0-4BCE-82CE-5998E20D3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4278-3DE5-40C2-A9E2-F06007F1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A4B8-2858-49E2-983A-254C5047D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6243-7256-4881-894A-B6A1D1309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460C-1111-4B95-9D6A-B120C579D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A7F1-A166-41B5-87EC-479CF5158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075C-8F12-43CD-A379-5EF2B8E1F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SUNNY"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' O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ISTER I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4472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 COMES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THE RISING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RINA  AND  THE 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E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7616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SLAND I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SHINE OF YOUR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82640"/>
            <a:ext cx="6019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LET THE SUN GO DOWN ON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CH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WARMTH OF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 COMES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O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ITING FOR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SH  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' O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OLENT  FEM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ISTER I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THE RISING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SLAND I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SHINE OF YOUR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LET THE SUN GO DOWN ON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WARMTH OF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ITING FOR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9T17:51:07Z</dcterms:modified>
  <cp:revision>328</cp:revision>
  <dc:subject/>
  <dc:title>Slide 1</dc:title>
</cp:coreProperties>
</file>