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C58E-DDA5-4A9B-B83E-753C59FAA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279-2258-4706-943A-251079C60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3BEB-D3E7-4974-AD5A-3778326F6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E9C-B375-4828-AD94-E3F865B0B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80BA-A12D-4800-981F-C3B008AC6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75D1-BAD9-4A33-8B3E-69E52279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AEBF-07C0-4BBB-B99B-FD0A2CF6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9B25-0DE5-47AC-8A2E-0CB89F05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18AB-9C4F-4321-9078-2ECF2CB79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6A37-1DE6-4BE8-A459-F3EF73216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06F0-85A6-4231-9817-E104C3755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AD9-2BDC-4250-B28F-13CB15A9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12DB-1FEF-4B19-A75F-8A8147538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959D-4043-4E00-8EFB-4AA76BBEF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E94D-C381-402E-A712-423BA8DC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CAC4-217A-4139-A5FB-42DB350C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D4C7-1827-4725-94EE-E34BC8A8F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BBEC-10E7-4C4D-82D1-E2FC8413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CC4F-E665-458B-9707-2A839C123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C263-E762-4D0C-93CE-AE571F671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99AE-D5B8-4390-AC4D-220D48DE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0672-7BD1-4D73-9757-FA942292F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FE1B-8693-4904-AB76-C338B9F50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HIGH" AND "LOW" IN SO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TAL BACHMAN SONG REACHED #1 ON BILLBOARD'S ADULT TOP 40 CH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43080" y="762120"/>
            <a:ext cx="8458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TOOK JOHN DENVER 9 MONTHS TO 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83808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ARTH BROOKS SONG WON COUNTRY MUSIC SONG OF THE YEAR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  IN  LOW  P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  MILES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YRDS SONG IS CONSIDERED THE FIRST PSYCHEDELIC ROCK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NG  LOW  SWEET  CHAR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SPIRITUAL DID ERIC CLAPTON COVER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DE  IS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WRITTEN BY A JAMAICAN GROUP, BUT BECAME A #1 HIT WHEN SUNG BY BLONDIE IN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W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WAR IS ABOUT HYDRAULICALLY MODIFIED CLASSIC C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228600" y="4952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N'T  NO  MOUNTAIN HIGH 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HIT WHEN SUNG BY MARVIN GAYE IN 1967, AND AGAIN WHEN SUNG BY DIANA ROS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VOL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BUM BY AC/D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ARTH BROOKS SONG WON COUNTRY MUSIC SONG OF THE YEAR IN 199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FT ROCK SUPERSTAR SANG "TOO LOW FOR ZE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'S  SO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TAL BACHMAN SONG REACHED #1 ON BILLBOARD'S ADULT TOP 40 CH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MOUNTAIN 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TOOK JOHN DENVER 9 MONTHS TO 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YRDS SONG IS CONSIDERED THE FIRST PSYCHEDELIC ROCK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SPIRITUAL DID ERIC CLAPTON COVER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WRITTEN    BY A JAMAICAN GROUP, BUT BECAME A #1 HIT WHEN SUNG BY BLONDIE IN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WAR IS ABOUT HYDRAULICALLY MODIFIED CLASSIC C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HIT WHEN SUNG BY MARVIN GAYE IN 1967, AND AGAIN WHEN SUNG BY DIANA ROSS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BUM BY AC/D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FT ROCK SUPERSTAR SANG "TOO LOW FOR ZE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2:15:52Z</dcterms:created>
  <dc:creator>Jennifer Budzinski</dc:creator>
  <dc:description/>
  <dc:language>en-US</dc:language>
  <cp:lastModifiedBy>Erich Friedman</cp:lastModifiedBy>
  <dcterms:modified xsi:type="dcterms:W3CDTF">2020-09-04T12:26:08Z</dcterms:modified>
  <cp:revision>289</cp:revision>
  <dc:subject/>
  <dc:title>Slide 1</dc:title>
</cp:coreProperties>
</file>