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DC9-328F-4A96-8917-E74900052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0B9B-2976-4F23-92E4-E78A8966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A54-B685-4782-B028-DB25102A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399E-6B86-4C69-B682-DE263E31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401-8EA3-41EA-A4CE-B650D1BA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3820-6177-411A-998B-5A5E1C1C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F34B-2707-4F95-B67F-2C1B2EC1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36F0-0F03-4E8C-B350-1340779C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D66E-8DCA-4932-A754-04A5FEDB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65FF-144A-4B7A-A260-2330B0D3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C1C-2054-41FD-9177-74D1FF0CE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34A-8081-4AEC-8B2B-017C835E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33D-34BA-4A97-89AD-859506F4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E4E-BFB3-4624-AA82-EC547A5D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75F9-0F29-49B6-A8B0-1F09C26E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76A-E7E6-407C-A2D8-A5D1F7D66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1D3-2751-4FEE-8C1B-CAB4F29C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2E4-FDFA-4BDD-8520-EBD0979A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999A-21C6-423A-BC0F-F2F566B0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5A2-2C43-4BDA-BB46-1B24DA67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9BF-59EF-4533-BC89-1FEE717F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E6D-620E-4832-8BF2-FBA00C93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74DB-0D6E-4A7F-9B10-3BD846C1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HIGH" AND "LOW" IN S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AL BACHMAN SONG REACHED #1 ON BILLBOARD'S ADULT TOP 40 CH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TOOK JOHN DENVER 9 MONTHS TO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8380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ARTH BROOKS SONG WON COUNTRY MUSIC SONG OF THE YEAR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  IN  LOW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MILES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YRDS SONG IS CONSIDERED THE FIRST PSYCHEDELIC ROCK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LOW  SWEET  CHA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PIRITUAL DID ERIC CLAPTON COVER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DE  IS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WRITTEN BY A JAMAICAN GROUP, BUT BECAME A #1 HIT WHEN SUNG BY BLONDIE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W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WAR IS ABOUT HYDRAULICALLY MODIFIED CLASSIC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28600" y="4952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 MOUNTAIN HIGH 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HIT WHEN SUNG BY MARVIN GAYE IN 1967, AND AGAIN WHEN SUNG BY DIANA ROS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VOL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BUM BY AC/D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ARTH BROOKS SONG WON COUNTRY MUSIC SONG OF THE YEAR IN 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FT ROCK SUPERSTAR SANG "TOO LOW FOR 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'S  SO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AL BACHMAN SONG REACHED #1 ON BILLBOARD'S ADULT TOP 40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OUNTAIN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TOOK JOHN DENVER 9 MONTHS TO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YRDS SONG IS CONSIDERED THE FIRST PSYCHEDELIC ROCK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PIRITUAL DID ERIC CLAPTON COVER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WRITTEN    BY A JAMAICAN GROUP, BUT BECAME A #1 HIT WHEN SUNG BY BLONDIE IN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WAR IS ABOUT HYDRAULICALLY MODIFIED CLASSIC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HIT WHEN SUNG BY MARVIN GAYE IN 1967, AND AGAIN WHEN SUNG BY DIANA ROS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BUM BY AC/D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FT ROCK SUPERSTAR SANG "TOO LOW FOR Z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2:15:52Z</dcterms:created>
  <dc:creator>Jennifer Budzinski</dc:creator>
  <dc:description/>
  <dc:language>en-US</dc:language>
  <cp:lastModifiedBy>Erich Friedman</cp:lastModifiedBy>
  <dcterms:modified xsi:type="dcterms:W3CDTF">2020-09-04T12:26:08Z</dcterms:modified>
  <cp:revision>289</cp:revision>
  <dc:subject/>
  <dc:title>Slide 1</dc:title>
</cp:coreProperties>
</file>