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8203-4B99-4797-BF26-D0AA69102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C3A6-9B78-4408-B81B-401E6F03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1C54-DA9F-4E58-B4D4-3FAA7EAE6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E021-DC99-423D-8D24-858778FA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D24A-9E4B-46C3-BE4F-91DB625E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79B7-6831-4271-8C64-D20B9365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6649-AA98-47E4-961E-50177570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EA2B-C1EB-435A-A7A9-273AAA8AA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D73-9B8F-4618-B65D-8BC3F39A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1FC8-FEAD-499A-BB37-241E22357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3F4F-BD18-4CF3-BDB4-F9E5C6A8B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2C50-4664-473B-943B-86F8A8DA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1F9D-1D14-4907-B87C-37F48ED0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F24-9F31-440A-85FF-D76476A67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EAC-CC03-4B58-B4D3-E0E15856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193F-4475-4821-B75E-7159EDBB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D0E-F874-44EA-8094-707E28B7F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C37B-A7DA-451A-901D-5B0E7F89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7B5-5BC2-4282-8D00-74E7F602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9A5-DC6B-462B-A699-764697B9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587F-0DF3-473C-89BF-58430605C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5D27-A8B0-405C-A779-0D82B7F9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DE9B-65B7-4392-9883-997D9D4B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LARGE MUSICAL GROU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s-184684-107110185.jpg"/>
          <p:cNvPicPr/>
          <p:nvPr/>
        </p:nvPicPr>
        <p:blipFill>
          <a:blip r:embed="rId1"/>
          <a:stretch/>
        </p:blipFill>
        <p:spPr>
          <a:xfrm>
            <a:off x="1714680" y="1419120"/>
            <a:ext cx="5715000" cy="34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jefferson_airplane.jpg"/>
          <p:cNvPicPr/>
          <p:nvPr/>
        </p:nvPicPr>
        <p:blipFill>
          <a:blip r:embed="rId1"/>
          <a:stretch/>
        </p:blipFill>
        <p:spPr>
          <a:xfrm>
            <a:off x="1103400" y="1371600"/>
            <a:ext cx="6937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M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I0001408893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7996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8360" y="714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the-byrds-in-1965-from-left-david-crosby-chris-hillman-jim-roger-mcguinn-michael-clarke-and-gene-clark.jpg"/>
          <p:cNvPicPr/>
          <p:nvPr/>
        </p:nvPicPr>
        <p:blipFill>
          <a:blip r:embed="rId1"/>
          <a:stretch/>
        </p:blipFill>
        <p:spPr>
          <a:xfrm>
            <a:off x="2048040" y="1347840"/>
            <a:ext cx="5068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,  WIND  &amp;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earth-wind-and-fire-shining-stars-929.jpg"/>
          <p:cNvPicPr/>
          <p:nvPr/>
        </p:nvPicPr>
        <p:blipFill>
          <a:blip r:embed="rId1"/>
          <a:stretch/>
        </p:blipFill>
        <p:spPr>
          <a:xfrm>
            <a:off x="2109960" y="1371600"/>
            <a:ext cx="4924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072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07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ettyimages-84998819-fc95aa68-22fe-4770-b071-79c4e45f04a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6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7REISSUES4-master768.jpg"/>
          <p:cNvPicPr/>
          <p:nvPr/>
        </p:nvPicPr>
        <p:blipFill>
          <a:blip r:embed="rId1"/>
          <a:stretch/>
        </p:blipFill>
        <p:spPr>
          <a:xfrm>
            <a:off x="1735200" y="1411200"/>
            <a:ext cx="5673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rs-183874-133629533.jpg"/>
          <p:cNvPicPr/>
          <p:nvPr/>
        </p:nvPicPr>
        <p:blipFill>
          <a:blip r:embed="rId1"/>
          <a:stretch/>
        </p:blipFill>
        <p:spPr>
          <a:xfrm>
            <a:off x="1517760" y="1401840"/>
            <a:ext cx="6107040" cy="34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CH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rticle-2208817-128D6A36000005DC-540_634x462.jpg"/>
          <p:cNvPicPr/>
          <p:nvPr/>
        </p:nvPicPr>
        <p:blipFill>
          <a:blip r:embed="rId1"/>
          <a:stretch/>
        </p:blipFill>
        <p:spPr>
          <a:xfrm>
            <a:off x="2114640" y="1371600"/>
            <a:ext cx="4913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I0001408893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7996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roon-5.png"/>
          <p:cNvPicPr/>
          <p:nvPr/>
        </p:nvPicPr>
        <p:blipFill>
          <a:blip r:embed="rId1"/>
          <a:stretch/>
        </p:blipFill>
        <p:spPr>
          <a:xfrm>
            <a:off x="1371600" y="1406520"/>
            <a:ext cx="6400800" cy="36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79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s-184684-107110185.jpg"/>
          <p:cNvPicPr/>
          <p:nvPr/>
        </p:nvPicPr>
        <p:blipFill>
          <a:blip r:embed="rId1"/>
          <a:stretch/>
        </p:blipFill>
        <p:spPr>
          <a:xfrm>
            <a:off x="1714680" y="1447920"/>
            <a:ext cx="5715000" cy="34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63680" y="7696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jefferson_airplane.jpg"/>
          <p:cNvPicPr/>
          <p:nvPr/>
        </p:nvPicPr>
        <p:blipFill>
          <a:blip r:embed="rId1"/>
          <a:stretch/>
        </p:blipFill>
        <p:spPr>
          <a:xfrm>
            <a:off x="1111320" y="1371600"/>
            <a:ext cx="69357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the-byrds-in-1965-from-left-david-crosby-chris-hillman-jim-roger-mcguinn-michael-clarke-and-gene-clark.jpg"/>
          <p:cNvPicPr/>
          <p:nvPr/>
        </p:nvPicPr>
        <p:blipFill>
          <a:blip r:embed="rId1"/>
          <a:stretch/>
        </p:blipFill>
        <p:spPr>
          <a:xfrm>
            <a:off x="2036880" y="1371600"/>
            <a:ext cx="5070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earth-wind-and-fire-shining-stars-929.jpg"/>
          <p:cNvPicPr/>
          <p:nvPr/>
        </p:nvPicPr>
        <p:blipFill>
          <a:blip r:embed="rId1"/>
          <a:stretch/>
        </p:blipFill>
        <p:spPr>
          <a:xfrm>
            <a:off x="2133720" y="1447920"/>
            <a:ext cx="49244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ettyimages-84998819-fc95aa68-22fe-4770-b071-79c4e45f04a7.jpg"/>
          <p:cNvPicPr/>
          <p:nvPr/>
        </p:nvPicPr>
        <p:blipFill>
          <a:blip r:embed="rId1"/>
          <a:stretch/>
        </p:blipFill>
        <p:spPr>
          <a:xfrm>
            <a:off x="1225440" y="1371600"/>
            <a:ext cx="669312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7REISSUES4-master768.jpg"/>
          <p:cNvPicPr/>
          <p:nvPr/>
        </p:nvPicPr>
        <p:blipFill>
          <a:blip r:embed="rId1"/>
          <a:stretch/>
        </p:blipFill>
        <p:spPr>
          <a:xfrm>
            <a:off x="1735200" y="1371600"/>
            <a:ext cx="5673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rs-183874-133629533.jpg"/>
          <p:cNvPicPr/>
          <p:nvPr/>
        </p:nvPicPr>
        <p:blipFill>
          <a:blip r:embed="rId1"/>
          <a:stretch/>
        </p:blipFill>
        <p:spPr>
          <a:xfrm>
            <a:off x="1517760" y="1366920"/>
            <a:ext cx="61070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article-2208817-128D6A36000005DC-540_634x462.jpg"/>
          <p:cNvPicPr/>
          <p:nvPr/>
        </p:nvPicPr>
        <p:blipFill>
          <a:blip r:embed="rId1"/>
          <a:stretch/>
        </p:blipFill>
        <p:spPr>
          <a:xfrm>
            <a:off x="2114640" y="1371600"/>
            <a:ext cx="4913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roon-5.pn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62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7:26:03Z</dcterms:created>
  <dc:creator>Jennifer Budzinski</dc:creator>
  <dc:description/>
  <dc:language>en-US</dc:language>
  <cp:lastModifiedBy>Erich Friedman</cp:lastModifiedBy>
  <dcterms:modified xsi:type="dcterms:W3CDTF">2020-09-04T12:56:15Z</dcterms:modified>
  <cp:revision>281</cp:revision>
  <dc:subject/>
  <dc:title>Slide 1</dc:title>
</cp:coreProperties>
</file>