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1647-BF0A-4D93-A86D-36947A5E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2130-001D-411D-BBC3-8D4086FEA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000-786D-44AF-98A6-7943F086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5AD-B4E0-42FB-91E7-9827DC584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0E3-5096-4D89-89BB-76825D35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3DF-1D34-4D3F-8FE0-D6D879AF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FE03-BB13-4BFB-8E48-D9E9C51D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1C0-FF29-4085-8C57-10FBB030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7E8-F392-4A96-8543-257B63BF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5D9-0852-48EF-878F-9AC89989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6B90-8C77-43C5-BA56-24106107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1C07-68C9-49F7-ABCE-80C56770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9278-8F50-4B3E-968C-ECA620F9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102D-FAB8-4095-962C-94D7AD3C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79C-3C81-4A73-A82E-58F26602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9A1C-FE91-42B3-964C-A4420F76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598D-62B4-4D8B-8CE3-A7A4A409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5596-0BBA-4D9F-84D2-B9F040F6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F540-4927-4957-A1BB-EAAE5862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42F-95D6-4544-9DA6-CFFBB4D8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A12-23F6-4695-AAAD-7C1C64F5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C537-96A9-4538-8338-693AE094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DF1-B974-40D8-8723-7148F85F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LARGE MUSICAL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s-184684-107110185.jpg"/>
          <p:cNvPicPr/>
          <p:nvPr/>
        </p:nvPicPr>
        <p:blipFill>
          <a:blip r:embed="rId1"/>
          <a:stretch/>
        </p:blipFill>
        <p:spPr>
          <a:xfrm>
            <a:off x="1714680" y="1419120"/>
            <a:ext cx="571500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jefferson_airplane.jpg"/>
          <p:cNvPicPr/>
          <p:nvPr/>
        </p:nvPicPr>
        <p:blipFill>
          <a:blip r:embed="rId1"/>
          <a:stretch/>
        </p:blipFill>
        <p:spPr>
          <a:xfrm>
            <a:off x="1103400" y="1371600"/>
            <a:ext cx="6937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M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I0001408893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7996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8360" y="714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the-byrds-in-1965-from-left-david-crosby-chris-hillman-jim-roger-mcguinn-michael-clarke-and-gene-clark.jpg"/>
          <p:cNvPicPr/>
          <p:nvPr/>
        </p:nvPicPr>
        <p:blipFill>
          <a:blip r:embed="rId1"/>
          <a:stretch/>
        </p:blipFill>
        <p:spPr>
          <a:xfrm>
            <a:off x="2048040" y="1347840"/>
            <a:ext cx="5068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,  WIND  &amp;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earth-wind-and-fire-shining-stars-929.jpg"/>
          <p:cNvPicPr/>
          <p:nvPr/>
        </p:nvPicPr>
        <p:blipFill>
          <a:blip r:embed="rId1"/>
          <a:stretch/>
        </p:blipFill>
        <p:spPr>
          <a:xfrm>
            <a:off x="2109960" y="1371600"/>
            <a:ext cx="4924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072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07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ettyimages-84998819-fc95aa68-22fe-4770-b071-79c4e45f04a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6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7REISSUES4-master768.jpg"/>
          <p:cNvPicPr/>
          <p:nvPr/>
        </p:nvPicPr>
        <p:blipFill>
          <a:blip r:embed="rId1"/>
          <a:stretch/>
        </p:blipFill>
        <p:spPr>
          <a:xfrm>
            <a:off x="1735200" y="1411200"/>
            <a:ext cx="5673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rs-183874-133629533.jpg"/>
          <p:cNvPicPr/>
          <p:nvPr/>
        </p:nvPicPr>
        <p:blipFill>
          <a:blip r:embed="rId1"/>
          <a:stretch/>
        </p:blipFill>
        <p:spPr>
          <a:xfrm>
            <a:off x="1517760" y="1401840"/>
            <a:ext cx="6107040" cy="34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rticle-2208817-128D6A36000005DC-540_634x462.jpg"/>
          <p:cNvPicPr/>
          <p:nvPr/>
        </p:nvPicPr>
        <p:blipFill>
          <a:blip r:embed="rId1"/>
          <a:stretch/>
        </p:blipFill>
        <p:spPr>
          <a:xfrm>
            <a:off x="2114640" y="1371600"/>
            <a:ext cx="4913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I0001408893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7996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roon-5.png"/>
          <p:cNvPicPr/>
          <p:nvPr/>
        </p:nvPicPr>
        <p:blipFill>
          <a:blip r:embed="rId1"/>
          <a:stretch/>
        </p:blipFill>
        <p:spPr>
          <a:xfrm>
            <a:off x="1371600" y="1406520"/>
            <a:ext cx="6400800" cy="36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79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s-184684-107110185.jpg"/>
          <p:cNvPicPr/>
          <p:nvPr/>
        </p:nvPicPr>
        <p:blipFill>
          <a:blip r:embed="rId1"/>
          <a:stretch/>
        </p:blipFill>
        <p:spPr>
          <a:xfrm>
            <a:off x="1714680" y="1447920"/>
            <a:ext cx="571500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63680" y="769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jefferson_airplane.jpg"/>
          <p:cNvPicPr/>
          <p:nvPr/>
        </p:nvPicPr>
        <p:blipFill>
          <a:blip r:embed="rId1"/>
          <a:stretch/>
        </p:blipFill>
        <p:spPr>
          <a:xfrm>
            <a:off x="1111320" y="1371600"/>
            <a:ext cx="69357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the-byrds-in-1965-from-left-david-crosby-chris-hillman-jim-roger-mcguinn-michael-clarke-and-gene-clark.jpg"/>
          <p:cNvPicPr/>
          <p:nvPr/>
        </p:nvPicPr>
        <p:blipFill>
          <a:blip r:embed="rId1"/>
          <a:stretch/>
        </p:blipFill>
        <p:spPr>
          <a:xfrm>
            <a:off x="2036880" y="1371600"/>
            <a:ext cx="5070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earth-wind-and-fire-shining-stars-929.jpg"/>
          <p:cNvPicPr/>
          <p:nvPr/>
        </p:nvPicPr>
        <p:blipFill>
          <a:blip r:embed="rId1"/>
          <a:stretch/>
        </p:blipFill>
        <p:spPr>
          <a:xfrm>
            <a:off x="2133720" y="1447920"/>
            <a:ext cx="49244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ettyimages-84998819-fc95aa68-22fe-4770-b071-79c4e45f04a7.jpg"/>
          <p:cNvPicPr/>
          <p:nvPr/>
        </p:nvPicPr>
        <p:blipFill>
          <a:blip r:embed="rId1"/>
          <a:stretch/>
        </p:blipFill>
        <p:spPr>
          <a:xfrm>
            <a:off x="1225440" y="1371600"/>
            <a:ext cx="669312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7REISSUES4-master768.jpg"/>
          <p:cNvPicPr/>
          <p:nvPr/>
        </p:nvPicPr>
        <p:blipFill>
          <a:blip r:embed="rId1"/>
          <a:stretch/>
        </p:blipFill>
        <p:spPr>
          <a:xfrm>
            <a:off x="1735200" y="1371600"/>
            <a:ext cx="5673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rs-183874-133629533.jpg"/>
          <p:cNvPicPr/>
          <p:nvPr/>
        </p:nvPicPr>
        <p:blipFill>
          <a:blip r:embed="rId1"/>
          <a:stretch/>
        </p:blipFill>
        <p:spPr>
          <a:xfrm>
            <a:off x="1517760" y="1366920"/>
            <a:ext cx="61070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article-2208817-128D6A36000005DC-540_634x462.jpg"/>
          <p:cNvPicPr/>
          <p:nvPr/>
        </p:nvPicPr>
        <p:blipFill>
          <a:blip r:embed="rId1"/>
          <a:stretch/>
        </p:blipFill>
        <p:spPr>
          <a:xfrm>
            <a:off x="2114640" y="1371600"/>
            <a:ext cx="4913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roon-5.pn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7:26:03Z</dcterms:created>
  <dc:creator>Jennifer Budzinski</dc:creator>
  <dc:description/>
  <dc:language>en-US</dc:language>
  <cp:lastModifiedBy>Erich Friedman</cp:lastModifiedBy>
  <dcterms:modified xsi:type="dcterms:W3CDTF">2020-09-04T12:56:15Z</dcterms:modified>
  <cp:revision>281</cp:revision>
  <dc:subject/>
  <dc:title>Slide 1</dc:title>
</cp:coreProperties>
</file>