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DD42-A293-4C18-841B-4C0AA11E0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5787-F2CB-4938-B2A2-1E3A11A96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5612-90D6-499C-BBD0-588D45B9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AF62-0265-46F1-B102-8A610FCA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FB10-985D-45AA-8903-CE381254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CCC1-7582-4CD2-B780-4A58ABD5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9467-C251-4793-B7E8-547D17DC0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ACC7-0B98-435B-8617-14A108DD1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38DD-6129-4090-A7C3-F505B3915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ABBF-A37D-41AD-BB58-B18BC266B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3421-4D94-42DE-B903-616C2B1BB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12E4-2C33-4E63-9998-911DF99C7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5E2E-A715-49EC-B9B4-847D3FBF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B1BB-1ACB-4104-97F9-3875A6FDB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AB0D-0333-4121-9721-8AB10BB6B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CDAF-CD43-4FE9-9832-F8793799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F747-92A2-4A45-9989-6853F97DC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F340-3978-4869-BF75-4BD65D07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7E09-4A7D-4389-8B49-D0B28834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F0AA-F881-472B-9084-E710FB25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0FC6-E326-4493-8FBF-93ABA041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289A-AFCC-41C8-8184-CC3122CC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415C-7238-4AB5-BCF0-67B3561BD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LARGE MUSICAL GROU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rs-184684-107110185.jpg"/>
          <p:cNvPicPr/>
          <p:nvPr/>
        </p:nvPicPr>
        <p:blipFill>
          <a:blip r:embed="rId1"/>
          <a:stretch/>
        </p:blipFill>
        <p:spPr>
          <a:xfrm>
            <a:off x="1714680" y="1419120"/>
            <a:ext cx="5715000" cy="34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jefferson_airplane.jpg"/>
          <p:cNvPicPr/>
          <p:nvPr/>
        </p:nvPicPr>
        <p:blipFill>
          <a:blip r:embed="rId1"/>
          <a:stretch/>
        </p:blipFill>
        <p:spPr>
          <a:xfrm>
            <a:off x="1103400" y="1371600"/>
            <a:ext cx="69372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M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I0001408893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7996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68360" y="7142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the-byrds-in-1965-from-left-david-crosby-chris-hillman-jim-roger-mcguinn-michael-clarke-and-gene-clark.jpg"/>
          <p:cNvPicPr/>
          <p:nvPr/>
        </p:nvPicPr>
        <p:blipFill>
          <a:blip r:embed="rId1"/>
          <a:stretch/>
        </p:blipFill>
        <p:spPr>
          <a:xfrm>
            <a:off x="2048040" y="1347840"/>
            <a:ext cx="5068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,  WIND  &amp;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earth-wind-and-fire-shining-stars-929.jpg"/>
          <p:cNvPicPr/>
          <p:nvPr/>
        </p:nvPicPr>
        <p:blipFill>
          <a:blip r:embed="rId1"/>
          <a:stretch/>
        </p:blipFill>
        <p:spPr>
          <a:xfrm>
            <a:off x="2109960" y="1371600"/>
            <a:ext cx="492408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072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07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ettyimages-84998819-fc95aa68-22fe-4770-b071-79c4e45f04a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6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7REISSUES4-master768.jpg"/>
          <p:cNvPicPr/>
          <p:nvPr/>
        </p:nvPicPr>
        <p:blipFill>
          <a:blip r:embed="rId1"/>
          <a:stretch/>
        </p:blipFill>
        <p:spPr>
          <a:xfrm>
            <a:off x="1735200" y="1411200"/>
            <a:ext cx="56736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JO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rs-183874-133629533.jpg"/>
          <p:cNvPicPr/>
          <p:nvPr/>
        </p:nvPicPr>
        <p:blipFill>
          <a:blip r:embed="rId1"/>
          <a:stretch/>
        </p:blipFill>
        <p:spPr>
          <a:xfrm>
            <a:off x="1517760" y="1401840"/>
            <a:ext cx="6107040" cy="34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CH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rticle-2208817-128D6A36000005DC-540_634x462.jpg"/>
          <p:cNvPicPr/>
          <p:nvPr/>
        </p:nvPicPr>
        <p:blipFill>
          <a:blip r:embed="rId1"/>
          <a:stretch/>
        </p:blipFill>
        <p:spPr>
          <a:xfrm>
            <a:off x="2114640" y="1371600"/>
            <a:ext cx="4913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I0001408893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7996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roon-5.png"/>
          <p:cNvPicPr/>
          <p:nvPr/>
        </p:nvPicPr>
        <p:blipFill>
          <a:blip r:embed="rId1"/>
          <a:stretch/>
        </p:blipFill>
        <p:spPr>
          <a:xfrm>
            <a:off x="1371600" y="1406520"/>
            <a:ext cx="6400800" cy="36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79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ETWOOD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s-184684-107110185.jpg"/>
          <p:cNvPicPr/>
          <p:nvPr/>
        </p:nvPicPr>
        <p:blipFill>
          <a:blip r:embed="rId1"/>
          <a:stretch/>
        </p:blipFill>
        <p:spPr>
          <a:xfrm>
            <a:off x="1714680" y="1447920"/>
            <a:ext cx="5715000" cy="345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63680" y="7696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jefferson_airplane.jpg"/>
          <p:cNvPicPr/>
          <p:nvPr/>
        </p:nvPicPr>
        <p:blipFill>
          <a:blip r:embed="rId1"/>
          <a:stretch/>
        </p:blipFill>
        <p:spPr>
          <a:xfrm>
            <a:off x="1111320" y="1371600"/>
            <a:ext cx="69357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the-byrds-in-1965-from-left-david-crosby-chris-hillman-jim-roger-mcguinn-michael-clarke-and-gene-clark.jpg"/>
          <p:cNvPicPr/>
          <p:nvPr/>
        </p:nvPicPr>
        <p:blipFill>
          <a:blip r:embed="rId1"/>
          <a:stretch/>
        </p:blipFill>
        <p:spPr>
          <a:xfrm>
            <a:off x="2036880" y="1371600"/>
            <a:ext cx="5070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earth-wind-and-fire-shining-stars-929.jpg"/>
          <p:cNvPicPr/>
          <p:nvPr/>
        </p:nvPicPr>
        <p:blipFill>
          <a:blip r:embed="rId1"/>
          <a:stretch/>
        </p:blipFill>
        <p:spPr>
          <a:xfrm>
            <a:off x="2133720" y="1447920"/>
            <a:ext cx="49244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ettyimages-84998819-fc95aa68-22fe-4770-b071-79c4e45f04a7.jpg"/>
          <p:cNvPicPr/>
          <p:nvPr/>
        </p:nvPicPr>
        <p:blipFill>
          <a:blip r:embed="rId1"/>
          <a:stretch/>
        </p:blipFill>
        <p:spPr>
          <a:xfrm>
            <a:off x="1225440" y="1371600"/>
            <a:ext cx="6693120" cy="37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7REISSUES4-master768.jpg"/>
          <p:cNvPicPr/>
          <p:nvPr/>
        </p:nvPicPr>
        <p:blipFill>
          <a:blip r:embed="rId1"/>
          <a:stretch/>
        </p:blipFill>
        <p:spPr>
          <a:xfrm>
            <a:off x="1735200" y="1371600"/>
            <a:ext cx="56736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rs-183874-133629533.jpg"/>
          <p:cNvPicPr/>
          <p:nvPr/>
        </p:nvPicPr>
        <p:blipFill>
          <a:blip r:embed="rId1"/>
          <a:stretch/>
        </p:blipFill>
        <p:spPr>
          <a:xfrm>
            <a:off x="1517760" y="1366920"/>
            <a:ext cx="610704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article-2208817-128D6A36000005DC-540_634x462.jpg"/>
          <p:cNvPicPr/>
          <p:nvPr/>
        </p:nvPicPr>
        <p:blipFill>
          <a:blip r:embed="rId1"/>
          <a:stretch/>
        </p:blipFill>
        <p:spPr>
          <a:xfrm>
            <a:off x="2114640" y="1371600"/>
            <a:ext cx="4913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roon-5.pn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62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7:26:03Z</dcterms:created>
  <dc:creator>Jennifer Budzinski</dc:creator>
  <dc:description/>
  <dc:language>en-US</dc:language>
  <cp:lastModifiedBy>Erich Friedman</cp:lastModifiedBy>
  <dcterms:modified xsi:type="dcterms:W3CDTF">2020-09-04T12:56:15Z</dcterms:modified>
  <cp:revision>281</cp:revision>
  <dc:subject/>
  <dc:title>Slide 1</dc:title>
</cp:coreProperties>
</file>