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8401-5337-4FDE-9A0C-559C3F79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67B2-37E1-4113-8A0D-5118BFAD9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1913-3CD3-4095-A26E-6D4EAD941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F918-2AD1-4A7E-8B1F-A3518AAF7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69E8-387C-4F84-85D8-45C59B260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041A-349E-479F-9AB6-D2DCB8E1F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645A-720E-48E8-AB39-4346A2A7C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C1F8-5CEC-4B77-B99B-F4F820ACF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1FD0-61BC-4DD8-BD76-CA87E4636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EBDB-80C3-4267-B77B-BC74B66BF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A2CF-435C-4D95-B2D6-C5F3443B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F92C-0FE9-48DF-8B37-E4D32937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2F23-BAD6-43C5-86E9-5F5610739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C5B8-553D-4BD7-814A-07F5317A9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B066-A30A-446C-8926-348CF4A0B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A5E6-6565-4102-B02E-37B0B68A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1F81-1F36-4C36-9A29-AC3375A77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FFCB-D884-4746-B2C8-6A883367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AAE4-EE2E-47D3-BA42-71619BD41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7CBA-3E91-4E8A-9803-120DACF16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08EC-FFB7-4FD2-A4F5-57E5BC4C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B601-9F5C-422F-B708-C5C6EFE97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F8E3-4DB3-461B-9CE9-1C2046D6C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295280"/>
            <a:ext cx="6324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BANDS THAT SANG THESE TWO HIT WON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FETY DANCE" (1983) AND "POP GOES THE WORLD" (198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ON ME" (1985) AND "THE SUN ALWAYS SHINES ON TV" (198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MBRAND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UST THE WAY IT IS, BABY" (1990) AND "I'LL BE THERE FOR YOU" (199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T  TUNS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ACK HORSE AND THE CHERRY TREE" (2006) AND "SUDDENLY I SEE" (200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TTING  C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IED IN YOUR ARMS" (1986) AND "I'VE BEEN IN LOVE BEFORE" (198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IS  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CIETY'S CHILD" (1967) AND "AT SEVENTEEN" (197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US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IGHT HERE, RIGHT NOW" (1990) AND "REAL, REAL, REAL" (199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EFT  BAN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6512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AWAY RENEE" (1966) AND "PRETTY BALLERINA" (196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ET  RI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NG YOUR HEAD" (1983) AND "CUM ON FEEL THE NOIZE" (1983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UST THE WAY IT IS, BABY" (1990) AND "I'LL BE THERE FOR YOU" (199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  EAR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DAR LOVE" (1973) AND "TWILIGHT ZONE" (198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  WITHOUT  HA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FETY DANCE" (1983) AND "POP GOES THE WORLD" (198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–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ON ME" (1985) AND "THE SUN ALWAYS SHINES ON TV" (198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ACK HORSE AND THE CHERRY TREE" (2006) AND "SUDDENLY I SEE" (200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IED IN YOUR ARMS" (1986) AND "I'VE BEEN IN LOVE BEFORE" (198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CIETY'S CHILD" (1967) AND "AT SEVENTEEN" (197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IGHT HERE, RIGHT NOW" (1990) AND "REAL, REAL, REAL" (199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AWAY RENEE" (1966) AND "PRETTY BALLERINA" (196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NG YOUR HEAD" (1983) AND "CUM ON FEEL THE NOIZE" (1983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DAR LOVE" (1973) AND "TWILIGHT ZONE" (1982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5T18:05:13Z</dcterms:created>
  <dc:creator>Jennifer Budzinski</dc:creator>
  <dc:description/>
  <dc:language>en-US</dc:language>
  <cp:lastModifiedBy>Erich Friedman</cp:lastModifiedBy>
  <dcterms:modified xsi:type="dcterms:W3CDTF">2020-09-04T13:48:23Z</dcterms:modified>
  <cp:revision>337</cp:revision>
  <dc:subject/>
  <dc:title>Slide 1</dc:title>
</cp:coreProperties>
</file>