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AA613-40F5-47D5-AB10-8F43C874CD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5811-1E0F-4824-9841-15A998EE5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3A3B-1141-4BB9-96F1-1BFF5CE015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E610-ECDE-4A38-A904-DDF2A17454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6982C-145C-42C9-9210-B016EF3F3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EBA89-56ED-4DFF-828C-C9027A3CC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C2C8F-C854-48FA-9870-03A8233C8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9416C-9B24-4556-9DA2-E1422CBCEF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EF4C-E775-4F33-91DC-826D9754E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61F2-E76C-4C7A-9566-173C01BA5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E3CC-5B4A-4640-B6C1-581AB013B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E49B9-30C0-4BB0-A77E-2E73804CA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CD4B-AA3E-4F86-B031-D06FBAB62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5791-15CB-4AAB-BC63-2A9BB5285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CCBB7-EC11-453B-ABF5-8A0CC9D9F5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B740-394C-42A8-9A42-7883A9447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C3F5-4AA2-4FD3-9248-FAD82E0EAE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20BE4-6C23-44DB-87FB-0298DB686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65EA-CF60-4850-BF83-7DB48160A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E18DB-6D99-47C7-8028-7961FCEA1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472B-DBD1-4001-87D6-96E722D90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2313-D51B-4AFB-8B71-9F39B1DC4C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714B-8199-46EE-86B6-0F4BF6F5F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1371600" y="1295280"/>
            <a:ext cx="63244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AME THE BANDS THAT SANG THESE TWO HIT WONDE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1028520" y="761760"/>
            <a:ext cx="7086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FETY DANCE" (1983) AND "POP GOES THE WORLD" (1987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1181160" y="762120"/>
            <a:ext cx="67816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ON ME" (1985) AND "THE SUN ALWAYS SHINES ON TV" (1985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990720" y="4876920"/>
            <a:ext cx="71625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REMBRAND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952560" y="762120"/>
            <a:ext cx="72388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JUST THE WAY IT IS, BABY" (1990) AND "I'LL BE THERE FOR YOU" (1995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KT  TUNSTA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533520" y="762120"/>
            <a:ext cx="80769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ACK HORSE AND THE CHERRY TREE" (2006) AND "SUDDENLY I SEE" (2006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533520" y="4876920"/>
            <a:ext cx="8229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CUTTING  CR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952560" y="762120"/>
            <a:ext cx="723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IED IN YOUR ARMS" (1986) AND "I'VE BEEN IN LOVE BEFORE" (1987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897440"/>
            <a:ext cx="8458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ANIS  I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723960" y="762120"/>
            <a:ext cx="7696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OCIETY'S CHILD" (1967) AND "AT SEVENTEEN" (1975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914400" y="4876920"/>
            <a:ext cx="73915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JESUS  J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1066680" y="762120"/>
            <a:ext cx="70106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IGHT HERE, RIGHT NOW" (1990) AND "REAL, REAL, REAL" (1990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HE  LEFT  BANK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465120" y="762120"/>
            <a:ext cx="82296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AWAY RENEE" (1966) AND "PRETTY BALLERINA" (1967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87692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QUIET  RIO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1066680" y="762120"/>
            <a:ext cx="7010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ANG YOUR HEAD" (1983) AND "CUM ON FEEL THE NOIZE" (1983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838080" y="762120"/>
            <a:ext cx="74678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JUST THE WAY IT IS, BABY" (1990) AND "I'LL BE THERE FOR YOU" (1995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876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GOLDEN  EAR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1143000" y="762120"/>
            <a:ext cx="685800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ADAR LOVE" (1973) AND "TWILIGHT ZONE" (1982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0" y="4876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MEN  WITHOUT  HAT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1104840" y="762120"/>
            <a:ext cx="6934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AFETY DANCE" (1983) AND "POP GOES THE WORLD" (1987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8769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–H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1028880" y="762120"/>
            <a:ext cx="70866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TAKE ON ME" (1985) AND "THE SUN ALWAYS SHINES ON TV" (1985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457200" y="7617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LACK HORSE AND THE CHERRY TREE" (2006) AND "SUDDENLY I SEE" (2006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9144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DIED IN YOUR ARMS" (1986) AND "I'VE BEEN IN LOVE BEFORE" (1987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647640" y="76212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SOCIETY'S CHILD" (1967) AND "AT SEVENTEEN" (1975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952560" y="762120"/>
            <a:ext cx="7238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IGHT HERE, RIGHT NOW" (1990) AND "REAL, REAL, REAL" (1990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WALK AWAY RENEE" (1966) AND "PRETTY BALLERINA" (1967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876240" y="761760"/>
            <a:ext cx="73915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BANG YOUR HEAD" (1983) AND "CUM ON FEEL THE NOIZE" (1983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1181160" y="762120"/>
            <a:ext cx="67816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"RADAR LOVE" (1973) AND "TWILIGHT ZONE" (1982)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5T18:05:13Z</dcterms:created>
  <dc:creator>Jennifer Budzinski</dc:creator>
  <dc:description/>
  <dc:language>en-US</dc:language>
  <cp:lastModifiedBy>Erich Friedman</cp:lastModifiedBy>
  <dcterms:modified xsi:type="dcterms:W3CDTF">2020-09-04T13:48:23Z</dcterms:modified>
  <cp:revision>337</cp:revision>
  <dc:subject/>
  <dc:title>Slide 1</dc:title>
</cp:coreProperties>
</file>