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8D4D-83E7-47FD-B870-9C637900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9B6C-C26D-48C9-A32D-FDFFE63E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2EA-01DA-48F2-BEB4-75337E2E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9D38-C90E-4CF0-87BD-BDCEF99C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992-3773-4753-A569-BD78A8F7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169B-245D-40D9-99ED-DB0312D7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A9D-C00E-43EB-884A-B0607DA6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F362-9727-46D0-B48A-AE05DAD1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3CD9-7A86-44C6-8877-8AF86F59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493-7E7D-4567-B777-42E52E12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29A7-C611-4E80-BAB8-911EC54E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B88-0730-4F23-8BF2-C2F49E24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94D-4591-4DEC-9528-5E456D5E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112-F160-4E36-988B-BD9D701F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9B4-D15C-4CC0-AB60-7012DB93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7E87-F879-4D99-BDBE-A63BE635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6A7-36AE-4D45-801E-49655C6B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23D-792F-4838-87FF-7A12801D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E1E1-3528-4F84-BC28-F90172C6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18C-2782-45B9-A048-6A3F4A01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E33-CEBF-4165-BCCF-2C4A09FA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BF75-ABF1-4910-9528-58AA3D38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797D-6783-492C-8A44-04D53A8C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ANDS THAT SANG THESE TWO HIT WON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MBRAND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T  TUNS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TING  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EFT  B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ET  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EAR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ITHOUT  H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8:05:13Z</dcterms:created>
  <dc:creator>Jennifer Budzinski</dc:creator>
  <dc:description/>
  <dc:language>en-US</dc:language>
  <cp:lastModifiedBy>Erich Friedman</cp:lastModifiedBy>
  <dcterms:modified xsi:type="dcterms:W3CDTF">2020-09-04T13:48:23Z</dcterms:modified>
  <cp:revision>337</cp:revision>
  <dc:subject/>
  <dc:title>Slide 1</dc:title>
</cp:coreProperties>
</file>