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E899-5A92-4B7C-9E0D-EB2AD5E93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1144-0AB4-4E4B-B6B2-E085F108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3036-C839-49C6-8B56-C54820BA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F592-B7E8-4963-BB3A-113EEB49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EAFA-1B91-4E1E-931B-6DABD08F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4C6D-A7AE-4B30-A618-D078A697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C89A-38EC-4771-8824-DEA2E5D30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DF43-6EB6-417F-89D9-F85A81E4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629D-1EF0-4C40-B263-2A92777E9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77A5-F964-4939-8773-C48F434A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1D9F-8DAF-41CB-B7E4-A51693F7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BB55-9271-43F3-84C9-689CE8AB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4617-CB81-4315-884B-0E646E0F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FD7F-F5EF-4D3D-95ED-E1017048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DEE-A677-43AB-865E-B623025C6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EDAF-BBB6-4F53-9462-28563C88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CFC5-B109-4055-8AE2-BD1DB95F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7EC-F0EE-404C-86C2-9538F9114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B87F-CFF0-45D5-9A62-4F139E66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48D-6D80-4071-B73A-3EE7CFC4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50F0-44F4-42C8-997D-95EB3EF3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C6D-E179-423A-885E-D73D472E4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53AE-EEBF-4013-BEA6-94AB77361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ID THESE BACKUP BANDS PLAY F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RA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LVER BULL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9056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 STRE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00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RE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NDE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ZY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MIN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0320"/>
            <a:ext cx="64008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RA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V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LVER BULL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 STREE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NDE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ZY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MIN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8:33:07Z</dcterms:created>
  <dc:creator>Jennifer Budzinski</dc:creator>
  <dc:description/>
  <dc:language>en-US</dc:language>
  <cp:lastModifiedBy>Erich Friedman</cp:lastModifiedBy>
  <dcterms:modified xsi:type="dcterms:W3CDTF">2020-09-04T16:26:45Z</dcterms:modified>
  <cp:revision>341</cp:revision>
  <dc:subject/>
  <dc:title>Slide 1</dc:title>
</cp:coreProperties>
</file>