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522D-4397-4CDE-84DB-FCED2759C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62BA-9637-4C95-94BB-11A25379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5F88-7446-405B-9F07-0D46B0300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082C-C2E8-40DE-AF2F-7BA802AB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DEC-5471-4A19-A459-567D8254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9467-8C91-43D7-BE1D-6305DBFB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102E-1FC6-4159-9DA3-B2A5190E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90A0-45AA-4162-B6A8-D09381C5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12D4-257E-4585-AC4C-16B692F2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CD1-6D88-4C5D-9582-EF2251A15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D4A-4E91-4371-BB75-0E3D4AB8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EE1-445A-4E05-A59E-4DE700811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FCA-C270-4BDA-9AB3-88ECD3979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6863-C8D7-4341-A909-C426F1483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7CC2-3C98-4E12-B489-A8C1714F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4A9-78DD-40BC-9695-A5507572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323-E5C3-4942-8183-6A8D5095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97CF-BDB8-449A-BF32-7FA4C715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878-06EA-4E69-9FDE-76618705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4D9-431B-4094-B5AF-0892248C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F354-08E6-4A75-AB32-D6F67E21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DE09-1B0A-4FF3-BF34-A7E6BA81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8BB-2B34-4B62-AE62-140D9F117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ID THESE BACKUP BANDS PLAY F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RA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LVER BULL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9056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 STRE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00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R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NDE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ZY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MIN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0320"/>
            <a:ext cx="6400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RA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V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LVER BULL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 STREE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NDE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ZY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MIN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8:33:07Z</dcterms:created>
  <dc:creator>Jennifer Budzinski</dc:creator>
  <dc:description/>
  <dc:language>en-US</dc:language>
  <cp:lastModifiedBy>Erich Friedman</cp:lastModifiedBy>
  <dcterms:modified xsi:type="dcterms:W3CDTF">2020-09-04T16:26:45Z</dcterms:modified>
  <cp:revision>341</cp:revision>
  <dc:subject/>
  <dc:title>Slide 1</dc:title>
</cp:coreProperties>
</file>