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E1B8-D47E-4A41-AF86-D6E007754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CDC8-46A7-4E9D-B7BF-D08976344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552F-CB61-45A9-A3A8-39CE1576C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9544-ED74-42A3-8658-54B75558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55EA-8F33-4956-B6E4-B5D7BBC20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BAE9-90CC-4EE3-B744-B68F09F93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3B39-BF40-4FF8-9EBB-445B6DD00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F4F94-F5F2-43F6-B8B6-1E8992051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C812-4061-43E7-B321-EE1AB520A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3D3C-EFCD-4631-BA34-A3CA4128B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4122-C192-4F7C-AEC1-4A01150B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649E-BD34-4A89-A6BB-7FA296523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6D05-B728-4426-8FCC-53A55A465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06F-5549-41E5-B3EF-3A7C3CFC9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03F9-D0C4-4C8E-889F-65E1A96D8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E0ED-0AEE-435F-B441-0C1AD808F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25D1-3594-4CA0-BBF8-38130D2EB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0860-B962-4859-B068-24288EEE6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F3B9-E4CD-4F61-957B-47F05383E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F281-4096-413F-BE44-637116B1E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2C6D-F593-4A8E-A662-E45590446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180C-9A70-4AF4-8056-D42B8E754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3934-85D5-4421-9384-3E89B3DC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ID THESE BACKUP BANDS PLAY F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RAC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LVER BULL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9056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 STRE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00600"/>
            <a:ext cx="7391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REE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NDEL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ZY HO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MIN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0320"/>
            <a:ext cx="64008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IRAC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V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LVER BULLET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 STREET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ANDEL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AZY HO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OMIN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ICK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8:33:07Z</dcterms:created>
  <dc:creator>Jennifer Budzinski</dc:creator>
  <dc:description/>
  <dc:language>en-US</dc:language>
  <cp:lastModifiedBy>Erich Friedman</cp:lastModifiedBy>
  <dcterms:modified xsi:type="dcterms:W3CDTF">2020-09-04T16:26:45Z</dcterms:modified>
  <cp:revision>341</cp:revision>
  <dc:subject/>
  <dc:title>Slide 1</dc:title>
</cp:coreProperties>
</file>