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B8A6-D81E-4652-96D1-0AFB1BE7E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C194-AFD7-4B98-81B7-6AC3D152A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3686-D49F-4CC6-BF0B-3B41C4490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5217-9FF8-4837-B4B7-A5F1DB55C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DBFB-8283-4220-BC79-DDCD4971A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3C9C-487E-4B13-B5E9-048778DE3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8814-26AB-4237-B2D4-1D98B083E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2310-A494-4C45-B83D-1B9EA3269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BD31-B6E9-4D1B-8AF9-6A6D23B71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9A80-9A0E-4AD3-9348-8A6C2844E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22D7-9F9A-440D-B3EC-CCFDBF0B1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E1EF-D650-4AB5-8963-8B1957194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47D3-191A-405B-85FC-855B8C46B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8038-4135-4913-AE7A-A7965DA0C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6A11-DFB1-49D1-91DA-C53F55C29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E654-E2CB-434B-B995-67CE36AE5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1F6D-AFB2-4B67-811F-31BEBC029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6217-B51E-43BD-B606-E69165EC4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C2BC-F8AF-4FD0-81DD-AD6C2BB8B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825D-C45B-4558-9FCA-5C65C8563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BA92-4C57-4817-92ED-5EFD227C9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1D16-32B9-4CA9-AB82-0A0878794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12E8-3717-4D67-ABE8-BADA39E59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4475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WHAT BANDS HAD THESE ALBUM COV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Fleetwood-Mac-Rumours-album-covers-billboard-1000x1000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Green-Day-American-Idiot-album-covers-billboard-1000x1000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D  ZEPPE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Led-Zeppelin-Led-Zeppelin-greatest-album-covers-billboard-1000x1000.jpg"/>
          <p:cNvPicPr/>
          <p:nvPr/>
        </p:nvPicPr>
        <p:blipFill>
          <a:blip r:embed="rId1"/>
          <a:stretch/>
        </p:blipFill>
        <p:spPr>
          <a:xfrm>
            <a:off x="2820960" y="1295280"/>
            <a:ext cx="3502080" cy="350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68360" y="494496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TRA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Supertramp-Breakfast-In-America-album-cover.jpg"/>
          <p:cNvPicPr/>
          <p:nvPr/>
        </p:nvPicPr>
        <p:blipFill>
          <a:blip r:embed="rId1"/>
          <a:stretch/>
        </p:blipFill>
        <p:spPr>
          <a:xfrm>
            <a:off x="2631960" y="1333440"/>
            <a:ext cx="38800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1508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RAN  DUR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Duran-Duran-Rio-album-covers-billboard-1000x1000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SPRINGST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Bruce-Springsteen-Born-in-the-USA-album-covers-billboard-1000x1000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I  MITC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Joni-Mitchell-Hejira-album-covers-billboard-1000x1000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766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THE WHO-WHO'S NEXT.png"/>
          <p:cNvPicPr/>
          <p:nvPr/>
        </p:nvPicPr>
        <p:blipFill>
          <a:blip r:embed="rId1"/>
          <a:stretch/>
        </p:blipFill>
        <p:spPr>
          <a:xfrm>
            <a:off x="2743200" y="1295280"/>
            <a:ext cx="3681360" cy="36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89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THE CARS-CANDY O.png"/>
          <p:cNvPicPr/>
          <p:nvPr/>
        </p:nvPicPr>
        <p:blipFill>
          <a:blip r:embed="rId1"/>
          <a:stretch/>
        </p:blipFill>
        <p:spPr>
          <a:xfrm>
            <a:off x="2743200" y="1295280"/>
            <a:ext cx="3581280" cy="361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Led-Zeppelin-Led-Zeppelin-greatest-album-covers-billboard-1000x1000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6584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O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Madonna-True-Blue-album-covers-billboard-1000x1000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EETWOOD  M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Fleetwood-Mac-Rumours-album-covers-billboard-1000x1000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Green-Day-American-Idiot-album-covers-billboard-1000x1000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Supertramp-Breakfast-In-America-album-cover.jpg"/>
          <p:cNvPicPr/>
          <p:nvPr/>
        </p:nvPicPr>
        <p:blipFill>
          <a:blip r:embed="rId1"/>
          <a:stretch/>
        </p:blipFill>
        <p:spPr>
          <a:xfrm>
            <a:off x="2514600" y="1295280"/>
            <a:ext cx="4029120" cy="37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Duran-Duran-Rio-album-covers-billboard-1000x1000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Bruce-Springsteen-Born-in-the-USA-album-covers-billboard-1000x1000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Joni-Mitchell-Hejira-album-covers-billboard-1000x1000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THE WHO-WHO'S NEXT.png"/>
          <p:cNvPicPr/>
          <p:nvPr/>
        </p:nvPicPr>
        <p:blipFill>
          <a:blip r:embed="rId1"/>
          <a:stretch/>
        </p:blipFill>
        <p:spPr>
          <a:xfrm>
            <a:off x="2743200" y="1295280"/>
            <a:ext cx="3681360" cy="36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THE CARS-CANDY O.png"/>
          <p:cNvPicPr/>
          <p:nvPr/>
        </p:nvPicPr>
        <p:blipFill>
          <a:blip r:embed="rId1"/>
          <a:stretch/>
        </p:blipFill>
        <p:spPr>
          <a:xfrm>
            <a:off x="2743200" y="1295280"/>
            <a:ext cx="358128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Madonna-True-Blue-album-covers-billboard-1000x1000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4T20:36:30Z</dcterms:modified>
  <cp:revision>289</cp:revision>
  <dc:subject/>
  <dc:title>Slide 1</dc:title>
</cp:coreProperties>
</file>