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A9E5-C341-4EE9-8953-043009B82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046D-AAD8-464A-81DB-39C7F10FE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98D0-F744-4AAA-A04E-F26E1E063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D1D6-9F44-44CD-BCE2-17A2B8C52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E803-3F0A-4DF1-965C-41C92A1CF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2648-4218-4E55-8DCB-574D9D56F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C663-4687-4653-B4E0-1BF836537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6996-A901-4C5B-8EAC-B71AB7F70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A7C1-B339-452D-8C01-144537AD0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07AE-92AC-4CF9-91A2-28CD25730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2E87-77E2-431C-94C8-61DADA9D5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53C2-67A8-478A-8EBC-5937BCB2B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CA3B-2080-4787-A942-C373782A4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0F05-B95C-4A45-AF58-872C5308E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EC39-2140-4F0B-A58D-492E8D7E1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3DC8-A5F0-4748-84DE-4DB7B1430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FFDD-D28E-4790-83D9-7F40636BB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2B35-98C1-4E60-8E35-B6914A31E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3BCE-E055-47F6-AB14-B231EDE7D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5BFD-6D95-4BEB-BB4D-D9070F9E5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8B66-9700-4F38-97D5-830E1183E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0A95-6F4C-4C73-B9EC-57146C7AC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67AB-D456-4A6C-8D4D-39F95F9F6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WHAT BANDS HAD THESE ALBUM COV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Fleetwood-Mac-Rumours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Green-Day-American-Idiot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D  ZEPP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Led-Zeppelin-Led-Zeppelin-greatest-album-covers-billboard-1000x1000.jpg"/>
          <p:cNvPicPr/>
          <p:nvPr/>
        </p:nvPicPr>
        <p:blipFill>
          <a:blip r:embed="rId1"/>
          <a:stretch/>
        </p:blipFill>
        <p:spPr>
          <a:xfrm>
            <a:off x="2820960" y="1295280"/>
            <a:ext cx="3502080" cy="35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68360" y="49449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TR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upertramp-Breakfast-In-America-album-cover.jpg"/>
          <p:cNvPicPr/>
          <p:nvPr/>
        </p:nvPicPr>
        <p:blipFill>
          <a:blip r:embed="rId1"/>
          <a:stretch/>
        </p:blipFill>
        <p:spPr>
          <a:xfrm>
            <a:off x="2631960" y="1333440"/>
            <a:ext cx="3880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1508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RAN  DUR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Duran-Duran-Rio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SPRINGS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Bruce-Springsteen-Born-in-the-USA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Joni-Mitchell-Hejira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766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THE WHO-WHO'S NEXT.png"/>
          <p:cNvPicPr/>
          <p:nvPr/>
        </p:nvPicPr>
        <p:blipFill>
          <a:blip r:embed="rId1"/>
          <a:stretch/>
        </p:blipFill>
        <p:spPr>
          <a:xfrm>
            <a:off x="2743200" y="1295280"/>
            <a:ext cx="3681360" cy="36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89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THE CARS-CANDY O.pn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6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Led-Zeppelin-Led-Zeppelin-greatest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6584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Madonna-True-Blue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EETWOOD  M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Fleetwood-Mac-Rumours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Green-Day-American-Idiot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upertramp-Breakfast-In-America-album-cover.jpg"/>
          <p:cNvPicPr/>
          <p:nvPr/>
        </p:nvPicPr>
        <p:blipFill>
          <a:blip r:embed="rId1"/>
          <a:stretch/>
        </p:blipFill>
        <p:spPr>
          <a:xfrm>
            <a:off x="2514600" y="1295280"/>
            <a:ext cx="402912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Duran-Duran-Rio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Bruce-Springsteen-Born-in-the-USA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Joni-Mitchell-Hejira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THE WHO-WHO'S NEXT.png"/>
          <p:cNvPicPr/>
          <p:nvPr/>
        </p:nvPicPr>
        <p:blipFill>
          <a:blip r:embed="rId1"/>
          <a:stretch/>
        </p:blipFill>
        <p:spPr>
          <a:xfrm>
            <a:off x="2743200" y="1295280"/>
            <a:ext cx="368136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THE CARS-CANDY O.pn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Madonna-True-Blue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4T20:36:30Z</dcterms:modified>
  <cp:revision>289</cp:revision>
  <dc:subject/>
  <dc:title>Slide 1</dc:title>
</cp:coreProperties>
</file>