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128F-D2E8-45DF-A6AE-A32A68E2A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DEB3-CDD6-49EC-A98F-AE0656F48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A704-2ED5-4487-A6F1-0C4F5B482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2099-EA00-42F9-9001-089EFD0E6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B34B-758F-4FE7-9ED2-EBFF24CD4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3B60-8A60-448C-9794-FE19D0C4E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779E-5052-43C7-9F97-FAD5E62B4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71FC-AB0F-449A-AD8F-912474CDC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B06D-63A8-48A8-ACC7-388484192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2F9F-157C-4951-BFB1-FE64DBE3D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8684-0E22-4B13-B559-6199D01FB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3579-4C7A-4047-982E-553B9262A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BC84-ABF9-4840-A7C0-5930EE722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0A3F-D5A5-4988-9879-DFA5C81E7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E879-7712-43FB-9913-EB670443D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A8F2-E0B4-4853-ABFD-30947CEA5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B7CC-5E44-477C-82C9-B1632572A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1007-32CB-4050-B248-6E021F216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E3D0-885A-4F52-8E48-8321B6261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BDFD-B346-46CC-9094-C94829D1A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9B3E-18CC-4C62-B2BE-71CBC6A2D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E456-0BA1-4119-9B6E-59463C352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D8E1-5C5B-470C-8B99-E13424614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19000" y="685800"/>
            <a:ext cx="7506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IANS WHO DON'T USE THEIR BIRTH NAMES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7680" y="76176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MARSHALL MATHERS, AND HAS RAP ALTER EGO "SLIM SHAD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71640" y="762120"/>
            <a:ext cx="7200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ROBERT ALLEN ZIMMERMAN, AND WON THE NOBEL PRIZE FOR LITERATURE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TON  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42880" y="762120"/>
            <a:ext cx="8058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REGINALD KENNETH DWIGHT, AND COMPOSED THE MUSIC FOR THE MUSICAL "BILLY ELLIO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  GA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96920" y="762120"/>
            <a:ext cx="6950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STEFANI GERMANOTTA, AND CREATED THE "BORN THIS WAY" FOUND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NGO  ST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76160" y="762120"/>
            <a:ext cx="759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RICHARD STARKEY, AND WAS CONSIDERED THE CLOWN OF "THE FAB FO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NA  T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ANNA MAE BULLOCK, AND WAS THE FRONTWOMAN FOR THE IKETTES UNTIL SHE SPLIT WITH HER ABUSIVE HUS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  STEVENS  or  YUSUF  ISL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STEVEN DEMETRE GEORGIOU, AND CHANGED HIS NAME AGAIN WHEN HE BECAME A MUSL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I  MITC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ROBERTA JOAN ANDERSON, BUT HAS GIVEN UP MUSIC ENTIRELY, NOW CALLING HERSELF "A PAINTER DERAILED BY CIRCUMSTA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DIE  MERC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FAROOKH BULSARA, AND WAS PORTRAYED BY RAMI MALEK IN A 2018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04720" y="762120"/>
            <a:ext cx="8134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REGINALD KENNETH DWIGHT, AND COMPOSED THE MUSIC FOR THE MUSICAL "BILLY ELLIO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IE  WO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68320" y="765000"/>
            <a:ext cx="740736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STEVLAND HARDAWAY JUDKINS, AND HAS BEEN BLIND SINCE JUST AFTER BI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IN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85960" y="762120"/>
            <a:ext cx="7372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MARSHALL MATHERS, AND HAS RAP ALTER EGO "SLIM SHA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27200" y="4876920"/>
            <a:ext cx="588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DY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96840" y="762120"/>
            <a:ext cx="7150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ROBERT ALLEN ZIMMERMAN, AND WON THE NOBEL PRIZE FOR LITERATURE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36800" y="761760"/>
            <a:ext cx="707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STEFANI GERMANOTTA, AND CREATED THE "BORN THIS WAY" FOUND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00000" y="762120"/>
            <a:ext cx="73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RICHARD STARKEY, AND WAS CONSIDERED THE CLOWN OF "THE FAB FO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ANNA MAE BULLOCK, AND WAS THE FRONTWOMAN FOR THE IKETTES UNTIL SHE SPLIT WITH HER ABUSIVE HUS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STEVEN DEMETRE GEORGIOU, AND CHANGED HIS NAME AGAIN WHEN HE BECAME A MUSL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14200" y="761760"/>
            <a:ext cx="8715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ROBERTA JOAN ANDERSON, BUT HAS GIVEN UP MUSIC ENTIRELY, NOW CALLING HERSELF "A PAINTER DERAILED BY CIRCUMSTAN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32040" y="761760"/>
            <a:ext cx="7279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FAROOKH BULSARA, AND WAS PORTRAYED BY RAMI MALEK IN A 2018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5840" y="762120"/>
            <a:ext cx="7312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STEVLAND HARDAWAY JUDKINS, AND HAS BEEN BLIND SINCE JUST AFTER BIR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9-04T20:46:15Z</dcterms:modified>
  <cp:revision>391</cp:revision>
  <dc:subject/>
  <dc:title>Slide 1</dc:title>
</cp:coreProperties>
</file>