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BCDF-D119-4BEA-A64B-5882EB4ED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36C-67AB-4D8C-9512-A9641B4C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C887-3208-472E-BD53-0DE0A5B88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706F-5199-4DC8-BFB1-FA10B6D33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02D0-19B3-4E7C-AC8F-4AE32C6E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E69B-5399-419B-8DB4-AF3AB4FA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13E-5B49-48F5-ADC4-484AAA5B0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46EF-7F42-4B3A-A7DF-827CA205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56E-8109-4194-AF0B-2BDE009D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C10-8385-4529-9BEF-59D41E08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8A10-7E12-49DD-AD60-C25DFE723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F367-0C12-486E-A7F9-733456AD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5B0C-5B4E-4B5F-AE02-3F9091CB5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04EA-F91C-4CD9-A6D8-2052631B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66EB-832D-4A30-8BF3-0E714A072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B44C-3A76-4592-8FDE-6AFF5E1C7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E208-B1E1-469C-8CC6-32408F6F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FA3D-2BB6-4874-A571-FC41B22A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28AA-6A7B-45B1-BA10-C3722A3B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7BA-D67E-412C-BA91-5AC506877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3DF-7DA5-4DA9-9EAA-42DB4791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D5B6-2105-4A87-AE49-2BB04589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8CB7-1613-4474-ACFC-7C324C4D8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19000" y="685800"/>
            <a:ext cx="750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S WHO DON'T USE THEIR BIRTH NAMES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7680" y="76176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MARSHALL MATHERS, AND HAS RAP ALTER EGO "SLIM SH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71640" y="762120"/>
            <a:ext cx="720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 ALLEN ZIMMERMAN, AND WON THE NOBEL PRIZE FOR LITERATURE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EGINALD KENNETH DWIGHT, AND COMPOSED THE MUSIC FOR THE MUSICAL "BILLY ELLI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96920" y="762120"/>
            <a:ext cx="69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FANI GERMANOTTA, AND CREATED THE "BORN THIS WAY" FOUND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ICHARD STARKEY, AND WAS CONSIDERED THE CLOWN OF "THE FAB F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ANNA MAE BULLOCK, AND WAS THE FRONTWOMAN FOR THE IKETTES UNTIL SHE SPLIT WITH HER ABUSIVE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  or  YUSUF  I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EN DEMETRE GEORGIOU, AND CHANGED HIS NAME AGAIN WHEN HE BECAME A MUSL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A JOAN ANDERSON, BUT HAS GIVEN UP MUSIC ENTIRELY, NOW CALLING HERSELF "A PAINTER DERAILED BY CIRCUMST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FAROOKH BULSARA, AND WAS PORTRAYED BY RAMI MALEK IN A 201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EGINALD KENNETH DWIGHT, AND COMPOSED THE MUSIC FOR THE MUSICAL "BILLY ELLI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68320" y="765000"/>
            <a:ext cx="740736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LAND HARDAWAY JUDKINS, AND HAS BEEN BLIND SINCE JUST AFTER BI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85960" y="762120"/>
            <a:ext cx="7372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MARSHALL MATHERS, AND HAS RAP ALTER EGO "SLIM SH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27200" y="4876920"/>
            <a:ext cx="588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6840" y="762120"/>
            <a:ext cx="7150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 ALLEN ZIMMERMAN, AND WON THE NOBEL PRIZE FOR LITERATURE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FANI GERMANOTTA, AND CREATED THE "BORN THIS WAY" FOUND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00000" y="76212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ICHARD STARKEY, AND WAS CONSIDERED THE CLOWN OF "THE FAB F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ANNA MAE BULLOCK, AND WAS THE FRONTWOMAN FOR THE IKETTES UNTIL SHE SPLIT WITH HER ABUSIVE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EN DEMETRE GEORGIOU, AND CHANGED HIS NAME AGAIN WHEN HE BECAME A MUSL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A JOAN ANDERSON, BUT HAS GIVEN UP MUSIC ENTIRELY, NOW CALLING HERSELF "A PAINTER DERAILED BY CIRCUMST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2040" y="761760"/>
            <a:ext cx="727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FAROOKH BULSARA, AND WAS PORTRAYED BY RAMI MALEK IN A 201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5840" y="762120"/>
            <a:ext cx="731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LAND HARDAWAY JUDKINS, AND HAS BEEN BLIND SINCE JUST AFTER BI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4T20:46:15Z</dcterms:modified>
  <cp:revision>391</cp:revision>
  <dc:subject/>
  <dc:title>Slide 1</dc:title>
</cp:coreProperties>
</file>