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631A-A24C-455D-83BE-B310EF63E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10E-45D1-496B-A3AF-4803E6801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55D-4E8D-49BC-A9B3-E0586193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E052-AA38-4B76-8932-228EE71B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C5F-FA9C-49F8-BCCE-F09DCB45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575-6684-4F65-A010-AD20F2FFD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A69A-D408-4256-B399-ABDDED16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8F8-AC9D-4227-889F-5C6D5819B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F4C-1FB4-4A6D-B0F0-39D0D30A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18C8-2153-408A-84D8-A243BBA76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94BB-4009-46CD-9C7B-365D8B098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E15C0-9A47-4892-AEA2-0C7276C96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45CC-D79F-4751-9B10-FBDDDB2D6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E991-0CB8-4E8E-988B-1010A56E9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EF83-AC24-47CB-9EC8-A3852605E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006D-6867-4587-8CC4-72FC8483F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EF8E-C4C4-46D4-B7BF-C8F6F1613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32D9-7346-4C33-A074-CF0C6392E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BB1-D740-4252-8E7C-6F2463D6A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CCDE-467A-4A20-BEE7-C4BF79E0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ABDD-8550-46DA-B9DC-BB43AA658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6FF1-804E-4DDE-938C-2CF1EA8EF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A9A-788A-4705-A770-8AFD1487B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68580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S WHO DON'T USE THEIR BIRTH NAME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7680" y="76176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42880" y="762120"/>
            <a:ext cx="8058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96920" y="762120"/>
            <a:ext cx="695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  or  YUSUF  ISL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EGINALD KENNETH DWIGHT, AND COMPOSED THE MUSIC FOR THE MUSICAL "BILLY ELLIO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68320" y="765000"/>
            <a:ext cx="740736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N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85960" y="762120"/>
            <a:ext cx="7372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MARSHALL MATHERS, AND HAS RAP ALTER EGO "SLIM SH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27200" y="4876920"/>
            <a:ext cx="588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6840" y="762120"/>
            <a:ext cx="7150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 ALLEN ZIMMERMAN, AND WON THE NOBEL PRIZE FOR LITERATURE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36800" y="761760"/>
            <a:ext cx="707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FANI GERMANOTTA, AND CREATED THE "BORN THIS WAY" FOUND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ICHARD STARKEY, AND WAS CONSIDERED THE CLOWN OF "THE FAB FOU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ANNA MAE BULLOCK, AND WAS THE FRONTWOMAN FOR THE IKETTES UNTIL SHE SPLIT WITH HER ABUSIVE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EN DEMETRE GEORGIOU, AND CHANGED HIS NAME AGAIN WHEN HE BECAME A MUSL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ROBERTA JOAN ANDERSON, BUT HAS GIVEN UP MUSIC ENTIRELY, NOW CALLING HERSELF "A PAINTER DERAILED BY CIRCUMST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32040" y="761760"/>
            <a:ext cx="7279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FAROOKH BULSARA, AND WAS PORTRAYED BY RAMI MALEK IN A 2018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5840" y="762120"/>
            <a:ext cx="731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ORN STEVLAND HARDAWAY JUDKINS, AND HAS BEEN BLIND SINCE JUST AFTER BI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4T20:46:15Z</dcterms:modified>
  <cp:revision>391</cp:revision>
  <dc:subject/>
  <dc:title>Slide 1</dc:title>
</cp:coreProperties>
</file>