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DBD2-8D0E-4EC0-AE9F-D8BEFB18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2362-BF25-4272-811E-C402732C2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60A-332A-4306-AF79-F2B017839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DEE-139B-4828-978C-86E74533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312-529B-4291-8FC8-32E7A22A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C2E5-2A18-4C86-8EE8-02C0922C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EAB-2CEF-4FCA-B866-4FD4E6C3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671-4CC4-47EB-96A6-17BA2D2E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D9B9-8553-4041-960F-8E209542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53C-8CDC-461D-956E-5122D48B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D137-9994-458D-B755-F1BAEFD1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0CB-AAAB-47C3-936D-A3C2B6A4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23A1-C268-4361-B7E7-7EC904FF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AEE-1A07-4DE3-8129-5AEE4D5A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1946-D943-49C0-9A63-A5DC1C74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00D-8830-4130-9C3C-EE078D53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742-43DE-4572-9536-BB6629FD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70F3-6F1B-40B7-AE66-EE29A09F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DE77-CE18-42CA-B9F2-B67E57C6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76B-3546-4BA9-9F49-127E6D48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611F-7E89-4492-BECF-DD9B18ADB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68CB-C44B-4B9E-9CFB-3A4D8A5C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C70-C8C6-4D5B-A7DD-29C613EC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33480" y="1676160"/>
            <a:ext cx="727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BANDS HAD THESE ALBUM COV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3600" y="1295280"/>
            <a:ext cx="37368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0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VELVET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76680" y="1295280"/>
            <a:ext cx="35906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4600" y="1371600"/>
            <a:ext cx="35748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749680" y="1371600"/>
            <a:ext cx="3644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92520" y="137160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00:23:42Z</dcterms:created>
  <dc:creator>Jennifer Budzinski</dc:creator>
  <dc:description/>
  <dc:language>en-US</dc:language>
  <cp:lastModifiedBy>Erich Friedman</cp:lastModifiedBy>
  <dcterms:modified xsi:type="dcterms:W3CDTF">2020-09-05T08:51:30Z</dcterms:modified>
  <cp:revision>290</cp:revision>
  <dc:subject/>
  <dc:title>Slide 1</dc:title>
</cp:coreProperties>
</file>