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151-1BF2-4811-8B70-6F53ADE6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CBE0-4A24-417A-B22A-54AB01CBA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229-F1CD-40AB-90E7-1580743F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BEF-DB8D-44DF-94B7-65F90496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B534-3766-421D-89F6-1E0621A0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EFF-8201-4DA9-AC65-DF3A6E3D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7CD5-7367-4AA9-A2C6-7BFE5120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D625-0595-484A-BEB2-E9784DC8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4CC-B86E-4327-9A10-34F33591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ECD1-AF74-4998-B41E-9D6D1DAD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7D5-EAB0-4AD4-B023-2BDB0830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B13-5049-4C39-83E0-D0BCE71E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A36D-DEBB-41EA-8B0A-CC9C30EF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F97-4563-4D75-BD30-5F42D965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70E-B810-4480-9032-4A431EA1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D78-1C4C-4C53-B66C-0EE8A2FD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8F5-B1D2-4FE8-9FAA-4CE0116A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127-34F9-401D-9AB4-A1167292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5A7-F44A-4991-8221-3A33EDC0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C25-8415-4990-884D-B046A0F0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74A-AD9E-4970-8550-97D6AA6F7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91A2-3907-4E46-9C1A-DEE540EA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7168-6B8B-4B68-83E1-4805D905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33480" y="1676160"/>
            <a:ext cx="727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BANDS HAD THESE ALBUM COV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3600" y="1295280"/>
            <a:ext cx="37368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0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VELVET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76680" y="1295280"/>
            <a:ext cx="35906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4600" y="1371600"/>
            <a:ext cx="35748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749680" y="1371600"/>
            <a:ext cx="3644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92520" y="137160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00:23:42Z</dcterms:created>
  <dc:creator>Jennifer Budzinski</dc:creator>
  <dc:description/>
  <dc:language>en-US</dc:language>
  <cp:lastModifiedBy>Erich Friedman</cp:lastModifiedBy>
  <dcterms:modified xsi:type="dcterms:W3CDTF">2020-09-05T08:51:30Z</dcterms:modified>
  <cp:revision>290</cp:revision>
  <dc:subject/>
  <dc:title>Slide 1</dc:title>
</cp:coreProperties>
</file>