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8937-B31C-4C7B-AAE0-F4996FB35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B680-6E84-41C4-97F3-E7F34002C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DCF3-3573-4C02-9B6D-A2DC56A85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1E20-3657-413A-AFCD-B74CC80F5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147B-A083-4D15-A1B0-6481EE46E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8442-59C7-447B-8374-B3B381685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F052-CDC8-4613-856A-53A81E3AD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C94A-F21B-43EE-ACC1-C0F207039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FA3E-ED82-435F-9DB5-64812717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D2B4-AAB1-49FE-860E-5989C664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6396-BCD5-4BC6-AC47-B33F0C086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6459-C685-4B4B-9E5D-A0EF2CA86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4E47-C088-4E10-BC3B-C4D4893F5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9B67-8408-46B9-AC7B-6533E8D86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86C2-1165-4BCD-8BA0-D7E3ED84A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6756-6AD7-4F18-9FAB-477392CCE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A3A9-14D0-4AF6-8D8B-EC3D39E2E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1F94-003F-41C3-B419-2FA210650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108E-81C6-45E4-949D-F53756DC8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BACD-12F0-42C9-B8BC-C8C96E032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0CD3-3784-4B93-B5EF-BF071FCF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85A1-3B63-4031-9379-5BA89F8A9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788B-3AA1-45B7-8645-AA797A631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33480" y="1676160"/>
            <a:ext cx="7277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BANDS HAD THESE ALBUM COV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703600" y="1295280"/>
            <a:ext cx="3736800" cy="37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00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7488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D  ZEPPE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VELVET  UNDER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78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76680" y="1295280"/>
            <a:ext cx="359064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"/>
          <p:cNvPicPr/>
          <p:nvPr/>
        </p:nvPicPr>
        <p:blipFill>
          <a:blip r:embed="rId1"/>
          <a:stretch/>
        </p:blipFill>
        <p:spPr>
          <a:xfrm>
            <a:off x="2784600" y="1371600"/>
            <a:ext cx="357480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6584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EZ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7488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33840" y="1295280"/>
            <a:ext cx="367632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2749680" y="1371600"/>
            <a:ext cx="36446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92520" y="1371600"/>
            <a:ext cx="3558960" cy="3541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0T00:23:42Z</dcterms:created>
  <dc:creator>Jennifer Budzinski</dc:creator>
  <dc:description/>
  <dc:language>en-US</dc:language>
  <cp:lastModifiedBy>Erich Friedman</cp:lastModifiedBy>
  <dcterms:modified xsi:type="dcterms:W3CDTF">2020-09-05T08:51:30Z</dcterms:modified>
  <cp:revision>290</cp:revision>
  <dc:subject/>
  <dc:title>Slide 1</dc:title>
</cp:coreProperties>
</file>