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BCA-B5DE-422F-8D1B-568B00F37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6081-3447-419F-ABDA-6C2B46CDB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81DC-23A6-4CE6-AE53-41B06BE8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A92C-0BE3-40A8-B221-272134334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38B1-64BD-4073-8A38-728BEE19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1066-66D0-4D74-BDF3-D328EF48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80A-9301-4B3E-8315-50325C22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236C-63DD-4CFF-8900-003E8C34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0E2-C641-4E54-8AD3-3016AC8F4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DDC4-CE41-41D2-A49A-6CDDB1A0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7E5-F85D-44FD-A9BD-A8B4C5FC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D65E-92E7-437D-AF07-A176E0C7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8AB-B2F6-4C80-8D17-F6A7AFD5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CB2-EDAE-402E-A662-45E0231A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5E7-F16E-41F5-8964-EAE810400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1F7-4A18-4E75-9EDE-AB21A0BF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979C-988F-43C9-9582-0F9E8EBE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457-5160-462E-AD07-7181B332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8114-2113-488D-8957-83595BC6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9A76-B70A-4AA0-B205-6F948E44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D0E2-9F0F-4772-AD88-3649A239C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2D1B-F764-4D50-9FB1-F7B0F607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4AD-D371-4AB9-BF87-50BE74DF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BEAT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THE BEATLES, BACK WHEN THEY WERE THE QUARRY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BEATLES PASSED AN "A" LEVEL EXAM IN HIGH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FAMOUS "ABBEY ROAD" ALBUM COVER, WHICH BEATLE IS IN FRONT OF THE PROC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AS THE FIRST TO GET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FO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QUIT THE BEATLES DURING THE RECORDING OF "THE WHITE ALB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OWNED A RAINBOW-PAINTED "MAGIC PI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ROTE    "IF I NEEDED SOME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BEA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FAMOUS "ABBEY ROAD" ALBUM COVER, WHICH BEATLE IS IN FRONT OF THE PROC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HAD BROWN EYES.  WHICH ONE HAD BLUE E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SUT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THE BEATLES, BACK WHEN THEY WERE THE QUARRY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BEATLES PASSED AN "A" LEVEL EXAM IN HIGH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AS THE FIRST TO GET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FO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QUIT THE BEATLES DURING THE RECORDING OF "THE WHITE ALB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OWNED A RAINBOW-PAINTED "MAGIC PI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ROTE        "IF I NEEDED SOME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BEA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HAD BROWN EYES.  WHICH ONE HAD BLUE EY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5T16:34:40Z</dcterms:created>
  <dc:creator>Jennifer Budzinski</dc:creator>
  <dc:description/>
  <dc:language>en-US</dc:language>
  <cp:lastModifiedBy>Erich Friedman</cp:lastModifiedBy>
  <dcterms:modified xsi:type="dcterms:W3CDTF">2020-09-05T08:51:54Z</dcterms:modified>
  <cp:revision>361</cp:revision>
  <dc:subject/>
  <dc:title>Slide 1</dc:title>
</cp:coreProperties>
</file>