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ED3-C6AE-49B2-BD46-7BBB6402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D54-0C83-42E4-A310-AB82480D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C23-1815-450A-AB48-299A46F8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BC02-7B23-4CE9-8B81-BBDC3DB3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DDBB-D454-4B44-980E-C80111A9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EB9-A219-44E9-878C-37747554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6372-5BE1-4363-BC30-538D4012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6B28-F8A8-4689-8A0E-A3EA3794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4DF-0DF8-47B9-955B-5316504E6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717-F2A0-4645-9546-D0EE60A47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B2C-F4D2-492F-8164-1A303AC15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AE7-AD32-4CFC-89E1-35D7C2F2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123F-165A-4004-AE0B-8B15C6977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74E-2051-4D09-BE94-2885667C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DCC-E820-4422-BA6D-BCC2C948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EFC-5681-470E-A40E-580A9677A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33C5-7F22-4A60-82CD-B9DF0D852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9C8-F4EE-4CE2-9F16-1F2A31A4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CD0A-ADA9-4530-879D-17ABA50E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EA6B-B250-428F-9D15-EA5199400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41D6-4AF4-4B7A-A6EF-F079FD66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35CC-89D0-4EB0-B4EA-5EB4D800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2D50-DAB2-4C10-9C37-E07BA6E9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BEAT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THE BEATLES, BACK WHEN THEY WERE THE QUARRY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BEATLES PASSED AN "A" LEVEL EXAM IN HIGH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FAMOUS "ABBEY ROAD" ALBUM COVER, WHICH BEATLE IS IN FRONT OF THE PROC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AS THE FIRST TO GET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FO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QUIT THE BEATLES DURING THE RECORDING OF "THE WHITE ALB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OWNED A RAINBOW-PAINTED "MAGIC PI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ROTE    "IF I NEEDED SOME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BEA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FAMOUS "ABBEY ROAD" ALBUM COVER, WHICH BEATLE IS IN FRONT OF THE PROC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HAD BROWN EYES.  WHICH ONE HAD BLUE E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SUT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THE BEATLES, BACK WHEN THEY WERE THE QUARRY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BEATLES PASSED AN "A" LEVEL EXAM IN HIGH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AS THE FIRST TO GET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FO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QUIT THE BEATLES DURING THE RECORDING OF "THE WHITE ALB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OWNED A RAINBOW-PAINTED "MAGIC PI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ROTE        "IF I NEEDED SOME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BEA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HAD BROWN EYES.  WHICH ONE HAD BLUE EY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5T16:34:40Z</dcterms:created>
  <dc:creator>Jennifer Budzinski</dc:creator>
  <dc:description/>
  <dc:language>en-US</dc:language>
  <cp:lastModifiedBy>Erich Friedman</cp:lastModifiedBy>
  <dcterms:modified xsi:type="dcterms:W3CDTF">2020-09-05T08:51:54Z</dcterms:modified>
  <cp:revision>361</cp:revision>
  <dc:subject/>
  <dc:title>Slide 1</dc:title>
</cp:coreProperties>
</file>