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CBA8-6D1F-478C-AE6D-BFB2A7146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DCCD-5038-4952-8065-2CF437C9D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3359-7502-4930-A426-11CB8B989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D357-C401-4B20-80D1-DABCD1D1A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11DC-7F39-418F-8D3C-46F983345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D70B-79BE-43CE-AE2D-D0D0CEDE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EBB1-8A1E-4ED7-BB65-4C17EC82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5350-6725-47E7-B602-545EE0FC5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FCD1-6539-406A-8308-2206E389A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DCDB-1348-471C-A25B-ABB642B2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285C-E1A3-4FA6-BC86-32DFA9E7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E95D-4EBC-4454-B240-220C33B6A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6292-1E61-4B57-9E3D-65E57A19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DD2BC-8695-465B-A5E7-25876D29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BA36-CEA9-480D-9D9C-69FDBF66D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1EDF-4298-413B-8768-624E94C96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931D-80EC-4592-B8B5-A18E45B51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0EE8-12CC-4C9A-85B6-E44DE87B3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664A-B25D-4BDC-A112-DACF48C3D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A2E5-5DF3-48F2-8B8D-CE6254B5B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816C-119F-46A2-AF9F-17885CA02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EDF6-9A45-4C17-BA0D-FD2DA53F2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4641-57F4-4640-8B98-2522D4274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BEAT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THE BEATLES, BACK WHEN THEY WERE THE QUARRY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BEATLES PASSED AN "A" LEVEL EXAM IN HIGH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FAMOUS "ABBEY ROAD" ALBUM COVER, WHICH BEATLE IS IN FRONT OF THE PROCE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AS THE FIRST TO GET MARR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FOR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QUIT THE BEATLES DURING THE RECORDING OF "THE WHITE ALBU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OWNED A RAINBOW-PAINTED "MAGIC PIA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A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ROTE    "IF I NEEDED SOME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BEA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FAMOUS "ABBEY ROAD" ALBUM COVER, WHICH BEATLE IS IN FRONT OF THE PROCE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HAD BROWN EYES.  WHICH ONE HAD BLUE EY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SUTCLI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BASS PLAYER FOR THE BEATLES, BACK WHEN THEY WERE THE QUARRY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BEATLES PASSED AN "A" LEVEL EXAM IN HIGH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AS THE FIRST TO GET MARR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RIGINAL DRUMMER FOR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IEFLY QUIT THE BEATLES DURING THE RECORDING OF "THE WHITE ALBU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OWNED A RAINBOW-PAINTED "MAGIC PIA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EATLE WROTE        "IF I NEEDED SOME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LDEST BEA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OF THE BEATLES HAD BROWN EYES.  WHICH ONE HAD BLUE EY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5T16:34:40Z</dcterms:created>
  <dc:creator>Jennifer Budzinski</dc:creator>
  <dc:description/>
  <dc:language>en-US</dc:language>
  <cp:lastModifiedBy>Erich Friedman</cp:lastModifiedBy>
  <dcterms:modified xsi:type="dcterms:W3CDTF">2020-09-05T08:51:54Z</dcterms:modified>
  <cp:revision>361</cp:revision>
  <dc:subject/>
  <dc:title>Slide 1</dc:title>
</cp:coreProperties>
</file>