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BB4F-0130-42B2-A843-D2641310F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430C-EF41-413C-A0BD-2FA58BC03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60AD-FBFF-4657-9553-F1523AB4D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C3E4-0B22-4CB1-92BD-5B4409B0A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C6F1-B9DA-4513-9BA5-4F5E6278B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B5D4-BF34-458D-AD92-A658A02DC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F7B0-FDA7-4B23-9A4D-DCF7EA6DD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7EF6-8E78-4215-BA5B-32BF4252C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E1C7-075E-4FFE-AEF4-B659FB482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7B98-9EC7-41AF-B61E-2D77A2570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9A59-E84E-42A3-8FDF-BFF6945B3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8DCC-FC29-4698-AE00-CA0AFAF63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02DB-581C-4EEC-A40E-3572010D8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3133-4ADF-45B9-ACD7-1CF55F483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C65D-8C19-426B-82A0-3ADBF8B4A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E94C-8FC4-48D7-81E4-C6EC0EA2B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87EA-FA58-40F2-AEEE-151B1A2D4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3BBD-FC80-44D0-8EE3-72BA5BB7D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DF08-AE38-4B86-BFA8-A5CC5D09C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653A-95E2-462F-B350-7462E8FE6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57CF-55F1-47C7-A1DA-30C32A6AF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124E-CCA5-4317-9395-A6180977F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4DBD-BCCE-4C75-9E19-49B3D151D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8380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OF THESE GROUPS HAS SOLD MORE RECORD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RTH BROO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YLOR SWIF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J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A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VIS  PRES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TON JOH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VIS PRES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HIA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DON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HIAN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D  ZEPP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714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D ZEPPE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NK FLOY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AH  CA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IAH CAR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TNEY HOUS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9528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OLLING 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/D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IN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952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TON JOH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VIS PRESL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NK SINAT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952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YLOR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638360" y="762120"/>
            <a:ext cx="5867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RTH BR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YLOR SWI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J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DON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HIAN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D ZEPPE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NK FLOY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IAH CARE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TNEY HOUS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OLLING ST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/D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IN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B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NK SINAT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21:07:19Z</dcterms:created>
  <dc:creator>Jennifer Budzinski</dc:creator>
  <dc:description/>
  <dc:language>en-US</dc:language>
  <cp:lastModifiedBy>Erich Friedman</cp:lastModifiedBy>
  <dcterms:modified xsi:type="dcterms:W3CDTF">2020-09-05T08:58:12Z</dcterms:modified>
  <cp:revision>344</cp:revision>
  <dc:subject/>
  <dc:title>Slide 1</dc:title>
</cp:coreProperties>
</file>