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9C3B8-C100-4E4F-A6B1-BB5810374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2C71-39F0-47D7-A2D7-A2E22A9C6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6126-A71D-4F46-A173-F1A4766FC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76E1-00E9-4E44-9948-E5C62EAF1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1821-72A3-4829-A281-4D1A6B64E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ACA2E-A1E7-4B4D-B1D8-3AB0EAE1A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3B28-2124-47DC-9844-6EBFDF745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7C68-541A-4A48-AC96-9B4ED8B08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D85B-103E-4750-9EC9-EAAB927C1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6494-C564-4CD6-877D-17893CBFA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8DA3-6DB4-40C9-95DF-1895227A4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ACD6-06E4-4D64-9DA3-85C772219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C531-5EEC-466F-9F23-52ED9E416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8F5A-987A-4579-8265-A31E5C068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F66B-19AE-4B39-A9A0-B881CA971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BD2D-1DCD-4DE8-AC59-69F423A25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E107-6D93-40CF-97C3-0CE7CB37C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C270-7682-49BE-BB10-2E8AE908A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FF46-1B8C-4662-9037-E02F7FE85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4685-0FD1-4700-8D99-E7E2A08B9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3044-FD2D-4517-805B-F51BD9E2B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9396-D475-431B-9527-6C362FDE5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D042-B0E5-47A8-B84E-AE9C4B46C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8380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OF THESE GROUPS HAS SOLD MORE RECORD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RTH BROO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YLOR SWIF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J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A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VIS  PRES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TON JOH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VIS PRES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HIA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DON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HIAN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D  ZEPP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714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D ZEPPE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NK FLOY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AH  CA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IAH CAR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TNEY HOUS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9528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OLLING 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/D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IN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952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TON JOH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VIS PRESL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NK SINAT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952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YLOR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638360" y="762120"/>
            <a:ext cx="5867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RTH BR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YLOR SWI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Y J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DON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HIAN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D ZEPPE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INK FLOY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IAH CARE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TNEY HOUS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OLLING ST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/D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IN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B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ANK SINAT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21:07:19Z</dcterms:created>
  <dc:creator>Jennifer Budzinski</dc:creator>
  <dc:description/>
  <dc:language>en-US</dc:language>
  <cp:lastModifiedBy>Erich Friedman</cp:lastModifiedBy>
  <dcterms:modified xsi:type="dcterms:W3CDTF">2020-09-05T08:58:12Z</dcterms:modified>
  <cp:revision>344</cp:revision>
  <dc:subject/>
  <dc:title>Slide 1</dc:title>
</cp:coreProperties>
</file>