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A213-F1FF-4CF9-BC91-7660552AF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6910-5E1B-4C89-A22E-0996DB3C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A606-ACF9-44D1-91DF-6CB4E4008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7916-D6C3-4A99-8E20-30604376A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C029-1158-42BB-AF47-7373684F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B2FC-8BD0-4AA6-99C1-D7167856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BF35-FD38-4C3A-890D-5942B18AB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B9E7-8D2A-4D85-A353-ACD5F863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9310-76ED-4CB6-A2C5-872D8049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0C39-3DB3-4039-A45F-71B9F753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A071-CCE5-4D79-8D53-40F19D1E7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18AC-7F1A-4002-9E5F-E6DD6573A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EE7-C3A2-44AA-9B92-2007D15BE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C69-B00E-400F-B5FF-4F491BF1F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BFE5-383F-4FC0-B15C-0A6417F4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0816-8F62-4D76-A6C1-4BA3003B2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A161-6D5A-4477-BDCA-43598CEA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3B8C-8419-41C6-B7BA-2D936B9A4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D51E-57AD-491F-ABDE-DB8A1FFC4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1758-B7DA-4B60-BE71-17B42201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5E63-552D-454F-8A44-F877EBD76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8AF6-A708-4106-B4CF-8BD47D08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0C35-1364-43AC-9846-DB627E7F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8380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OF THESE GROUPS HAS SOLD MORE RECO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TH BROO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YLOR SWI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J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TON JOH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IA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HIA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714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D ZEPPE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NK FL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H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H CA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LLING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/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IN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TON JOH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K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38360" y="762120"/>
            <a:ext cx="586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TH BR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YLOR SW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J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HIA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D ZEPPE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NK FL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H CAR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LLING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/D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IN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K SINAT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21:07:19Z</dcterms:created>
  <dc:creator>Jennifer Budzinski</dc:creator>
  <dc:description/>
  <dc:language>en-US</dc:language>
  <cp:lastModifiedBy>Erich Friedman</cp:lastModifiedBy>
  <dcterms:modified xsi:type="dcterms:W3CDTF">2020-09-05T08:58:12Z</dcterms:modified>
  <cp:revision>344</cp:revision>
  <dc:subject/>
  <dc:title>Slide 1</dc:title>
</cp:coreProperties>
</file>