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9460-0773-4596-83E4-65FE9AE8F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CE45-C7AC-4932-8049-C9E60670A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E75F-5775-49B0-B114-991813E8B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92B3-CA2E-4327-BBC6-4D1505F95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5348-4F68-453C-A6FB-A708B5E67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C915-5C68-404E-9819-3C37CBD9A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7FED-1A46-4A0E-B5C3-E5E83BFB0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DCAE-489A-468A-9F20-C3D074DA7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961C-4EC4-4E9B-9C32-8571700A0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A3D2-CE68-49ED-8101-B69E99187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82C59-93EB-4A97-A6E4-612E9A8F7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86BC-D6EF-4233-AE6A-0B9A33C8D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7F4E-8B7B-49DF-A4C0-BF6550441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0934-D4EC-49A2-9254-5F590CD9E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9779-2489-4E59-84E0-9CD44B491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1E6A-9297-4068-9FA0-E9BE11022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9F7E-D717-4563-9907-274F18B74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85D5-ECCD-4E83-8FBB-4A5E04317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C2CD-EA9E-43B5-AB45-D4EC758A1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71EF-28EC-43A9-A750-7214C3301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1DD4-F5EF-4CC4-8CAD-62B022633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1CAF-6F5A-4728-9ED7-D29B2E8F8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ABC5-1747-4594-9272-32B10F6C7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52440" y="990360"/>
            <a:ext cx="8439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THE TITLES OF THE SONGS THAT END WITH THESE PARENTHETICAL TIT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33280" y="761760"/>
            <a:ext cx="867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ARE MADE OF THIS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62000" y="762120"/>
            <a:ext cx="8820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OH, WHAT A NIGHT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409760" y="48769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DE  (U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0360" y="762120"/>
            <a:ext cx="842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IN THE NAME OF LOVE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723960" y="43434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THE  END  OF  THE  WORLD  AS  WE  KNOW IT  (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47600" y="762120"/>
            <a:ext cx="70488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AND I FEEL FINE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895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RAN  (A  FLOCK  OF  SEAGULL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65200" y="762120"/>
            <a:ext cx="8013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SO FAR AWAY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G  A  GONG  (T.  RE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85720" y="762120"/>
            <a:ext cx="797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GET IT ON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GOT  YOU  (JAMES  BROW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66880" y="762120"/>
            <a:ext cx="741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I FEEL GOOD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676520" y="4343400"/>
            <a:ext cx="5790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A  TOLD  ME  (THREE  DOG  N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44520" y="762120"/>
            <a:ext cx="8453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NOT TO COME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714680" y="4343400"/>
            <a:ext cx="5715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  SWEET  IT  IS  (JAMES  TAYL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1920" y="762120"/>
            <a:ext cx="847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TO BE LOVED BY YOU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6680" y="762120"/>
            <a:ext cx="827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IN THE NAME OF LOVE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228600" y="4883040"/>
            <a:ext cx="8686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  ON  THROUGH  (THE  DO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12800" y="762120"/>
            <a:ext cx="771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TO THE OTHER SIDE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5120" y="4343400"/>
            <a:ext cx="53337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DREAMS  (THE  EURYTHMIC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49120" y="762120"/>
            <a:ext cx="8643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ARE MADE OF THIS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84360" y="43434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CEMBER  1963  (FRANKIE  VALLI  &amp;  THE  FOUR  SEAS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65240" y="762120"/>
            <a:ext cx="8812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OH, WHAT A NIGHT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9080" y="761760"/>
            <a:ext cx="7305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AND I FEEL FINE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58720" y="762120"/>
            <a:ext cx="802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SO FAR AWAY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5520" y="762120"/>
            <a:ext cx="8110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GET IT ON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95240" y="761760"/>
            <a:ext cx="7553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I FEEL GOOD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8960" y="761760"/>
            <a:ext cx="850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NOT TO COME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79360" y="761760"/>
            <a:ext cx="858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TO BE LOVED BY YOU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92000" y="761760"/>
            <a:ext cx="756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(TO THE OTHER SIDE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12-16T14:00:45Z</dcterms:modified>
  <cp:revision>387</cp:revision>
  <dc:subject/>
  <dc:title>Slide 1</dc:title>
</cp:coreProperties>
</file>