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83FA-C96B-4952-A1C9-A6800805A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87A7-5188-4B8B-8117-6191B8BD6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7E51-A864-41EE-B2C4-ADF50C472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63A1-6F84-437F-81DE-91C990E16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9EF7-7128-4AA8-95BF-3CE1F973C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5A4F-9CC8-4633-96E7-D2F044231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F45A-ED71-4A30-88E2-1CE3AE356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516C-9EB8-411A-A9CB-51E7E9F6D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D450-8808-4EF6-AC27-8D151993A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A5E7-BF77-49C0-A52F-095B41707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D502-18CA-473D-84A3-4773E5E39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3C1F-5585-4D33-8AAD-A3710EB69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4C61-DDB5-4E51-92FC-796DFDB06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D4B6-765C-4E01-AE11-9B9B0F0F0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8D08-9A13-4433-90EE-527DED0A4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1387-DB60-4D8D-983A-A2C1B57D8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EE2E-C00C-47DE-9AE6-AD5A8252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3B33-36A0-4B86-9732-68F8783F1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0BA0-0D91-4705-AB65-AC40DA473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F9E4-5058-4664-A629-15534A6B3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B535-9080-472C-A50F-D79EEAAA1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FC34-1E97-40E1-9334-699778DE0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B444-E024-4088-B694-E6D4711D8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52440" y="990360"/>
            <a:ext cx="8439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THE TITLES OF THE SONGS THAT END WITH THESE PARENTHETICAL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33280" y="761760"/>
            <a:ext cx="867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ARE MADE OF THIS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62000" y="762120"/>
            <a:ext cx="8820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OH, WHAT A N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40976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  (U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0360" y="762120"/>
            <a:ext cx="842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IN THE NAME OF LOVE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723960" y="43434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THE  END  OF  THE  WORLD  AS  WE  KNOW IT  (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47600" y="762120"/>
            <a:ext cx="7048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AND I FEEL FINE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895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RAN  (A  FLOCK  OF  SEAGULL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65200" y="762120"/>
            <a:ext cx="8013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SO FAR AWAY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G  A  GONG  (T.  RE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85720" y="762120"/>
            <a:ext cx="797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GET IT ON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GOT  YOU  (JAMES  BRO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66880" y="762120"/>
            <a:ext cx="741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I FEEL GOOD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676520" y="4343400"/>
            <a:ext cx="579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A  TOLD  ME  (THREE  DOG  N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44520" y="762120"/>
            <a:ext cx="845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NOT TO COME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714680" y="434340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 SWEET  IT  IS  (JAMES  TAYL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1920" y="762120"/>
            <a:ext cx="847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TO BE LOVED BY YOU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6680" y="762120"/>
            <a:ext cx="827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IN THE NAME OF LOVE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228600" y="488304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  ON  THROUGH  (THE  DO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12800" y="762120"/>
            <a:ext cx="771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TO THE OTHER SIDE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5120" y="4343400"/>
            <a:ext cx="5333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DREAMS  (THE  EURYTHMIC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49120" y="762120"/>
            <a:ext cx="8643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ARE MADE OF THIS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84360" y="4343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CEMBER  1963  (FRANKIE  VALLI  &amp;  THE  FOUR  SEAS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65240" y="762120"/>
            <a:ext cx="8812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OH, WHAT A N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9080" y="761760"/>
            <a:ext cx="7305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AND I FEEL FINE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58720" y="762120"/>
            <a:ext cx="802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SO FAR AWAY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5520" y="7621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GET IT ON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95240" y="761760"/>
            <a:ext cx="7553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I FEEL GOOD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8960" y="761760"/>
            <a:ext cx="850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NOT TO COME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9360" y="761760"/>
            <a:ext cx="858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TO BE LOVED BY YOU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2000" y="761760"/>
            <a:ext cx="756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TO THE OTHER SIDE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4:00:45Z</dcterms:modified>
  <cp:revision>387</cp:revision>
  <dc:subject/>
  <dc:title>Slide 1</dc:title>
</cp:coreProperties>
</file>