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7C08-9DF7-47F5-81E7-B17E2233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77FE-6268-47C9-BA82-432AE5126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DF52-A585-45C4-A812-71A709C77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2A14-F470-42B7-914E-B70A79D39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A504-AF53-42AB-9456-FCBD18E82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4DD6-497A-4563-AA2C-AE546F330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68D0-A97F-4ED7-9B78-A10458C47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3407-6D40-4E6A-A82D-6532C9888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4611-DD80-4905-ABDD-28233320F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D420-2C00-42A5-811D-2450C49E7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04DA-50A2-4676-A450-974040505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8686-65A5-4563-B790-4DAD50C7C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7CB1-5A8A-46EE-BB02-6975042CA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EEE9-2E33-452C-ACF6-050209341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7469-A635-428F-9D68-9199FE7D2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250E-DC00-485D-B8B4-F0C4ECE4B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3510-BFC1-446F-9748-1C683AA27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CD90-0027-4328-8F85-C9ADC5036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8CA2-CEBA-48D2-B96A-13813C588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539C-A8DF-4A73-9C80-27FBFC2C1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BE2F-A0B3-4D78-ADBD-8F962B0D9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204A-B60C-4F41-AA68-FA0E26735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E5D8-2EBB-4E51-9977-44D9F3AC4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52440" y="990360"/>
            <a:ext cx="8439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THE TITLES OF THE SONGS THAT END WITH THESE PARENTHETICAL TIT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33280" y="761760"/>
            <a:ext cx="867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ARE MADE OF THIS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62000" y="762120"/>
            <a:ext cx="8820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OH, WHAT A N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409760" y="4876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DE  (U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0360" y="762120"/>
            <a:ext cx="842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IN THE NAME OF LOVE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723960" y="43434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THE  END  OF  THE  WORLD  AS  WE  KNOW IT  (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47600" y="762120"/>
            <a:ext cx="7048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AND I FEEL FINE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895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RAN  (A  FLOCK  OF  SEAGULL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65200" y="762120"/>
            <a:ext cx="8013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SO FAR AWAY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G  A  GONG  (T.  RE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85720" y="762120"/>
            <a:ext cx="797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GET IT ON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GOT  YOU  (JAMES  BROW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66880" y="762120"/>
            <a:ext cx="741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I FEEL GOOD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676520" y="4343400"/>
            <a:ext cx="5790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A  TOLD  ME  (THREE  DOG  N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44520" y="762120"/>
            <a:ext cx="8453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NOT TO COME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714680" y="434340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  SWEET  IT  IS  (JAMES  TAYL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1920" y="762120"/>
            <a:ext cx="847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TO BE LOVED BY YOU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6680" y="762120"/>
            <a:ext cx="827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IN THE NAME OF LOVE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228600" y="488304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  ON  THROUGH  (THE  DO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12800" y="762120"/>
            <a:ext cx="771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TO THE OTHER SIDE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5120" y="4343400"/>
            <a:ext cx="5333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DREAMS  (THE  EURYTHMIC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49120" y="762120"/>
            <a:ext cx="8643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ARE MADE OF THIS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84360" y="4343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CEMBER  1963  (FRANKIE  VALLI  &amp;  THE  FOUR  SEAS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65240" y="762120"/>
            <a:ext cx="8812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OH, WHAT A N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9080" y="761760"/>
            <a:ext cx="7305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AND I FEEL FINE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58720" y="762120"/>
            <a:ext cx="802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SO FAR AWAY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5520" y="76212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GET IT ON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95240" y="761760"/>
            <a:ext cx="7553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I FEEL GOOD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8960" y="761760"/>
            <a:ext cx="850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NOT TO COME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9360" y="761760"/>
            <a:ext cx="858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TO BE LOVED BY YOU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2000" y="761760"/>
            <a:ext cx="756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TO THE OTHER SIDE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12-16T14:00:45Z</dcterms:modified>
  <cp:revision>387</cp:revision>
  <dc:subject/>
  <dc:title>Slide 1</dc:title>
</cp:coreProperties>
</file>