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5B6CA-2B8D-4D29-9703-25B6585A75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2A8ED-8016-4743-A931-741AC4BB90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DFE5A-28B4-4BD3-A2C5-7532AF4A97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D8359-B59E-4BA7-A88E-3D8755ED53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A3582-5AF1-4825-BC13-291723CB23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1EF66-2447-4E0A-BB40-9228153B58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C2BFE-D3C2-4E08-9BCF-5C145B4772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64904-9CC3-45F6-A332-FD1FDB8AB9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C4A3C-5BFB-4D00-820D-35664BF313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9680A-34E7-4070-BBD5-38D4EF30D5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E7AD2-3CE9-4681-9ACB-8C29E83EC5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DC40C-2579-42C9-AB12-698A6848EC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4500A-C731-4ACB-B45A-9E650DA744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D16E7-2737-4624-9850-3D9C30F43B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4C662-C27E-4DD2-AB76-F752BAEE71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0DA31-3A70-45F3-A790-D255570945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30E44-DCD3-442F-8EB9-12FCDD7B2D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00C27-A039-4A9B-8784-0C0F0ADFD7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9BA8A-F220-49ED-AEE0-33BF2B4CEF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5B765-3011-4B9D-A134-46AC497571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639C4-84E4-4506-9909-30F3BCAE34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0309C-DE30-4ADC-B039-BBD4DCAAF8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F55F1-5F04-4C63-AE14-B12B897D80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990720" y="1676160"/>
            <a:ext cx="71625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O SANG THESE "WALKING" SONGS?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028520" y="761760"/>
            <a:ext cx="7086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WALKIN' ON THE SU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838080" y="762120"/>
            <a:ext cx="74678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WALK LIKE AN EGYPTIA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EROSMI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028880" y="762120"/>
            <a:ext cx="7086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WALK THIS WA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NY  CA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380880" y="762120"/>
            <a:ext cx="83822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I WALK THE LIN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ATRINA  AND  THE  WA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028880" y="762120"/>
            <a:ext cx="7086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WALKING ON SUNSHIN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IRE  STRA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104840" y="762120"/>
            <a:ext cx="6934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WALK OF LIF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90960"/>
            <a:ext cx="68580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OU  RE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838080" y="762120"/>
            <a:ext cx="74678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WALK ON THE WILD SID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IONNE  WARWI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562040" y="735120"/>
            <a:ext cx="6019920" cy="20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WALK ON B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URN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533520" y="762120"/>
            <a:ext cx="80769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WALKS LIKE A LAD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028520" y="762120"/>
            <a:ext cx="7086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WALK THIS WA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LEFT  BAN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800280" y="762120"/>
            <a:ext cx="75438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WALK AWAY RENÉ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MASH  MOU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028880" y="762120"/>
            <a:ext cx="70866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WALKIN' ON THE SU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BANG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1028880" y="762120"/>
            <a:ext cx="7086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WALK LIKE AN EGYPTIA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I WALK THE LIN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990720" y="762120"/>
            <a:ext cx="7086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WALKING ON SUNSHIN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990720" y="762120"/>
            <a:ext cx="71625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WALK OF LIF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799920" y="723960"/>
            <a:ext cx="7543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WALK ON THE WILD SID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600200" y="761760"/>
            <a:ext cx="5943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WALK ON B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WALKS LIKE A LAD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WALK AWAY RENÉ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7T14:32:26Z</dcterms:created>
  <dc:creator>Jennifer Budzinski</dc:creator>
  <dc:description/>
  <dc:language>en-US</dc:language>
  <cp:lastModifiedBy>Erich Friedman</cp:lastModifiedBy>
  <dcterms:modified xsi:type="dcterms:W3CDTF">2020-08-29T17:52:49Z</dcterms:modified>
  <cp:revision>330</cp:revision>
  <dc:subject/>
  <dc:title>Slide 1</dc:title>
</cp:coreProperties>
</file>