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22A21-029E-4248-9160-9B43B46873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21A89-E246-483F-80F1-7E2B8882B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7FD66-1FE2-4C9D-B078-FA4B4C135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21664-A02A-4A12-B77B-7FBAADBA0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55764-BE57-4064-9629-BE5AA8025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F7C5B-E390-43C0-B693-314C97588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3A484-119F-4816-BF70-CF299F729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B7F79-F0F5-436D-ABB0-490B4ABA4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85551-DDE6-4CD0-9FF8-D6E657DA5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E67B9-3981-4CA5-AF90-F272AECBA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17EFD-48D2-476D-9C89-66E727443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B453B-1744-4562-A9B5-D48672A23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E72D3-9D66-4EF6-9534-591C84789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E5C24-E645-4876-B693-A92341671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5EBF3-A324-4F6A-ACF5-4BF39BE96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F159C-DD0D-4363-BB3C-A20478791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E6A20-2999-49F9-8BF5-B8A4693BF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206A1-6195-4473-899E-3BB9DAF4A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18909-D57F-48A8-8033-FF401BB83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6ADFC-7203-4CFB-BE5D-9897099A1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22CA-43E5-47E2-8230-5605A9CC2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37515-D455-45D9-851C-B106B2E0F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C915A-6640-40DB-ACB6-DFEBDE79E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990720" y="1676160"/>
            <a:ext cx="7162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O SANG THESE "WALKING" SONGS?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ALKIN' ON THE SU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838080" y="762120"/>
            <a:ext cx="7467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ALK LIKE AN EGYPTI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EROSM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28880" y="762120"/>
            <a:ext cx="7086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ALK THIS W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NY  C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 WALK THE LI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TRINA  AND  THE  WA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ALKING ON SUNSHI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RE  STR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104840" y="762120"/>
            <a:ext cx="6934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ALK OF LIF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90960"/>
            <a:ext cx="6858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U  RE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ALK ON THE WILD SID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ONNE  WARW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562040" y="735120"/>
            <a:ext cx="6019920" cy="20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ALK ON B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UR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ALKS LIKE A LAD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ALK THIS W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LEFT  BAN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0028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ALK AWAY RENÉ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MASH  MOU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028880" y="762120"/>
            <a:ext cx="70866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ALKIN' ON THE SU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ANG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028880" y="762120"/>
            <a:ext cx="7086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ALK LIKE AN EGYPTI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 WALK THE LI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9072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ALKING ON SUNSHI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ALK OF LIF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99920" y="72396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ALK ON THE WILD SID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600200" y="761760"/>
            <a:ext cx="5943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ALK ON B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ALKS LIKE A LAD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ALK AWAY RENÉ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7T14:32:26Z</dcterms:created>
  <dc:creator>Jennifer Budzinski</dc:creator>
  <dc:description/>
  <dc:language>en-US</dc:language>
  <cp:lastModifiedBy>Erich Friedman</cp:lastModifiedBy>
  <dcterms:modified xsi:type="dcterms:W3CDTF">2020-08-29T17:52:49Z</dcterms:modified>
  <cp:revision>330</cp:revision>
  <dc:subject/>
  <dc:title>Slide 1</dc:title>
</cp:coreProperties>
</file>