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3925-4784-44B9-9870-1B85D38F4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BA10-094C-4C6E-8F63-523FC558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7C06-E244-4EED-B694-BFBC699F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8018-560A-4C5B-9944-15EAB7A2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DF2D-149F-41C2-B609-7F66A52F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1FD5-C6A8-4646-B15E-4822613EE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D59A-62A5-4A13-8DC9-220DE9EF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9B8E-4433-469D-B3C6-EA226E11D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4B1-628D-45D1-99C9-7B90A345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FFB-CC28-4865-B0FC-8C099A39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DA92-A4BC-40E5-A0C7-5366819D1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060B-E68A-4E93-AA9C-49C5B8AFD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C54E-173A-423E-8B6A-7982EBDB4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AF0A-D613-404B-907C-952AA5017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CEDE-28E1-476F-9CB6-C216C81F8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8D6D-4420-4535-881C-A88B6A66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310-F0E8-4E9E-9286-FFF23F503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034A-9D73-4851-9C16-00ECCED7B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E96E-150D-49DA-AF86-72D43AD0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A0E5-26A4-4696-8490-67A921E4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DB07-4F59-49E9-B5BE-F89F6564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D3FE-D619-4930-8A38-FCD08C9C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8EF1-1ADB-4EAB-A89F-0734A5D53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PALINDR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5 NSYNC SONG IS ALSO THE GENRE OF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WITH A SUGGESTIVE TITLE DID ZZ TOP RELEASE IN 1999, TO COMMEMORATE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 OF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INDROMIC SWEDISH BAND IS NAMED AFTER THE MEMBERS' FIRST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EVIOUS ANSWER'S ONLY HIT SONG WITH A PALINDROMIC TITLE, AN ABBREVIATION STARTED BY THE GERMAN N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(NAMED  FOR  BOB  DY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WEIRD AL" YANKOVIC SONG, SUNG IN AN IMITATIVE NASAL WHINE, IN WHICH EVERY LYRIC IS A PALIND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Y DAN ALBUM, CONTAINING THE SONG "DEACON BLUES", WAS THEIR FIRST TO GO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–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WEGIAN GROUP'S BIG HIT WAS "TAKE ON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86080" y="762120"/>
            <a:ext cx="6172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H ALBUM HAS A PALINDROMIC NUMBER AS A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OF KITCHEN UTENSILS IS ALSO THE NAME OF A BAND THAT SANG THE HIT SONG "WHIRLY GIRL", AND BROKE UP IMMEDIATELY AFTERWAR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INDROMIC SWEDISH BAND IS NAMED AFTER THE MEMBERS' FIRST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É  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         OF ELECTRIC LIGHT ORCHESTR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EATEST HITS ALBUM, WHICH CONTAINS "ELO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5 NSYNC SONG IS ALSO THE GENRE OF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WITH A SUGGESTIVE TITLE DID ZZ TOP RELEASE IN 1999, TO COMMEMORATE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 OF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EVIOUS ANSWER'S ONLY HIT SONG WITH A PALINDROMIC TITLE, AN ABBREVIATION STARTED BY THE GERMAN NA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WEIRD AL" YANKOVIC SONG, SUNG IN AN IMITATIVE NASAL WHINE, IN WHICH EVERY LYRIC IS A PALIND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Y DAN ALBUM, CONTAINING THE SONG "DEACON BLUES", WAS THEIR FIRST TO GO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WEGIAN GROUP'S BIG HIT WAS "TAKE ON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H ALBUM HAS A PALINDROMIC NUMBER AS A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OF KITCHEN UTENSILS IS ALSO THE NAME OF A BAND THAT SANG THE HIT SONG "WHIRLY GIRL", AND BROKE UP IMMEDIATELY AFTERWA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         OF ELECTRIC LIGHT ORCHESTR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EATEST HITS ALBUM, WHICH CONTAINS "ELO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2T02:52:26Z</dcterms:created>
  <dc:creator>Jennifer Budzinski</dc:creator>
  <dc:description/>
  <dc:language>en-US</dc:language>
  <cp:lastModifiedBy>Erich Friedman</cp:lastModifiedBy>
  <dcterms:modified xsi:type="dcterms:W3CDTF">2020-12-16T14:02:22Z</dcterms:modified>
  <cp:revision>337</cp:revision>
  <dc:subject/>
  <dc:title>Slide 1</dc:title>
</cp:coreProperties>
</file>