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D04B-BE3C-486B-A6E7-04A71E9DB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41DD-5689-433C-A386-3969D4EAE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04C6-E77C-4A4D-945C-D2154D248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EFA0-88C6-4281-A7B6-39903CD34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41F2-342F-4ABB-B884-D6D1D9E21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7A1D-BFA4-4B90-8655-2961C4C4B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78AD-F87C-49A0-8C0D-207F564FF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8027-71F0-464C-BBE2-1888F4DAD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181A-8A2D-4F2E-9E3D-A16CE2824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A5F4-137E-4B2A-8554-7281F62F1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01CD-747C-4F56-9167-12FB62742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5504-6488-4ECA-BDA8-0716C6999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D930-1447-42F9-9CA4-32DACAF72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AC55-E327-4F1A-B510-9C0CA694D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EAF8-4D96-4F0A-8829-65005249A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46EE-E08A-4024-BFAE-7C99E1CD1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8ED0-C9EC-481F-8E8C-A52B952D1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096B-81B2-4D5F-9F29-D541003A0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44CB-EC3B-40D1-BBCA-1ACB8A8F7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869A-88BE-493D-87F4-638B70C57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DF61-D9F8-4F0E-8E8D-D9C74AE9C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C6D6-AE3D-4D05-B254-20DE27FDD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991E-EE94-4641-A70C-0B74D37DA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AL PALINDR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5 NSYNC SONG IS ALSO THE GENRE OF TH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BUM WITH A SUGGESTIVE TITLE DID ZZ TOP RELEASE IN 1999, TO COMMEMORATE THE 3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NIVERSARY OF THE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71680" y="762120"/>
            <a:ext cx="8001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LINDROMIC SWEDISH BAND IS NAMED AFTER THE MEMBERS' FIRST INITI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PREVIOUS ANSWER'S ONLY HIT SONG WITH A PALINDROMIC TITLE, AN ABBREVIATION STARTED BY THE GERMAN NAV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(NAMED  FOR  BOB  DYLA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"WEIRD AL" YANKOVIC SONG, SUNG IN AN IMITATIVE NASAL WHINE, IN WHICH EVERY LYRIC IS A PALINDR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EELY DAN ALBUM, CONTAINING THE SONG "DEACON BLUES", WAS THEIR FIRST TO GO PLATIN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–H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RWEGIAN GROUP'S BIG HIT WAS "TAKE ON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1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486080" y="762120"/>
            <a:ext cx="6172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H ALBUM HAS A PALINDROMIC NUMBER AS A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X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99960" y="762120"/>
            <a:ext cx="8344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BRAND OF KITCHEN UTENSILS IS ALSO THE NAME OF A BAND THAT SANG THE HIT SONG "WHIRLY GIRL", AND BROKE UP IMMEDIATELY AFTERWAR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LINDROMIC SWEDISH BAND IS NAMED AFTER THE MEMBERS' FIRST INITI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É  E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               OF ELECTRIC LIGHT ORCHESTRA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REATEST HITS ALBUM, WHICH CONTAINS "ELO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5 NSYNC SONG IS ALSO THE GENRE OF TH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X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76280" y="762120"/>
            <a:ext cx="8191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BUM WITH A SUGGESTIVE TITLE DID ZZ TOP RELEASE IN 1999, TO COMMEMORATE THE 3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NIVERSARY OF THE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PREVIOUS ANSWER'S ONLY HIT SONG WITH A PALINDROMIC TITLE, AN ABBREVIATION STARTED BY THE GERMAN NAV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"WEIRD AL" YANKOVIC SONG, SUNG IN AN IMITATIVE NASAL WHINE, IN WHICH EVERY LYRIC IS A PALINDR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EELY DAN ALBUM, CONTAINING THE SONG "DEACON BLUES", WAS THEIR FIRST TO GO PLATIN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52600" y="762120"/>
            <a:ext cx="8038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RWEGIAN GROUP'S BIG HIT WAS "TAKE ON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H ALBUM HAS A PALINDROMIC NUMBER AS A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BRAND OF KITCHEN UTENSILS IS ALSO THE NAME OF A BAND THAT SANG THE HIT SONG "WHIRLY GIRL", AND BROKE UP IMMEDIATELY AFTERWAR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               OF ELECTRIC LIGHT ORCHESTRA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REATEST HITS ALBUM, WHICH CONTAINS "ELO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2T02:52:26Z</dcterms:created>
  <dc:creator>Jennifer Budzinski</dc:creator>
  <dc:description/>
  <dc:language>en-US</dc:language>
  <cp:lastModifiedBy>Erich Friedman</cp:lastModifiedBy>
  <dcterms:modified xsi:type="dcterms:W3CDTF">2020-12-16T14:02:22Z</dcterms:modified>
  <cp:revision>337</cp:revision>
  <dc:subject/>
  <dc:title>Slide 1</dc:title>
</cp:coreProperties>
</file>