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034-5FFE-44A6-A91C-3E9507AC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607A-E097-4181-8F3D-78F6F0172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C41-DB4F-4C24-8A95-7B633834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6AB5-BF44-490F-9C98-609CFA08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833-32DB-44AE-87EF-605A48DE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EA3-1A38-4D0E-8893-E7CF5CD1A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A847-9040-4744-BFD5-FB4F7886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0F5F-40D6-4750-902C-4E891452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146-BA0D-45C7-9726-E80F0E6FC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350-0CE1-4F40-ADAD-602C7BDC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49B-E4B5-4751-B94B-F86E0BFF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1FC-418A-4E81-9D85-71F9C41C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D647-B41B-42BB-A524-B29CC18B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D198-12F8-4AE1-A6B3-9AEF9D11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1D2-7984-49E5-8A5B-E4ABF3D5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688F-5BF1-445A-9082-7636CF1B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BD1-1FE0-4914-8496-CD739349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CAFD-6B1B-4781-9CDE-E18E79C0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0C0-6A15-4239-B60A-39C35437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9C9-F903-46DA-9345-CF98B64C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B74-783F-4A3E-AF98-658020D5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ECA-DBF2-495C-8D76-AC8702D2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8B8-09DA-46CD-98F9-BCE4F851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PALINDR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(NAMED  FOR  BOB  DY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86080" y="762120"/>
            <a:ext cx="6172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É  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02:52:26Z</dcterms:created>
  <dc:creator>Jennifer Budzinski</dc:creator>
  <dc:description/>
  <dc:language>en-US</dc:language>
  <cp:lastModifiedBy>Erich Friedman</cp:lastModifiedBy>
  <dcterms:modified xsi:type="dcterms:W3CDTF">2020-12-16T14:02:22Z</dcterms:modified>
  <cp:revision>337</cp:revision>
  <dc:subject/>
  <dc:title>Slide 1</dc:title>
</cp:coreProperties>
</file>