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3CDE-238D-437F-8D65-5DE50BDB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C8F1-AE94-4BBA-ACEF-53EABFA7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9398-D021-4B08-978B-225A89220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D187-55BC-438C-A008-8282790D6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229-B864-49B3-B383-D7A13CD92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8F99-D00C-42D9-BCF3-B1B4444C2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DC86-AE4D-4A49-8C2C-DDA1741F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A0E6-B6B5-468B-9BE6-564A3D78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507D-C9C8-4548-AFB5-38D5424A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965A-8F39-4FFC-9D9C-FAFBFA2DD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4C70-429D-48CB-B8B9-C7B36D2C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B8F6-BD88-4075-9352-C8F79F32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6A2D-CA4D-4845-B6E3-FC9BFB907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337B-E38B-4590-A9F9-CC307DB73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06E1-DB0C-4E4B-A373-2E68E559D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BF87-5C69-48E2-957C-66A292B21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C5FE-6DEA-41A6-9920-A2BCA490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97B-A816-4062-AABE-4ABDD2052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F3C6-2E7C-472A-B74F-1859B2355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3AE8-833F-4B77-9878-6A3E34BE0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B75C-54A8-482A-96DF-2829D20C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3662-7FFB-43A2-8B38-A84CC429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4E32-91F8-4C5A-8AFA-EDF5FC9C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9560" y="761760"/>
            <a:ext cx="8264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MAMAS AND THE PAPAS WAS THEIR ONLY #1 SONG, AND THE FIRST #1 SONG BY A GROUP CONTAINING BOTH GEN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FROM ALABAMA'S MOST SUCCESSFU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A SONG IS ALSO THE TITLE OF A MOVIE FEATURING THEIR SO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IC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95440" y="762120"/>
            <a:ext cx="795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BANGLES, RIGHT BEFORE THEIR #1 HIT 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Y  M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3 WHEN SUNG BY TOMMY JAMES AND THE SHONDELLS, AND #1 WHEN COVERED BY BILLY ID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GIE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1400" y="762120"/>
            <a:ext cx="7801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#1 SONG WAS ABOUT HIS FIRST EXPERIENCE WITH SEX, WITH AN OLDER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HO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VILLAGE PEOPLE'S FIRST HIT SONG, RIGHT BEFORE THEIR HITS "Y.M.C.A" AND "IN THE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SONG DID THE BEATLES COVER IN 1964, OFTEN CALLED "THE WEAKEST TRACK THE BEATLES EVER RECOR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M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.W. STEVENSON'S ONLY HIT SONG, WHICH EARNED BROOKS &amp; DUNN     A GRAMMY FOR COVERING  THE SONG 24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A SONG IS ALSO THE TITLE OF A MOVIE FEATURING THEIR SO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ART'S FIRST TOP-10 SONG, ABOUT ANN WILSON'S RELATIONSHIP WITH AN OLDER GU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,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71600" y="762120"/>
            <a:ext cx="8200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MAMAS AND THE PAPAS WAS THEIR ONLY #1 SONG, AND THE FIRST #1 SONG BY A GROUP CONTAINING BOTH GEN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SONG FROM ALABAMA'S MOST SUCCESSFU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HIT SONG BY THE BANGLES, RIGHT BEFORE THEIR #1 HIT "WALK LIKE AN EGYPT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3 WHEN SUNG BY TOMMY JAMES AND THE SHONDELLS, AND #1 WHEN COVERED BY BILLY ID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49440" y="762120"/>
            <a:ext cx="784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D STEWART #1 SONG WAS ABOUT HIS FIRST EXPERIENCE WITH SEX, WITH AN OLDER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VILLAGE PEOPLE'S FIRST HIT SONG, RIGHT BEFORE THEIR HITS "Y.M.C.A" AND "IN THE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&amp;B SONG DID THE BEATLES COVER IN 1964, OFTEN CALLED "THE WEAKEST TRACK THE BEATLES EVER RECOR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.W. STEVENSON'S ONLY HIT SONG, WHICH EARNED BROOKS &amp; DUNN     A GRAMMY FOR COVERING  THE SONG 24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6440" y="761760"/>
            <a:ext cx="8148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EART'S FIRST TOP-10 SONG, ABOUT ANN WILSON'S RELATIONSHIP WITH AN OLDER GU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3-28T18:39:32Z</dcterms:modified>
  <cp:revision>400</cp:revision>
  <dc:subject/>
  <dc:title>Slide 1</dc:title>
</cp:coreProperties>
</file>