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35A-D348-474C-9E73-8136113B1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F5CF-A837-41F1-B2E1-44ED2892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C108-AE82-4B13-8584-7E2631BE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24A-BF4D-4337-B650-440892F1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31DA-9FAB-4BC4-87DA-7B5DBBEE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E68-2830-4F5C-963F-8FAA25DA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8A66-DB56-41CF-8FCF-93B3026B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BD2-D54F-4ABA-82CE-432EEFF3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19AB-E517-4DCD-86E5-EC84C29C3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003-8C4F-4E67-B42C-A536FEA7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4DF-15DD-46A3-AA06-4D6D6E75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7CE-8775-4276-B817-B9D2A383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8CA-147F-488F-A7E6-CF63A02C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EE3-E753-48DB-9956-F4A71A34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787-AA73-438A-9964-AEAE7C67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8B9A-BB6E-4391-8803-0D839F5C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6108-B20B-4ACF-90A9-BEFD3E77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B8D7-95A3-4A8A-9E4F-F734640D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4BA6-B516-4786-B00C-594AF1D9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2EF9-A27D-449C-B2C4-DE4EF081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F4C6-4D9E-4F20-9085-2CED0812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1CF5-B377-486D-930D-AD8F19C8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EC8-3F2D-4574-956D-99372F29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9560" y="761760"/>
            <a:ext cx="826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MAMAS AND THE PAPAS WAS THEIR ONLY #1 SONG, AND THE FIRST #1 SONG BY A GROUP CONTAINING BOTH GEN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FROM ALABAMA'S MOST SUCCESSFU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A SONG IS ALSO THE TITLE OF A MOVIE FEATURING THEIR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IC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5440" y="762120"/>
            <a:ext cx="795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BANGLES, RIGHT BEFORE THEIR #1 HIT 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Y  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3 WHEN SUNG BY TOMMY JAMES AND THE SHONDELLS, AND #1 WHEN COVERED BY BILLY ID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GIE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#1 SONG WAS ABOUT HIS FIRST EXPERIENCE WITH SEX, WITH AN OLDER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H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VILLAGE PEOPLE'S FIRST HIT SONG, RIGHT BEFORE THEIR HITS "Y.M.C.A" AND "IN THE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SONG DID THE BEATLES COVER IN 1964, OFTEN CALLED "THE WEAKEST TRACK THE BEATLES EVER RECOR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.W. STEVENSON'S ONLY HIT SONG, WHICH EARNED BROOKS &amp; DUNN     A GRAMMY FOR COVERING  THE SONG 24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A SONG IS ALSO THE TITLE OF A MOVIE FEATURING THEIR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ART'S FIRST TOP-10 SONG, ABOUT ANN WILSON'S RELATIONSHIP WITH AN OLDER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,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1600" y="762120"/>
            <a:ext cx="82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MAMAS AND THE PAPAS WAS THEIR ONLY #1 SONG, AND THE FIRST #1 SONG BY A GROUP CONTAINING BOTH GE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FROM ALABAMA'S MOST SUCCESSFU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BANGLES, RIGHT BEFORE THEIR #1 HIT "WALK LIKE AN EGYPT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3 WHEN SUNG BY TOMMY JAMES AND THE SHONDELLS, AND #1 WHEN COVERED BY BILLY ID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9440" y="762120"/>
            <a:ext cx="784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#1 SONG WAS ABOUT HIS FIRST EXPERIENCE WITH SEX, WITH AN OLDER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VILLAGE PEOPLE'S FIRST HIT SONG, RIGHT BEFORE THEIR HITS "Y.M.C.A" AND "IN THE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SONG DID THE BEATLES COVER IN 1964, OFTEN CALLED "THE WEAKEST TRACK THE BEATLES EVER RECOR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.W. STEVENSON'S ONLY HIT SONG, WHICH EARNED BROOKS &amp; DUNN     A GRAMMY FOR COVERING  THE SONG 24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ART'S FIRST TOP-10 SONG, ABOUT ANN WILSON'S RELATIONSHIP WITH AN OLDER GU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3-28T18:39:32Z</dcterms:modified>
  <cp:revision>400</cp:revision>
  <dc:subject/>
  <dc:title>Slide 1</dc:title>
</cp:coreProperties>
</file>