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3202-213D-46C5-9809-B182F9810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9E79-C8E2-4B05-B4F5-2A533D779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BC54-B297-4E6F-884A-4FB7ACF29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0865-B0BC-48DD-8C53-EF53FD9DC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72FB-9C7D-4928-A02F-88056570D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4F93-FBD2-47F9-A72A-270D18B7E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EF4B-50A4-402B-ADBD-2AD1DD86A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E1E6-C825-4523-BDCD-D8D884CE2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4C79-EA41-4104-8E85-BD66B0CC7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96BF-2613-473E-A289-240CFEC6F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0C01-9162-40A9-98E5-565AFFA66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6FFC-4895-4E9B-B487-3C564C23B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A8D7-6709-4C46-B2CE-697106937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80B8-0733-4335-9878-C0E45C997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C4DD-5D30-48C3-B2C7-C2294124B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D8A8-1F21-41E5-A5DD-4DC3D12B3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7AAC-C220-46B5-9BFF-25D4E7753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9B2C-F005-431E-8DB9-3665A8740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4265-665D-4AB5-90B9-A909223C9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5D13-76F5-4295-848C-81FA72150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935E-896C-4708-8DA7-71AD8E633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09CD-CD12-4363-9090-4698D72BE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C402-44D0-4CB3-8916-4F7C895C5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23960" y="17524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SINGERS BY THEIR MUGSHO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832120" y="1295280"/>
            <a:ext cx="347976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995560" y="1295280"/>
            <a:ext cx="3152880" cy="35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NY  C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860560" y="1295280"/>
            <a:ext cx="34228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4994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K  JA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943360" y="1295280"/>
            <a:ext cx="3257280" cy="369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L  WAY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844720" y="1295280"/>
            <a:ext cx="34545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ISSA  ETHE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948040" y="1295280"/>
            <a:ext cx="32479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SINA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106800" y="1295280"/>
            <a:ext cx="2930400" cy="37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968560" y="1295280"/>
            <a:ext cx="3206880" cy="367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IN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943360" y="1295280"/>
            <a:ext cx="3257280" cy="36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860560" y="1295280"/>
            <a:ext cx="34228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D  R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832120" y="1295280"/>
            <a:ext cx="3479760" cy="35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PAC  SHAK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995560" y="1295280"/>
            <a:ext cx="3152880" cy="35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943360" y="1295280"/>
            <a:ext cx="3257280" cy="36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844720" y="1295280"/>
            <a:ext cx="3454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948040" y="1295280"/>
            <a:ext cx="32479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3106800" y="1295280"/>
            <a:ext cx="2930400" cy="37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968560" y="1295280"/>
            <a:ext cx="3206880" cy="367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943360" y="1295280"/>
            <a:ext cx="3257280" cy="36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1-07-15T00:20:29Z</dcterms:modified>
  <cp:revision>288</cp:revision>
  <dc:subject/>
  <dc:title>Slide 1</dc:title>
</cp:coreProperties>
</file>