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510D-85A4-47DA-9454-27B81531A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00D9-03C7-4CA1-BB44-F6FE1513C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25B7-9FB2-4CEE-A62C-1D06953F3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CB77-2CC6-40A2-BF37-3AF334A71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B634-D34F-4DF6-B7DE-D775231AA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5AFF-CD4D-40ED-950F-F8E5FDE3D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C101-34C1-4FB5-9F97-FB537B2C4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7473-91B1-4F75-A8F6-7439CE75A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23EB-0977-4512-9A7C-F2ABB89CE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41FC-B645-4B0A-AD07-8CE632CCB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29C8-A030-435A-9ED0-712C0CE98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C7F1-76F0-4FAF-A2D9-1447E5976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878C-F8DB-4672-9511-BA538E19E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5919-D351-4C4C-9E79-9799320FC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270B-6C43-426F-9881-A49B44983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5E4C-EEBF-4B61-88C5-3FB52EAEB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5D80-7D89-4AEE-B2F1-92C0BC564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D1F8-31CB-4F86-8617-79588ACBC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F128B-41CF-4C35-9BFF-05E6DE80E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DE2D-FF44-4629-ACAE-9581EF985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AA55-3550-4033-9603-B37BDA39D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DD47-8A2C-40EA-B436-9ABB58104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5255-05B4-4FC8-B0FC-29EF5729E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23960" y="17524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SINGERS BY THEIR MUGSHO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832120" y="1295280"/>
            <a:ext cx="347976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995560" y="1295280"/>
            <a:ext cx="3152880" cy="359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NY  C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860560" y="1295280"/>
            <a:ext cx="34228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499428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K  JAG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943360" y="1295280"/>
            <a:ext cx="3257280" cy="369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L  WAY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844720" y="1295280"/>
            <a:ext cx="34545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ISSA  ETHERI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948040" y="1295280"/>
            <a:ext cx="32479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  SINAT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3106800" y="1295280"/>
            <a:ext cx="2930400" cy="370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JAC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968560" y="1295280"/>
            <a:ext cx="3206880" cy="367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IN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943360" y="1295280"/>
            <a:ext cx="3257280" cy="361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860560" y="1295280"/>
            <a:ext cx="34228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D  R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832120" y="1295280"/>
            <a:ext cx="3479760" cy="356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PAC  SHAK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2995560" y="1295280"/>
            <a:ext cx="3152880" cy="359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943360" y="1295280"/>
            <a:ext cx="3257280" cy="369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844720" y="1295280"/>
            <a:ext cx="34545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948040" y="1295280"/>
            <a:ext cx="32479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3106800" y="1295280"/>
            <a:ext cx="2930400" cy="37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968560" y="1295280"/>
            <a:ext cx="3206880" cy="367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943360" y="1295280"/>
            <a:ext cx="3257280" cy="36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1-07-15T00:20:29Z</dcterms:modified>
  <cp:revision>288</cp:revision>
  <dc:subject/>
  <dc:title>Slide 1</dc:title>
</cp:coreProperties>
</file>