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814B-91F1-4929-9948-2DD6047E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70EC-D248-4A7E-B185-2299AEC7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CF3-4C64-4670-9FA1-FE756ABC2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DCDE-5F9A-4A7F-BDD0-C1FAB9AE3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E10-C737-4829-9FE1-AFE27BF50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6FD0-2F6D-4B0B-959D-8B9914960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942-A689-4407-8BD9-56559182B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2630-D094-4CA7-B58E-3F5E69C42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F3A5-B3FE-4F27-ADB3-96C0F30A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B725-6F49-40C7-B3FA-25576FB0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17C-0DC8-43FF-A756-937A06925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514C-2A17-4575-8734-09A008121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36FB-0D35-4F3A-9F78-C7891F66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3CE3-3C85-4FC0-97BD-874E591A3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8C2A-4EDB-4CFD-9ACF-3D9E4909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C6B8-6AD9-47B6-93A8-5D8E67A9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D084C-AF2A-4165-A2A8-A3771258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9C60-A330-4D85-978F-E173EEF1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4FB8-33BD-42A3-BF09-FF25D1748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BCE0-36CF-4276-A318-30B0B5333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05D9-014E-4E1F-9566-6922B75ED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54D-035B-4BDC-8561-4C5DF39A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B178-FFF1-4926-B3ED-AD0DA4BDD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3960" y="137124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SONGS WHOSE LYRICS START WITH THE TITL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LOWING LIKE A RIVER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CKONING ME / WHO KNOWS WHEN WE SHALL MEET AGAIN, IF E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EVER REACHING THE END / LETTERS I'VE WRITTEN / NEVER MEANING TO S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  (THE  BEAT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43040" y="762120"/>
            <a:ext cx="7657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 NEED SOME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JUST ANY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OU KNOW I NEED SOMEON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ODUS  (BOB  MARLE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1200" y="762120"/>
            <a:ext cx="7581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MOVEMENT OF JAH PEOPLE! / OH-OH-OH YEAH! / MEN AND PEOPLE WILL FIGHT YA 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280" y="4876920"/>
            <a:ext cx="88394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IN'T  NO SUNSHINE  (BILL  WITH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IT'S NOT WARM WHEN SHE'S AWA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AND SHE'S ALWAYS GONE TOO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390680" y="4419720"/>
            <a:ext cx="6362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SHOT  THE  SHERIFF (ERIC  CLAP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2680" y="762120"/>
            <a:ext cx="8378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333440" y="4419720"/>
            <a:ext cx="6477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ULDN'T  IT  BE  NICE  (THE  BEACH  BOY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F WE WERE OLDER / THEN WE WOULDN'T HAVE TO WAIT SO LONG?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K  (ARETHA  FRANKLI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 [TITLE]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IT / YOU BETTER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WHAT YOU'RE TRYING TO DO TO 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4197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EASE  COME  TO  BOSTON  (DAVID  ALLAN  CO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14440" y="762120"/>
            <a:ext cx="8115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SPRINGTIME / I'M STAYING HERE WITH SOME FRIENDS / AND THEY'VE GOT LOTS OF RO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I NEED SOME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NOT JUST ANYBOD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YOU KNOW I NEED SOMEONE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IDE  IS  HIGH  (BLONDI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'M HOLDIN' ON / I'M GONNA BE YOUR NUMBER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467000" y="4419720"/>
            <a:ext cx="6210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E  (THE  ALAN  PARSONS  PROJEC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5360" y="762120"/>
            <a:ext cx="81532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FLOWING LIKE A RIVER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ECKONING ME / WHO KNOWS WHEN WE SHALL MEET AGAIN, IF E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123920" y="4419720"/>
            <a:ext cx="68961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GHTS  IN  WHITE  SATIN (THE  MOODY  BLU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/ NEVER REACHING THE END / LETTERS I'VE WRITTEN / NEVER MEANING TO SE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MOVEMENT OF JAH PEOPLE! / OH-OH-OH YEAH! / MEN AND PEOPLE WILL FIGHT YA 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IT'S NOT WARM WHEN SHE'S AWA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WHEN SHE'S GONE / AND SHE'S ALWAYS GONE TOO LO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61800" y="762120"/>
            <a:ext cx="842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 /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 DID NOT SHOOT THE DEPU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F WE WERE OLDER / THEN WE WOULDN'T HAVE TO WAIT SO LONG?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YOU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 [TITLE] 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IT / YOU BETTER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BOUT WHAT YOU'RE TRYING TO DO TO 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OR THE SPRINGTIME / I'M STAYING HERE WITH SOME FRIENDS / AND THEY'VE GOT LOTS OF RO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[TITLE]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BUT I'M HOLDIN' ON / I'M GONNA BE YOUR NUMBER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16:58:35Z</dcterms:created>
  <dc:creator>Jennifer Budzinski</dc:creator>
  <dc:description/>
  <dc:language>en-US</dc:language>
  <cp:lastModifiedBy>Erich Friedman</cp:lastModifiedBy>
  <dcterms:modified xsi:type="dcterms:W3CDTF">2022-01-30T19:52:58Z</dcterms:modified>
  <cp:revision>338</cp:revision>
  <dc:subject/>
  <dc:title>Slide 1</dc:title>
</cp:coreProperties>
</file>