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C03D-BEB2-473D-821E-8EE332A4D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9C3-935C-4146-AF81-F5C7CC82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7F3-AE3F-4879-9C38-07A5F363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7BF0-5D1D-41AC-B125-A3E05BCF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E88-EEDA-4211-8355-9F18297DC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200-1382-425E-9792-CCE90B0B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848-D36F-40E4-B16E-F0571732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FED-AD9B-466D-92FF-7BCCF66C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BF86-5F79-483A-B104-074B0310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1AA-54B0-4521-BFDC-974F2B1E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A60-7914-4E00-BB2F-14696584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AF1-192C-47E5-954E-E0223F3E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F07-BEB4-450C-951B-2BB19D47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B23-C2B3-403F-A602-C71A9092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262-47AA-447C-993C-78DCB323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409-C85C-48DE-9FA3-8F71024A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C76-26C5-45FC-8FA9-9524FC7F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CBD4-DDDD-462E-9A23-85850E94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700-BA1B-4A27-A2B3-374B5930C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91D-56F3-4375-9932-02BB8456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D05-C7BD-40ED-BDFF-2E4450E1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96B-3CCE-4B24-9ED2-A71E7492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9C63-B432-41B6-82C1-1439E112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SONGS WHOSE LYRICS START WITH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LOWING LIKE A RIVER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CKONING ME / WHO KNOWS WHEN WE SHALL MEET AGAIN, IF 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EVER REACHING THE END / LETTERS I'VE WRITTEN / NEVER MEANING TO S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 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3040" y="762120"/>
            <a:ext cx="7657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 NEED SOME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JUST ANY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OU KNOW I NEED SOMEON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ODUS  (BOB  MAR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MOVEMENT OF JAH PEOPLE! / OH-OH-OH YEAH! / MEN AND PEOPLE WILL FIGHT YA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280" y="48769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SUNSHINE  (BILL  WI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IT'S NOT WARM WHEN SHE'S AWA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AND SHE'S ALWAYS GONE TOO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390680" y="4419720"/>
            <a:ext cx="6362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HOT  THE  SHERIFF (ERIC  CLAP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2680" y="762120"/>
            <a:ext cx="837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33440" y="441972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ULDN'T  IT  BE  NICE  (THE  BEACH  BO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F WE WERE OLDER / THEN WE WOULDN'T HAVE TO WAIT SO LONG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K  (ARETHA  FRANK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 [TITLE]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IT / YOU BETTER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WHAT YOU'RE TRYING TO DO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4197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EASE  COME  TO  BOSTON  (DAVID  ALLAN  C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SPRINGTIME / I'M STAYING HERE WITH SOME FRIENDS / AND THEY'VE GOT LOTS OF 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 NEED SOME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JUST ANY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OU KNOW I NEED SOMEON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DE  IS  HIGH  (BLOND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'M HOLDIN' ON / I'M GONNA BE YOUR NUMBER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67000" y="4419720"/>
            <a:ext cx="621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(THE  ALAN  PARSONS  PROJ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LOWING LIKE A RIVER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CKONING ME / WHO KNOWS WHEN WE SHALL MEET AGAIN, IF 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23920" y="4419720"/>
            <a:ext cx="689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S  IN  WHITE  SATIN (THE  MOODY  BLU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EVER REACHING THE END / LETTERS I'VE WRITTEN / NEVER MEANING TO S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MOVEMENT OF JAH PEOPLE! / OH-OH-OH YEAH! / MEN AND PEOPLE WILL FIGHT YA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IT'S NOT WARM WHEN SHE'S AWA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AND SHE'S ALWAYS GONE TOO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F WE WERE OLDER / THEN WE WOULDN'T HAVE TO WAIT SO LONG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YOU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IT / YOU BETTER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WHAT YOU'RE TRYING TO DO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SPRINGTIME / I'M STAYING HERE WITH SOME FRIENDS / AND THEY'VE GOT LOTS OF 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'M HOLDIN' ON / I'M GONNA BE YOUR NUMBER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1-30T19:52:58Z</dcterms:modified>
  <cp:revision>338</cp:revision>
  <dc:subject/>
  <dc:title>Slide 1</dc:title>
</cp:coreProperties>
</file>