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233-4632-46DC-BF0F-C544A119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E7C-19FD-4E46-B8C8-C87FC4EA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ADD-DE31-4745-B9BE-CF9FD551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B0F-0F74-4356-B628-CBF34770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145-6CBD-4470-9220-FD51E6637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FDA-9A65-4FA8-AE8F-AE7F590C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830-1195-483E-998C-659C563E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0E5-9766-4508-93EC-040E60B8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1BB-0450-4B5E-80F4-393B0FD2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39FB-B9E3-4FED-8F06-3F5E3A65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471-786D-4C41-A2B0-00915A26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FDA-AA1B-440C-9A8A-8A1AE264A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E992-E099-4211-9229-3B5066E3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FCA7-9552-4888-96B6-6086D6F1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4F1-5528-46D6-A66C-80256DC1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9D4-B150-46B1-98FB-AE018F784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7C45-A70D-4341-A825-C7771658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02D-8992-4A4F-8A38-5A81A598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B193-BFCE-4D5A-915C-8295B0A8E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8B5-C30B-4CB9-B62E-5D1D764F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AA8-5FCC-42B2-B5E2-AF6D0909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7B5E-393B-4090-B242-8B113250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1C1-CB62-4CEC-99DF-DB85D8A8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28560" y="1371600"/>
            <a:ext cx="7886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USICIAN CARICATURES BY ARTIST PABLO LOBA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332160" y="1219320"/>
            <a:ext cx="24796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305160" y="1219320"/>
            <a:ext cx="25336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COST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95720" y="1219320"/>
            <a:ext cx="27525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49560" y="1219320"/>
            <a:ext cx="304488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S  DO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78280" y="1219320"/>
            <a:ext cx="3187440" cy="37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247920" y="1219320"/>
            <a:ext cx="26481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87800" y="1219320"/>
            <a:ext cx="27684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305160" y="1219320"/>
            <a:ext cx="25336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162240" y="1219320"/>
            <a:ext cx="2819520" cy="37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332160" y="1219320"/>
            <a:ext cx="24796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195720" y="1219320"/>
            <a:ext cx="27525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560" y="1219320"/>
            <a:ext cx="304488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78280" y="1219320"/>
            <a:ext cx="318744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47920" y="1219320"/>
            <a:ext cx="26481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87800" y="1219320"/>
            <a:ext cx="2768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62240" y="1219320"/>
            <a:ext cx="2819520" cy="378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2-18T12:58:51Z</dcterms:modified>
  <cp:revision>289</cp:revision>
  <dc:subject/>
  <dc:title>Slide 1</dc:title>
</cp:coreProperties>
</file>