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321A-753B-4967-A82D-D584B795A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A6E2-EBAE-4C27-ABAE-828A7141D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07BC-6093-4404-8B16-8E64A148D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8264-E494-4252-8157-3C1A8E760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A975-898D-43B6-851D-9DB4EE96C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3DE6-22FE-4A4B-9A40-3309547B3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07B2-D811-4989-9B6E-91B0DBDE7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BD287-6ECE-4BF9-B1D5-C6B80060B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101B-E507-4485-8021-097672932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FBC6-08C9-4F9B-932E-7F48DE648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4E1C-9B18-4FB4-8418-1BF6CD186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419C1-B0C5-4B82-AB27-4A84B6C9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292F-5C6C-4E72-897B-233CAFE28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6C01-2DBF-4E44-8EBC-5D31718C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9714-D4AD-4C2B-9236-A56EB0177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F40-5163-4920-A9B8-183A0B9B9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61B5-A5CA-4BEB-8D16-BE6865F32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00B8-7BB8-436B-8F33-FDBCB457F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BD3C-5736-4807-AB73-C60756FD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A20A-3F56-46DA-BE14-8910AB295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08C1-B980-4122-9640-B57B9D7A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D65C-49D3-44F7-8031-6E431D1F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4D2A-FF1B-45EF-BF65-A7A91F2FC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28560" y="1371600"/>
            <a:ext cx="7886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MUSICIAN CARICATURES BY ARTIST PABLO LOBA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86280" y="121932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332160" y="1219320"/>
            <a:ext cx="24796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305160" y="1219320"/>
            <a:ext cx="25336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COST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95720" y="1219320"/>
            <a:ext cx="275256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049560" y="1219320"/>
            <a:ext cx="304488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S  DOM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978280" y="1219320"/>
            <a:ext cx="3187440" cy="37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247920" y="1219320"/>
            <a:ext cx="26481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87800" y="1219320"/>
            <a:ext cx="276840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314880" y="1219320"/>
            <a:ext cx="251460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305160" y="1219320"/>
            <a:ext cx="25336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162240" y="1219320"/>
            <a:ext cx="2819520" cy="378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86280" y="1219320"/>
            <a:ext cx="29718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332160" y="1219320"/>
            <a:ext cx="24796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195720" y="1219320"/>
            <a:ext cx="275256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49560" y="1219320"/>
            <a:ext cx="3044880" cy="37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78280" y="1219320"/>
            <a:ext cx="3187440" cy="37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47920" y="1219320"/>
            <a:ext cx="26481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87800" y="1219320"/>
            <a:ext cx="27684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14880" y="1219320"/>
            <a:ext cx="251460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62240" y="1219320"/>
            <a:ext cx="2819520" cy="3782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12-18T12:58:51Z</dcterms:modified>
  <cp:revision>289</cp:revision>
  <dc:subject/>
  <dc:title>Slide 1</dc:title>
</cp:coreProperties>
</file>