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3D60-44B8-4028-9E23-BFE4F058A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7885-EC3E-48AA-B0DE-45D9F7D33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FDE0-A856-407D-AA6D-AB0580C06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326F-AB79-4891-AD7E-E8AD703CB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8DF6-DA1C-45EB-9C0B-14EA3D52B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65CC-7DBE-4373-A124-C5D395BD5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2456-0520-40FD-BDA7-B035D9B86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36C3-642C-488E-BF1E-C40D42915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F363-E1BF-4E83-BADF-14CA6F71E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5ACA-4322-4237-B847-9A44632F8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9C34-E25D-4E2F-89AB-253F5F04E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0472-9514-400B-BA36-44C39B845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5B7E-75D7-46B8-886C-56E0B12CA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6848-AAF0-4AAB-9246-ED1DFCBFD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735A-1362-480A-A9D6-3E1811795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3880-7E45-4206-8D73-1690FE710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257E-3C75-4FFA-8284-9FF3CE2BA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9B54-948A-440E-87A1-F2AE5F9AC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9894-7759-406E-8E4F-11A32ABC0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2A00-10E3-42C9-BFAF-5767429E4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F2C1-B32A-46E3-9862-5BDE01AD6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BEC8-5E8F-4A9C-A123-18FC5FCCD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46D7-1E9A-46FA-8EF4-8B7067416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____ LOVE: FILL IN THE MISSING WORDS IN THESE HIT SONG TIT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687680" y="761760"/>
            <a:ext cx="5767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 ____ LOVE" (BOB MARLE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LOVE" (POC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66960" y="495288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D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LOVE" (DAVID BOWI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15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SHINE  OF  Y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90440" y="730080"/>
            <a:ext cx="876312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 ____  ____ LOVE" (CREAM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9528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  OUT 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62000" y="804960"/>
            <a:ext cx="7020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 ____  ____ LOVE" (AIR SUPPLY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G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85920" y="762120"/>
            <a:ext cx="837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LOVE" (STEVE WINWOOD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71360" y="762120"/>
            <a:ext cx="8801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LOVE" (GOLDEN  EARRING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ST  OF  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28560" y="762120"/>
            <a:ext cx="7886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 ____  ____ LOVE" (EAGL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800280" y="495288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 AB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52400" y="762120"/>
            <a:ext cx="7639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 ____ LOVE" (HEART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4880" y="762120"/>
            <a:ext cx="7551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LOVE" (DAVID BOWI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EL  LIKE  MAKIN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23840" y="762120"/>
            <a:ext cx="7096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 ____  ____ LOVE" (BAD COMPANY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257480" y="4952880"/>
            <a:ext cx="662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 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771560" y="762120"/>
            <a:ext cx="5600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 ____ LOVE" (BOB MARLE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43080" y="4952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LOVE" (POC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09520" y="761760"/>
            <a:ext cx="8724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 ____  ____ LOVE" (CREAM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03400" y="762120"/>
            <a:ext cx="6937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 ____  ____ LOVE" (AIR SUPPLY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81160" y="762120"/>
            <a:ext cx="8581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LOVE" (STEVE WINWOOD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66680" y="761760"/>
            <a:ext cx="88106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LOVE" (GOLDEN  EARRING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6640" y="761760"/>
            <a:ext cx="747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 ____  ____ LOVE" (EAGL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90480" y="761760"/>
            <a:ext cx="7763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 ____ LOVE" (HEART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 ____  ____ LOVE" (BAD COMPANY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23:05:39Z</dcterms:created>
  <dc:creator>Jennifer Budzinski</dc:creator>
  <dc:description/>
  <dc:language>en-US</dc:language>
  <cp:lastModifiedBy>Erich Friedman</cp:lastModifiedBy>
  <dcterms:modified xsi:type="dcterms:W3CDTF">2022-05-06T17:50:46Z</dcterms:modified>
  <cp:revision>349</cp:revision>
  <dc:subject/>
  <dc:title>Slide 1</dc:title>
</cp:coreProperties>
</file>