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D30D-3459-4DC5-B5DE-D031E3DC9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4F31-98AB-4E29-8B3A-EB138E6AC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5D59-9EBA-4516-A4BB-2F847A8B7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9616-EB6C-48DE-8F42-3B4696FA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0A12-FD02-4C87-8DA1-D3E66410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B510-7CBB-437A-A3AF-3C9FF1109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1567-649A-4165-8786-FD809398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7C3F-66DE-4EAE-92D4-5039C524E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BCA7-EEFF-4DCD-91B5-56C711CF5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6099-4EC1-4D2A-AFA0-AD98D4845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8C0-9603-4E93-8241-FEB14192B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6894-F322-4B12-92D8-99C038FA7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671E-EE30-43D6-AE9A-66E70683D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4B4B-E6C5-4838-BD4F-59282840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A439-1F7B-426A-9943-0355B0D98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56BE-3F33-45BA-8C43-7C11CBBE0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F09E-D912-4E02-AF01-36FFA1CB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CA54-001E-412D-B347-BFE7FC1B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8E49-8FC1-4279-BAC9-74B6E24C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D0AE-F253-4CC1-B30F-C316D832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70C8-4A45-48DC-8BDA-61341406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7B6F-2B53-4596-B990-254FEDC3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3F33-8EEE-473F-9469-1577A124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_ LOVE: FILL IN THE MISSING WORDS IN THESE HIT SONG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687680" y="761760"/>
            <a:ext cx="576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LOVE" (BOB MAR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PO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66960" y="495288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DAVID BOW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15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SHINE  OF 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30080"/>
            <a:ext cx="87631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CREA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OUT 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2000" y="804960"/>
            <a:ext cx="70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AIR SUPPL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5920" y="762120"/>
            <a:ext cx="837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STEVE WINWOO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1360" y="762120"/>
            <a:ext cx="880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GOLDEN  EAR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OF 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EAG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800280" y="49528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2400" y="762120"/>
            <a:ext cx="763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LOVE" (HEAR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4880" y="762120"/>
            <a:ext cx="7551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DAVID BOWI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EL  LIKE  MAKIN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3840" y="762120"/>
            <a:ext cx="7096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BAD COMPAN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57480" y="49528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 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771560" y="762120"/>
            <a:ext cx="5600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LOVE" (BOB MAR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PO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CREAM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03400" y="762120"/>
            <a:ext cx="693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AIR SUPPL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1160" y="762120"/>
            <a:ext cx="85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STEVE WINWOO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66680" y="761760"/>
            <a:ext cx="8810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GOLDEN  EARRING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6640" y="761760"/>
            <a:ext cx="747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EAG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LOVE" (HEAR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BAD COMPAN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2-05-06T17:50:46Z</dcterms:modified>
  <cp:revision>349</cp:revision>
  <dc:subject/>
  <dc:title>Slide 1</dc:title>
</cp:coreProperties>
</file>