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1FD0-5585-48CD-A4C7-6BB86C6E6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9B2A-1B6E-4ACB-AE30-F3D0A5278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894A-1D75-4BE7-8DED-627BABE4D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E1F7-B6E9-4833-B6FA-99D5B18D5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6353-BA49-4FF1-8B6C-1DD7CBE1A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FCC1-E357-4688-B2DA-192E0C69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B5F6-C559-4407-BE71-169C726D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B5DB-0AC3-4CC7-8CD7-FB3030F6E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8BC2-F7EC-4BD5-9ECB-B8C20591F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B79D-ADDE-4689-88F1-E425B44DC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9FBB8-0B21-4C56-8A0D-C40DAAAED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774-5ED6-4B1B-9F0A-C6190D624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D9D2-6633-4397-A832-018B2EF6A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2B3-900D-45DD-BD4B-C6B7EAF8D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35F85-C7E6-452A-8DE1-B1BCFCECB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6460-6475-468B-B845-9D5177E27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C6C0-EECA-44A5-91AF-65B08DE0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AA85-5187-4D9C-A892-5335B7A82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AEE9-CEBB-4993-9976-31138C881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824A-6F94-4453-91E4-5C08BCAD2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C5BA-D14E-4699-9474-C7E8EBC4A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8F8F-71EE-4789-8113-110F4FF8E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C9E8-AB79-41DF-AC48-26F1C5FBA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619280" y="1066680"/>
            <a:ext cx="5905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S WITH "EYE" IN THEIR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7560" y="761760"/>
            <a:ext cx="69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IDOL'S FIRST TOP-10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AY ANYTHING", WHAT PETER GABRIEL SONG PLAYS FROM JOHN CUSACK'S BOOMBOX HELD ABOVE HIS HEAD TO SERENADE HIS EX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95360" y="434340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174960" indent="-174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EYES  ADORED  YOU  &amp;    CAN'T  TAKE  MY  EYES  OFF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1080" y="762120"/>
            <a:ext cx="7521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FRANKIE VALLI "EYE" SONGS GOT TO #1 OR #2 ON THE CHARTS?    (1 POINT FOR EA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876920"/>
            <a:ext cx="6819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  EYED  GIR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3720" y="762120"/>
            <a:ext cx="7756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ATURE SONG BY VAN MORRISON ORIGINALLY CONTAINED THE WORD "SKINNED" IN ITS TITLE  INSTEAD OF "EY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IN'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6360" y="762120"/>
            <a:ext cx="799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2 EAGLES SONG WAS ABOUT A CHEATING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MY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51000" y="762120"/>
            <a:ext cx="8440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ACKSON BROWNE'S FIRST TOP-10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S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OP-10 SONG BY THE GUESS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E  DAVIS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66880" y="762120"/>
            <a:ext cx="7410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#1 KIM CARNES SONG WON GRAMMYS FOR RECORD OF THE YEAR AND SONG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–EYED  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63600" y="762120"/>
            <a:ext cx="8416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SONG BY SUGARLOA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23480" y="762120"/>
            <a:ext cx="7094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 FRANKIE VALLI "EYE" SONGS GOT TO #1 OR #2 ON THE CHARTS? (1 POINT FOR EAC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HIND  BLUE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6640" y="762120"/>
            <a:ext cx="746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WHO BEGINS WITH THE LYRICS "NO ONE KNOWS WHAT IT'S LIKE TO BE THE BAD MAN, TO BE THE SAD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S  WITHOUT  A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93680" y="762120"/>
            <a:ext cx="695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BILLY IDOL'S FIRST TOP-10 HIT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YOUR  E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FILM "SAY ANYTHING", WHAT PETER GABRIEL SONG PLAYS FROM JOHN CUSACK'S BOOMBOX HELD ABOVE HIS HEAD TO SERENADE HIS EX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63400" y="761760"/>
            <a:ext cx="801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GNATURE SONG BY VAN MORRISON ORIGINALLY CONTAINED THE WORD "SKINNED" IN ITS TITLE  INSTEAD OF "EY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90400" y="762120"/>
            <a:ext cx="7963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2 EAGLES SONG WAS ABOUT A CHEATING WO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2760" y="762120"/>
            <a:ext cx="8535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JACKSON BROWNE'S FIRST TOP-10 HIT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6840" y="762120"/>
            <a:ext cx="8410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OP-10 SONG BY THE GUESS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74800" y="761760"/>
            <a:ext cx="7392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#1 KIM CARNES SONG WON GRAMMYS FOR RECORD OF THE YEAR AND SONG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SONG BY SUGARLOA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03440" y="762120"/>
            <a:ext cx="7737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BY THE WHO BEGINS WITH THE LYRICS "NO ONE KNOWS WHAT IT'S LIKE TO BE THE BAD MAN, TO BE THE SAD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7-22T18:43:31Z</dcterms:modified>
  <cp:revision>480</cp:revision>
  <dc:subject/>
  <dc:title>Slide 1</dc:title>
</cp:coreProperties>
</file>