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B583-06BB-418E-9AB2-18876B7FE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D8CE-7F0A-46CA-A2A8-9CEB5F995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7F27-3498-4817-9600-25ED26A32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8F79-0B41-42E7-8884-F738C61FA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9F10-EE33-4F1A-A2F6-5546E651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A327-B567-4BB4-A297-F8794FBDC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EBE0-9C2A-4CD9-8972-DB5EA7F5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B5AC-E33A-440B-938B-73F76B650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77CC-CF72-4422-BEDB-919C59497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7177-D96F-40ED-A3D5-092D32F4A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40E8-18B5-479A-949B-31F292A9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455E-C817-4866-B2A3-1BB910117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8622-78C5-4303-B4F1-B07CC5B14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C031-7DD2-4498-BA05-8D0BBCB3F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291-687A-4F30-AB73-79DD76B51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4992-46B5-4A7A-9F09-6E1A074AF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2824-BDF8-4ADF-ACF6-2F33C3952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D7D1-979D-444B-BD8D-D413AE32D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CCB5-EE94-4491-89CC-220BA4128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EE50-1671-441C-8B36-0CDCB936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33A0-2479-4A37-BDE7-ED548B787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BB30-4F37-4C28-A76F-DE44929B7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0BE9-84C1-4872-982D-DB015CAAF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19280" y="1066680"/>
            <a:ext cx="5905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S WITH "EYE" IN THEIR TIT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87560" y="761760"/>
            <a:ext cx="69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IDOL'S FIRST TOP-10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SAY ANYTHING", WHAT PETER GABRIEL SONG PLAYS FROM JOHN CUSACK'S BOOMBOX HELD ABOVE HIS HEAD TO SERENADE HIS EX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95360" y="43434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EYES  ADORED  YOU  &amp;    CAN'T  TAKE  MY  EYES  OFF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11080" y="762120"/>
            <a:ext cx="75218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FRANKIE VALLI "EYE" SONGS GOT TO #1 OR #2 ON THE CHARTS?    (1 POINT FOR EA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  EYED  GI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3720" y="762120"/>
            <a:ext cx="7756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ATURE SONG BY VAN MORRISON ORIGINALLY CONTAINED THE WORD "SKINNED" IN ITS TITLE  INSTEAD OF "EY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IN'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6360" y="762120"/>
            <a:ext cx="799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2 EAGLES SONG WAS ABOUT A CHEATING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MY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51000" y="762120"/>
            <a:ext cx="844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ACKSON BROWNE'S FIRST TOP-10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SE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OP-10 SONG BY THE GUESS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E  DAVIS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66880" y="762120"/>
            <a:ext cx="7410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#1 KIM CARNES SONG WON GRAMMYS FOR RECORD OF THE YEAR AND SONG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–EYED  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3600" y="762120"/>
            <a:ext cx="841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R SONG BY SUGARLO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23480" y="762120"/>
            <a:ext cx="709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FRANKIE VALLI "EYE" SONGS GOT TO #1 OR #2 ON THE CHARTS? (1 POINT FOR EA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HIND  BLUE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6640" y="762120"/>
            <a:ext cx="746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WHO BEGINS WITH THE LYRICS "NO ONE KNOWS WHAT IT'S LIKE TO BE THE BAD MAN, TO BE THE SAD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S  WITHOUT  A 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93680" y="762120"/>
            <a:ext cx="6956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IDOL'S FIRST TOP-10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YOUR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SAY ANYTHING", WHAT PETER GABRIEL SONG PLAYS FROM JOHN CUSACK'S BOOMBOX HELD ABOVE HIS HEAD TO SERENADE HIS EX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63400" y="761760"/>
            <a:ext cx="801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ATURE SONG BY VAN MORRISON ORIGINALLY CONTAINED THE WORD "SKINNED" IN ITS TITLE  INSTEAD OF "EY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2 EAGLES SONG WAS ABOUT A CHEATING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2760" y="762120"/>
            <a:ext cx="8535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ACKSON BROWNE'S FIRST TOP-10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6840" y="762120"/>
            <a:ext cx="8410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OP-10 SONG BY THE GUESS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4800" y="761760"/>
            <a:ext cx="7392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#1 KIM CARNES SONG WON GRAMMYS FOR RECORD OF THE YEAR AND SONG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R SONG BY SUGARLOA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WHO BEGINS WITH THE LYRICS "NO ONE KNOWS WHAT IT'S LIKE TO BE THE BAD MAN, TO BE THE SAD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7-22T18:43:31Z</dcterms:modified>
  <cp:revision>480</cp:revision>
  <dc:subject/>
  <dc:title>Slide 1</dc:title>
</cp:coreProperties>
</file>