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8B0-747A-4EA6-9FC2-3AB59BB9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96AA-0804-4584-A475-8D3B7628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FC6-5744-4F9B-B6B2-38D05FBD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7152-1F10-4715-909A-F568C645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5E6-33BA-4EDD-A2A9-AB69678C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38C-2F32-44DA-8000-419BD8B7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6C8-E919-479D-83D9-8E83DF57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40F-C6AF-4723-A032-7F351CA5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E5A-0C43-435D-A92A-8F3BF19E7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179-BE2D-40DF-876B-5ACCB0B1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E375-6F1B-4FA6-AFF3-B20B65FE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6B86-2FE7-4487-A458-49014B8B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5DA0-A4E7-42EF-BD89-527FEF26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7DE-9627-4B9D-9484-739885FD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71E-6A41-4B08-9D57-2C29EF4E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C590-B16C-400C-A0EE-76C1E2B9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14B-6DF3-443E-9B35-920F879E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5C86-72FF-4785-9805-0E94C9F6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847-7155-424E-A3B5-C3B95485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143-EBE3-4CF5-97E8-D571FDBD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54F6-2A33-42BC-8C4D-4BD52E3E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CE89-20BE-4AF3-AA89-F5086978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3BCC-C020-4C06-9E33-BEFF44C7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RAI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WOMEN #12 &amp; 35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EDENCE  CLEARWATER  RE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AVE YOU EVER SEEN TH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52480" y="762120"/>
            <a:ext cx="56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INGIN' IN TH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8560" y="7682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24200" y="741240"/>
            <a:ext cx="529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YTH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RE COMES THE RAIN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HAM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T NEVER RAINS IN SOUTHERN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AVE YOU EVER SEEN THE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733400" y="762120"/>
            <a:ext cx="5677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WOMEN #12 &amp; 3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  &amp;  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0328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71560" y="761760"/>
            <a:ext cx="560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INGIN' IN THE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886040" y="76212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OVE A RAIN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RE COMES THE RAIN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T NEVER RAINS IN SOUTHERN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2-09-02T23:37:09Z</dcterms:modified>
  <cp:revision>329</cp:revision>
  <dc:subject/>
  <dc:title>Slide 1</dc:title>
</cp:coreProperties>
</file>