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7517-78EB-4B11-8983-D429472D2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3AAD-2B9F-48F0-9F9B-12AEFCE34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9F7-5AA9-4786-841A-3DBE4691C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D564-7356-4744-85B0-EAE7C6723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04A-0955-4404-A78E-6A67A860C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0811-C63F-4181-877A-C39CE8058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DA33-F459-4645-A297-110CF85A8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0D6-8704-4D1A-AD52-029787721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B13C-D7D2-40FE-8495-CBAAEA1AC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F82F-5D7C-4A18-BA5B-A7991ECE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E749-1AE9-4898-BF0B-8C0EBDCBB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3F52-23AA-47DC-8076-BD8E4607E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FD05-08E8-4D13-97B1-8596F0206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8834-36EF-4025-9DDA-82BAF1A0F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3821-DE24-4416-B3B5-2CC6CFC22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9937-53A7-4768-92A2-97A84D906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CFF-4F61-4556-98D1-3A1C5FCED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4C0F-8ED3-454C-A6A5-A241B37BB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842F-CB16-4F87-A33C-97D873EAD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192A-3833-4484-B1B9-D11B969A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D0E03-F4C2-491B-B1D1-E608A7578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4C51-4859-451E-97C3-AD2971F4D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95A-78EB-483C-AC04-1A28011D9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0666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SONGS ABOUT RAI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WOMEN #12 &amp; 35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EDENCE  CLEARWATER  RE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AVE YOU EVER SEEN TH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KE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52480" y="762120"/>
            <a:ext cx="56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INGIN' IN TH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28560" y="76824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RAB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24200" y="741240"/>
            <a:ext cx="529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OVE A RAINY 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YTHM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33480" y="762120"/>
            <a:ext cx="7277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RE COMES THE RAIN AG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HAM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T NEVER RAINS IN SOUTHERN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AVE YOU EVER SEEN THE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LIGHTFO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733400" y="762120"/>
            <a:ext cx="567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WOMEN #12 &amp; 35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HORNSBY  &amp;  THE 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3280" y="76212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ANDOLIN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71560" y="761760"/>
            <a:ext cx="5600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INGIN' IN THE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URPLE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86040" y="762120"/>
            <a:ext cx="5371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LOVE A RAINY 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RE COMES THE RAIN AG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T NEVER RAINS IN SOUTHERN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638360" y="762120"/>
            <a:ext cx="5867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AINY DAY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9-02T23:37:09Z</dcterms:modified>
  <cp:revision>329</cp:revision>
  <dc:subject/>
  <dc:title>Slide 1</dc:title>
</cp:coreProperties>
</file>