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1762-6E4F-4686-8069-1CAB9C1A6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09E8-7811-42DA-9E6D-92A7EB861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EB40-80A8-45E8-A63E-8FFDCBEFA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C2A6-74DE-4886-9665-9F65386CA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E446-656C-4F94-A9BF-D6AAA6FCC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81FA-015E-4910-8711-07E3E0AA4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C6E9-9404-4850-9D81-D9DC20A11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5537-4E2C-4E8B-A237-8AD9CDBB6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81CD-4D96-4DDD-9F20-CDC272147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C7E6-832D-4597-AA54-5005F2F75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7B28-E86D-4195-94E6-F7CAD22FF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9336-B3CB-4E65-94AA-263ABDB6B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4158-51E5-4232-B79E-C35BE4DFA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1020-4CB4-414C-A8B3-33BD82536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CE40-EB46-4C27-A745-AFD7F645C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CC6C-B537-4A6C-BD8B-3FF1CECE4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ED55-0EE7-4EBE-BC21-4531CB447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0441-C50F-42B2-B876-E696174B3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1971-851F-428F-9E7D-888D49437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9504-D97A-455D-AF0D-BD75575D6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3073-7A31-4A6C-9D93-1EFB7F944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6E22-42B8-4874-9D6A-6D233F2F0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B9A0-E78B-4C57-871A-332960273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47920" y="10666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AYS OF THE WEEK IN SO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61960" y="761760"/>
            <a:ext cx="8020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BY ELTON JOHN CONTAINS A DAY OF THE WEEK IN ITS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04880" y="762120"/>
            <a:ext cx="7734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BY SAM COOKE CONTAINS A DAY OF THE WEEK IN ITS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876920"/>
            <a:ext cx="7010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IC  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23960" y="762120"/>
            <a:ext cx="7696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BY THE BANGLES CONTAINS A DAY OF THE WEEK IN ITS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0060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TURDAY  IN  THE  P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19000" y="762120"/>
            <a:ext cx="75060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BY CHICAGO CONTAINS A DAY OF THE WEEK IN ITS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INY  DAYS  AND  MOND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11040" y="762120"/>
            <a:ext cx="8520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BY THE CARPENTERS CONTAINS A DAY OF THE WEEK IN ITS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200240" y="4876920"/>
            <a:ext cx="6743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ESDAY  AFTERN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19040" y="762120"/>
            <a:ext cx="83059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BY THE MOODY BLUES CONTAINS A DAY OF THE WEEK IN ITS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DNESDAY  MORNING,  3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63560" y="762120"/>
            <a:ext cx="7616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TITLE SONG OFF SIMON &amp; GARFUNKEL'S DEBUT ALBUM, WHICH CONTAINS A DAY OF THE WEEK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DAY  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52480" y="762120"/>
            <a:ext cx="7439040" cy="34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BY THE MAMAS AND THE PAPAS CONTAINS A DAY OF THE WEEK IN ITS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DAY  BLOODY  SU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76440" y="762120"/>
            <a:ext cx="7791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BY U2 CONTAINS A DAY OF THE WEEK IN ITS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BY THE BANGLES CONTAINS A DAY OF THE WEEK IN ITS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ST  FRIDAY  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BY KATY PERRY CONTAINS A DAY OF THE WEEK IN ITS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409760" y="4267080"/>
            <a:ext cx="63244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TURDAY  NIGHT'S  ALRIGHT  FOR  FIGH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61960" y="762120"/>
            <a:ext cx="8020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BY ELTON JOHN CONTAINS A DAY OF THE WEEK IN ITS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OTHER  SATURDAY  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725400" y="762120"/>
            <a:ext cx="7693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BY SAM COOKE CONTAINS A DAY OF THE WEEK IN ITS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48880" y="761760"/>
            <a:ext cx="7443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BY CHICAGO CONTAINS A DAY OF THE WEEK IN ITS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98520" y="762120"/>
            <a:ext cx="834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BY THE CARPENTERS CONTAINS A DAY OF THE WEEK IN ITS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5920" y="762120"/>
            <a:ext cx="8372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BY THE MOODY  BLUES CONTAINS A DAY OF THE WEEK IN ITS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57360" y="761760"/>
            <a:ext cx="782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TITLE SONG OFF SIMON &amp; GARFUNKEL'S DEBUT ALBUM, WHICH CONTAINS A DAY OF THE WEEK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90560" y="761760"/>
            <a:ext cx="756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BY THE MAMAS AND THE PAPAS CONTAINS A DAY OF THE WEEK IN ITS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00240" y="761760"/>
            <a:ext cx="6743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BY U2 CONTAINS A DAY OF THE WEEK IN ITS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SONG BY KATY PERRY CONTAINS A DAY OF THE WEEK IN ITS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13:15:19Z</dcterms:created>
  <dc:creator>Jennifer Budzinski</dc:creator>
  <dc:description/>
  <dc:language>en-US</dc:language>
  <cp:lastModifiedBy>Erich Friedman</cp:lastModifiedBy>
  <dcterms:modified xsi:type="dcterms:W3CDTF">2022-08-23T15:55:39Z</dcterms:modified>
  <cp:revision>362</cp:revision>
  <dc:subject/>
  <dc:title>Slide 1</dc:title>
</cp:coreProperties>
</file>