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B533-F64E-47EC-9D90-54192046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97C-B9F4-4CD3-93B0-CACF4362A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2DF-2B68-47E3-9CA8-A28D3015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3CC-3608-4D8D-A7FA-679C8DB6E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32A-5830-4A27-8122-BD1D04A7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967-7DF1-4FAD-A801-DB729ACA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6A4-EAF1-4622-808E-E289D6E4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C42-4AFD-4C64-8067-D7DB8B15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910-A3A1-4177-8B3B-22117375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E73-6777-4D47-8F63-B33E1DAA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5AD-3C79-4A29-8622-2C13CD3C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1C3A-A3E2-4E96-9B63-B56A0D9C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78C8-CBA2-4DEB-891B-0E9F5A7D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2C1-9B61-42B8-85ED-1C897BB7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91A-6FEC-4D67-B39C-DCC400DD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D468-1A2E-42D6-BB87-1BB397E7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B07-8B8C-4C58-961F-9B899DC5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D0C-8292-431A-A0EB-CAC351B3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9864-3CE9-438E-8A45-72105313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049-0E48-4EDA-9FE3-1B9826520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AAD7-23D8-4042-A8B6-138D1D05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0780-B903-427B-892B-395C71D7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E43-E118-4436-AA0B-B487CD521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YS OF THE WEEK IN S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ELTON JOHN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SAM COOKE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IC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BANGLE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IN  THE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CHICAGO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Y  DAYS  AND  MON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11040" y="762120"/>
            <a:ext cx="85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CARPENTER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00240" y="4876920"/>
            <a:ext cx="6743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ESDAY  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OODY BLUE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NESDAY  MORNING,  3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3560" y="762120"/>
            <a:ext cx="761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FF SIMON &amp; GARFUNKEL'S DEBUT ALBUM, WHICH CONTAINS A DAY OF THE WEEK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2480" y="762120"/>
            <a:ext cx="74390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AMAS AND THE PAPA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DAY  BLOODY 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U2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BANGLE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FRIDA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KATY PERRY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09760" y="4267080"/>
            <a:ext cx="6324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NIGHT'S  ALRIGHT  FOR  F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1960" y="762120"/>
            <a:ext cx="8020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ELTON JOHN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SATURDA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5400" y="762120"/>
            <a:ext cx="769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SAM COOKE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48880" y="761760"/>
            <a:ext cx="7443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CHICAGO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8520" y="762120"/>
            <a:ext cx="834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CARPENTER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OODY  BLUE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FF SIMON &amp; GARFUNKEL'S DEBUT ALBUM, WHICH CONTAINS A DAY OF THE WEEK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AMAS AND THE PAPA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00240" y="761760"/>
            <a:ext cx="6743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U2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KATY PERRY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8-23T15:55:39Z</dcterms:modified>
  <cp:revision>362</cp:revision>
  <dc:subject/>
  <dc:title>Slide 1</dc:title>
</cp:coreProperties>
</file>