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9923-5A92-4027-9788-5295A7BE7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8B0A-18F5-466A-B886-FE5A9558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EB7C-12B8-4E68-AAE4-A12106C2F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5CA3-C263-4B2D-8D4B-8B8B3943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D18-5BBE-4DAB-B460-12C835C6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DFAC-1C08-4A62-ADD9-36EBABCD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999-0855-4722-BC9A-06D91194B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2C62-9891-45BE-B762-8C3A59443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046F-B255-4798-A279-84BC2ED4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10AE-6EC5-467B-9552-F3BBB01B0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08C8-0C09-4992-8B67-292EF974C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6846-E5D7-4C84-97C4-74513C3BF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2FE-6F7B-465D-8814-4511801B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BA7C-213F-4C36-A12C-9B65FA91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8D3D-D7CE-4696-B59C-88A724668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739-7E47-4400-90B5-9AA302491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268E-7F55-4246-B6B0-DD1026B3B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F732-9344-4780-9424-83575BCC5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89F1-6FB3-4CDA-BBE7-7EC66BDC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D322-CDF6-4DBC-B9F6-A2F8BB0F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52B5-3877-469B-82E5-BF696F76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B119-6A3E-4CB6-9DD4-0536F03A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1F42-63A2-4C10-AE89-06DCE7E9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INGERS BY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95480" y="1278000"/>
            <a:ext cx="335304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84640" y="1295280"/>
            <a:ext cx="2574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OP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ZZY  OSBO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3051000" y="1295280"/>
            <a:ext cx="3042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79640" y="1295280"/>
            <a:ext cx="338472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620800" y="1295280"/>
            <a:ext cx="390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BI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963880" y="1295280"/>
            <a:ext cx="32162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–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063960" y="1295280"/>
            <a:ext cx="301608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ILLA 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895480" y="1278000"/>
            <a:ext cx="335304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284640" y="1295280"/>
            <a:ext cx="2574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51000" y="1295280"/>
            <a:ext cx="3042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79640" y="1295280"/>
            <a:ext cx="33847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620800" y="1295280"/>
            <a:ext cx="3902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63880" y="1295280"/>
            <a:ext cx="32162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63960" y="1295280"/>
            <a:ext cx="30160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8-21T18:23:40Z</dcterms:modified>
  <cp:revision>290</cp:revision>
  <dc:subject/>
  <dc:title>Slide 1</dc:title>
</cp:coreProperties>
</file>