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51B82-D549-42A8-A0B1-067AE8005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8CBB1-45EC-4CBD-B7F1-4B3979D222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227FB-01E4-4CBF-891C-372CCD4CDF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4DAA6-D32B-41BD-A493-F541E3ECA3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4BE02-2DDC-4983-9883-182FD56ABD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65AF6-D587-4855-95A2-25D409DA3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6855E-D8BB-4F8B-A496-42422B7AEA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62255-1BFC-4065-9CAF-698956CD59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8435B-7389-4737-AE13-D6A9DE09D9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20C7F-2ECE-4F1C-9B99-0F140C5239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26121-8EC9-4EB4-9068-FC5FEBC02D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3D966-35BA-4E92-A3C4-64B0E4A357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0908B-6F8C-4633-9F98-56209B97DC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BDAB2-3DDC-4F01-9C88-3B7FF52369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98B24-F0BB-4E1E-BC4E-7DAD1E038E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E1283-D69E-4173-A3DD-2DE2A1FA5F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C8311-3A3A-4E0D-8BBA-5D865DE7B9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3FDFD-7B39-4AA6-98CF-6CC3E86D3A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8C91C-5BBC-40B2-BB9D-2A218AD763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80AC3-8C83-4CAE-B071-F0F06F86BC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B5DEA-BE13-4E8E-BEAA-D88DAA13DE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7D2E7-E284-42C0-BFD4-2680C4F7F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167FB-6525-4FF9-9196-0E41294EF3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1676160"/>
            <a:ext cx="7543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SINGERS BY THEIR MUGSHO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2895480" y="1278000"/>
            <a:ext cx="3353040" cy="375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3284640" y="1295280"/>
            <a:ext cx="257472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VID  BOW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2781360" y="1295280"/>
            <a:ext cx="358128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NOOP  D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2855880" y="1295280"/>
            <a:ext cx="343224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ZZY  OSBOR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2705040" y="1295280"/>
            <a:ext cx="3733920" cy="3613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ILYN  MAN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3051000" y="1295280"/>
            <a:ext cx="304200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IMI  HENDRI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2879640" y="1295280"/>
            <a:ext cx="3384720" cy="3648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2620800" y="1295280"/>
            <a:ext cx="390240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STIN  BIE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2963880" y="1295280"/>
            <a:ext cx="3216240" cy="358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2781360" y="1295280"/>
            <a:ext cx="358128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380880" y="50292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Y–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3063960" y="1295280"/>
            <a:ext cx="3016080" cy="361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457200" y="5029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ANILLA  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2895480" y="1278000"/>
            <a:ext cx="3353040" cy="375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MAY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3284640" y="1295280"/>
            <a:ext cx="257472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855880" y="1295280"/>
            <a:ext cx="343224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705040" y="1295280"/>
            <a:ext cx="3733920" cy="361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3051000" y="1295280"/>
            <a:ext cx="304200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2879640" y="1295280"/>
            <a:ext cx="3384720" cy="364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2620800" y="1295280"/>
            <a:ext cx="390240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2963880" y="1295280"/>
            <a:ext cx="3216240" cy="358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3063960" y="1295280"/>
            <a:ext cx="3016080" cy="361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2-08-21T18:23:40Z</dcterms:modified>
  <cp:revision>290</cp:revision>
  <dc:subject/>
  <dc:title>Slide 1</dc:title>
</cp:coreProperties>
</file>